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14.jpeg" ContentType="image/jpe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3.jpeg" ContentType="image/jpeg"/>
  <Override PartName="/ppt/media/image9.png" ContentType="image/png"/>
  <Override PartName="/ppt/media/image5.png" ContentType="image/png"/>
  <Override PartName="/ppt/media/image8.jpeg" ContentType="image/jpeg"/>
  <Override PartName="/ppt/media/image10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2428C-B56E-40BB-AD5B-2666B1D11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643FB-068A-4B53-8DBC-FC7825D0A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3E2C6-357D-4C4C-B6A9-237323E36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716E5-DD59-4281-B3E6-2F65CEE27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F18CF-3B3E-4DEE-AB9A-382D18C9E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C788D-7642-4659-AAF5-274136B4D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D72D4-20CC-40AB-A2FC-0B0CED5BC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2647D-C401-401A-BCD6-5340B6E67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AA86A-F923-4B4E-8628-2C5BC04B6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E9B02-3FCF-4088-B730-0983935E4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6DFAB-2B71-4549-8FEA-44EE393CC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24B6F-D080-4EAA-93A1-8C85D0734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EC87C-A808-4F25-9E86-CED3D3EB2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19CD5-9088-4406-989F-6FC25FE94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8C962-65F2-4060-9AE1-EE99CD523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CD188-1CB5-4B7E-ABAE-D4D4D8945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369EC-C55D-4187-A53F-17909C58F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D744BF-681E-416A-BE7F-7043D4630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CCFD64-DFB0-4D76-9757-F070D4BB0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DB4A9E-61F7-42CC-A99C-395BBB64E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2099D5-76F2-467C-9494-47CDA47CD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EC91C9-7E1E-4941-9F8E-3B1B5B478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9A6A3-F369-462D-99DE-772090EBB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117546-E39D-4111-8913-AA63EEB80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F10FBA-44E8-4668-B0E8-A3D8F4ECC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B3BF62-95DF-4436-9A1E-15733C817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A59041-F054-40C1-BDB0-91C6F0F3F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AE790A-20EB-4C07-A32C-D2551B5C4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CAB9A5-1C5F-4307-AB36-6A284130A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BE5A04-4B92-45F3-8CB7-7BED9E000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F8A948-844D-4BDA-AFFA-FE4CE4354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46B9E6-F956-47E8-9B69-AC339F658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355C0C-0DD2-409F-900F-D4E8E2685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F5691-266D-4005-AF94-8F4146881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7BC964-FC1D-481D-9FAE-F4C40FF2A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2CFE0B-D288-420B-9033-160A73BE9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CD302F-BAF8-430D-8272-51ADE79E6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CAB919-386D-44A1-BF98-6223152F6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A0BDB1-4F42-4F97-9E53-466ACC96C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D92BD3-2ABF-4C97-8AB4-308CB42B4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1DC917-A8D0-454A-B82F-559921B58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9CEBE2-46C3-4F39-B261-9D411833D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2E4889-B704-4B5B-984F-B46B3A807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BAAA7-9720-480B-A913-AB26AC32A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6FAC9-222A-432F-9694-E071A8508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AA016-E74A-402E-A327-BEE130872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DCBC0-A14A-4B55-A321-4CD065A45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1C43F-39BD-4D5E-A5B3-D35A48BC6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Vrije v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" name="Vrije v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Gill Sans MT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968CF-FA77-4CDD-82FF-51178049E778}" type="slidenum">
              <a:rPr b="0" lang="nl-NL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e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Vrije v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Vrije v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  <p:grpSp>
          <p:nvGrpSpPr>
            <p:cNvPr id="11" name="Vrije v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Vrije v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Vrije v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" name="Vrije v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2" name="Groe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Vrije v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Vrije v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  <p:grpSp>
          <p:nvGrpSpPr>
            <p:cNvPr id="56" name="Vrije v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Vrije v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Gill Sans MT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82AE5-F0ED-4DF7-8302-0BAC9E6E2AD4}" type="slidenum">
              <a:rPr b="0" lang="nl-NL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Vrije v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Vrije v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02" name="Groe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Vrije v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Vrije v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  <p:grpSp>
          <p:nvGrpSpPr>
            <p:cNvPr id="106" name="Vrije v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Vrije v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Gill Sans MT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Gill Sans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0006E-A261-46F9-8C59-7CE9EA7FDA8F}" type="slidenum">
              <a:rPr b="0" lang="nl-NL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hthoek met één afgeknipte en afgeronde hoek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1" name="Rechthoekige driehoek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" name="Vrije v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Vrije v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Gill Sans MT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512DB-4067-45CB-B4A2-1BE5C381DB47}" type="slidenum">
              <a:rPr b="0" lang="nl-NL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el 1" descr=""/>
          <p:cNvPicPr/>
          <p:nvPr/>
        </p:nvPicPr>
        <p:blipFill>
          <a:blip r:embed="rId1"/>
          <a:stretch/>
        </p:blipFill>
        <p:spPr>
          <a:xfrm>
            <a:off x="0" y="401760"/>
            <a:ext cx="7223040" cy="196992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394920" y="4365720"/>
            <a:ext cx="2592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600" spc="-1" strike="noStrike">
              <a:solidFill>
                <a:srgbClr val="ffffff"/>
              </a:solidFill>
              <a:latin typeface="Gill Sans MT"/>
            </a:endParaRPr>
          </a:p>
        </p:txBody>
      </p:sp>
      <p:pic>
        <p:nvPicPr>
          <p:cNvPr id="197" name="Afbeelding 4" descr="fokke en sukke diarree.jpg"/>
          <p:cNvPicPr/>
          <p:nvPr/>
        </p:nvPicPr>
        <p:blipFill>
          <a:blip r:embed="rId2"/>
          <a:stretch/>
        </p:blipFill>
        <p:spPr>
          <a:xfrm>
            <a:off x="4500720" y="2060640"/>
            <a:ext cx="3854160" cy="40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Acties bij dehydratie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oorkomen beter dan genez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aak kleine beetjes dan heel glas in een keer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Aanvullen bij tekort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ouillo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ORS (oral rehydration salts) bij braken/diarre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5" dur="5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0" dur="500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5" dur="500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0" dur="500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5" dur="500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Plaatsen oedeem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Enkel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uik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Long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Soms og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20" name="Afbeelding 3" descr="oedeem 2.jpg"/>
          <p:cNvPicPr/>
          <p:nvPr/>
        </p:nvPicPr>
        <p:blipFill>
          <a:blip r:embed="rId1"/>
          <a:stretch/>
        </p:blipFill>
        <p:spPr>
          <a:xfrm>
            <a:off x="3995640" y="2317680"/>
            <a:ext cx="4638600" cy="39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2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Andere oorzaak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Lymfe-oedeem (ledemaat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Gebruik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Predniso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(hele lichaam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23" name="Afbeelding 4" descr="oedeem.jpg"/>
          <p:cNvPicPr/>
          <p:nvPr/>
        </p:nvPicPr>
        <p:blipFill>
          <a:blip r:embed="rId1"/>
          <a:stretch/>
        </p:blipFill>
        <p:spPr>
          <a:xfrm>
            <a:off x="3419640" y="2924280"/>
            <a:ext cx="5040000" cy="31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9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erschijnselen oedeem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Gespannen glanzende huid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Putje in drukk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Gewichtstoename 1-2 kg in paar dag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Kortademigheid bij inspanning/ plat ligg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edlegerige zv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ouwen in huid van stuit en rug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Acties bij oedeem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1988640"/>
            <a:ext cx="84340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Ga na wat de oorzaak i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Minderen met zout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ewegen: stimuleert doorbloeding/spierfuncti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enen hoog als zi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Hartfalen: 3 x per week wegen (ma, woe, vrij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Steunkouse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Zwachtel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28" name="Afbeelding 3" descr="wegenschaal.jpg"/>
          <p:cNvPicPr/>
          <p:nvPr/>
        </p:nvPicPr>
        <p:blipFill>
          <a:blip r:embed="rId1"/>
          <a:stretch/>
        </p:blipFill>
        <p:spPr>
          <a:xfrm>
            <a:off x="6732720" y="4724280"/>
            <a:ext cx="1923840" cy="19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2" dur="5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7" dur="50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2" dur="500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7" dur="500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32" dur="500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7" dur="500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2" dur="500"/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Functie van zouten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elangrijke zouten: natrium, kalium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Uitscheiden bij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raken/ diarre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Plasmedicatie (diuretica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Aanvullen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ORS, bouillon, medicatie (Kalium tabletten)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31" name="Afbeelding 3" descr="braken.jpg"/>
          <p:cNvPicPr/>
          <p:nvPr/>
        </p:nvPicPr>
        <p:blipFill>
          <a:blip r:embed="rId1"/>
          <a:stretch/>
        </p:blipFill>
        <p:spPr>
          <a:xfrm>
            <a:off x="6875640" y="2421000"/>
            <a:ext cx="171432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9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4" dur="500"/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7" dur="500"/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ragen?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pic>
        <p:nvPicPr>
          <p:cNvPr id="233" name="Tijdelijke aanduiding voor inhoud 3" descr="griep1.jpg"/>
          <p:cNvPicPr/>
          <p:nvPr/>
        </p:nvPicPr>
        <p:blipFill>
          <a:blip r:embed="rId1"/>
          <a:stretch/>
        </p:blipFill>
        <p:spPr>
          <a:xfrm>
            <a:off x="2484360" y="2421000"/>
            <a:ext cx="4183200" cy="25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ocht nodig voor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Transpor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Oplossen van voedingsstoffe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Oplossen van afvalstoff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Stofwisselingsstelsels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Metabolisme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ocht intake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Normaal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Drinke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1000 – 1600 m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Ete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800 – 1000 m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erbrandingsprocesse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200 – 400 m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ocht output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Normaal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Nieren 1100 – 1800 m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Longen 400 – 500 m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Huid 400 – 500 m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Darmen 100 – 200 m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ochtbalans 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 u="sng">
                <a:solidFill>
                  <a:srgbClr val="000000"/>
                </a:solidFill>
                <a:uFillTx/>
                <a:latin typeface="Gill Sans MT"/>
              </a:rPr>
              <a:t>Duur: 24 uur (8 uur tot volgende ochtend 8 uur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Negatieve vochtbalans =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ocht opname minder dan vochtverli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Gevolg: uitdroging (dehydratie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Positieve vochtbalans =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ocht opname groter dan vocht verli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Gevolg: vocht vasthouden (oedeem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erschijnselen dehydratie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1 – 3% vocht tekort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Dorstgevo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Droge mond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Transpiratie en up dal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Hoofdpij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erschijnselen dehydratie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4 – 6 % vocht tekor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Lusteloo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ermoeidheid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Misselijk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Hoofdpij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Snelle/ zwakke pol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Tintelende lichaamsuiteind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erschijnselen dehydratie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anaf 7 % vocht tekor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Draaierig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Ademnood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Lage bloeddruk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erminder zich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Huidplooi blijft staa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Up houdt op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Diep liggende holle og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anaf 15-20% overlijd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12" name="Afbeelding 3" descr="vocht 3.jpg"/>
          <p:cNvPicPr/>
          <p:nvPr/>
        </p:nvPicPr>
        <p:blipFill>
          <a:blip r:embed="rId1"/>
          <a:stretch/>
        </p:blipFill>
        <p:spPr>
          <a:xfrm>
            <a:off x="4427640" y="3933720"/>
            <a:ext cx="4411440" cy="13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9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2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2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Oorzaken dehydratie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Te weinig drink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Diarre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rak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Hitt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Koorts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loedverli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Transpirati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randwond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Medicijne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15" name="Afbeelding 4" descr="vocht 1.bmp"/>
          <p:cNvPicPr/>
          <p:nvPr/>
        </p:nvPicPr>
        <p:blipFill>
          <a:blip r:embed="rId1"/>
          <a:stretch/>
        </p:blipFill>
        <p:spPr>
          <a:xfrm>
            <a:off x="5003640" y="1989000"/>
            <a:ext cx="273708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2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5" dur="5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8" dur="50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1" dur="500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4" dur="500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9" dur="500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2" dur="500"/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5" dur="500"/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8" dur="500"/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inda</dc:creator>
  <dc:description/>
  <dc:language>en-US</dc:language>
  <cp:lastModifiedBy>E. Scheltens-Flink</cp:lastModifiedBy>
  <dcterms:modified xsi:type="dcterms:W3CDTF">2015-08-23T14:35:03Z</dcterms:modified>
  <cp:revision>15</cp:revision>
  <dc:subject/>
  <dc:title>Vocht huishouding</dc:title>
</cp:coreProperties>
</file>