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AAD-1F9C-4CC1-9420-9DC643F0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1C5-EDF1-42AB-AB92-A105262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71B-80FA-4101-9280-57644C9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F6C-E38C-4E8F-9824-40E7DEDD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4E6-33C9-462D-8BE7-3E358AC1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1DC4-0549-45A5-A4C8-1C5936F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471-EBE2-45DF-BE65-DCFCF63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D45-B092-43B7-B9E7-5CD9277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022B-DEA3-40BE-ACD9-F46BAE6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B394-05D0-45F2-9FA7-0D1FA06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C0E-CB4C-45BD-83C8-3770A83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462-2244-4F5F-9419-30D19628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FD04-6FCE-4456-9EDA-7065558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6B5-57BA-4F1D-B664-7CDA380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799-9382-453B-908A-0B0AB81E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723D-4B59-411B-AEFF-C67600F0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FA9-504A-4D8D-B1E0-EBD47DB0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6772-6271-4B1E-8E92-542C824D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3BA6-D7CD-454B-AAFA-471B336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D421-A1D0-4F5D-A3B9-7872DE0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9D40-0D4C-4AA8-BE65-365BE5A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B74B-A8C5-4C29-8FCD-2626F463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FE8-5350-4299-993B-6E09DA3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144B-DDE5-41CB-B3FD-BF911FB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1725-2DB9-42A6-AC91-213CD58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C3AE-87B6-42D5-A1AA-7C32E5F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31BB-17C8-4089-90D2-703B0782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6157-9D3A-4F3A-A797-67FD3418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BCFA-D660-49F8-B17E-0A716B07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BA4AB-0E10-4D29-88AF-CC8BE11F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0B96-C711-4D5D-BE7D-BDCEDA0D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61A5-CB95-4C3A-8831-7A7298BA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56A0-4F8A-4C71-9A7B-00DC2AB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C70-D2AC-48AD-8726-E41D8D2A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239A-451D-4C14-BEF8-C1994780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121B-788A-4B2D-BD00-1A3B593C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A3DF-C828-44FE-951C-6F1A9764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F243-2186-46BB-AD67-F6D5030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AEF0-380F-4F59-B7AE-8622754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4B38-E4AD-45DF-8856-5D66EBC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BF66-6E63-4149-9EF5-C78C7F17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B7AC-5405-4B2B-8E94-E01510C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B640-7748-4597-B1A1-145D6F53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5E0-B6FB-4326-98D9-FB67444C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36B-DC94-4D0E-9332-2D39F07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FF0-2AAF-4F5D-AE93-E42171B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D3F-CB87-4DC9-8968-A9E75E9F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3FC-36FC-4B6C-9C2C-801FE6A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9353C-195A-4EE6-BEEC-64250DB1269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94561-2C8F-4F39-A349-D9650171C9F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595AA-F5F2-4A2E-87B7-E4E5BC9DDAA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B6849-C448-4641-97DD-45976BCEEAF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1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2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ttps://www.youtube.com/watch?v=NhMe3_3Q_j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 en aandoeningen aan pezen en spi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, t.g.v botontkal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gewrichtskap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 op langere duu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, later ook de groter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 door botaangroe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 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(Röntgenfoto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60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20-10-18T17:12:13Z</dcterms:modified>
  <cp:revision>63</cp:revision>
  <dc:subject/>
  <dc:title>RHEU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