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138-C42F-4076-B9CF-7340D2C3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9E4-F60F-4853-B9EC-B3A8E339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2F3-6524-4D60-B335-6CE689AE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963-2F6F-4CE3-BCBD-F2B20D00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02BC-D5F0-463F-AB47-8A64B5AF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2D53-E390-41B3-8B9B-B41F19FE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D48A-8002-49AE-B967-FE1092A6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47E8-F32B-4B73-BF83-81F7BEB0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237D-6BFA-42B5-B464-F77B546F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22FC-E5CF-40EC-AB27-3C92C67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8257-EAD5-496F-B0E1-C04D1D64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F3E-06FD-4E8C-B052-C5CF4705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8A21-08FE-433D-BE13-9DD564DB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CB8F-70C4-4EC7-8344-8B842D3D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9D9C-4651-4899-9665-59E8E35D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E9B4-A1D6-4BB6-992D-704F08B5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BFFC-DFD9-43E1-9C13-AA5AF5FE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987B-DF1C-4A00-9075-B2317E37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FD7C6-D898-49A4-80FC-0864592E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7FE1-8E7C-433E-8724-5440838F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6534-D275-464F-BEB7-8719D021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4858-362F-4DC1-89C3-9B17039D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7A9-9F5D-425F-B1CB-2F141A4B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C2FC-E144-44CB-9B43-6BE94F64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9FF4-14CE-4FBC-BB49-72DD3B3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F8259-6DAE-434D-9182-8B595943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585E-0294-44C1-8C1B-94777F4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C794-2179-4DCC-BED8-2B661DD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331F-32E0-458D-B63E-93AC0E83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6C8E-3222-44A7-A5E6-16122DEA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F020B-EE69-45B8-8133-3AE4DE98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B19A3-6669-403D-BB4A-80C4F505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F348C-1BE3-4062-BD21-40F54DF8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546-2F8D-4943-8FA8-867F3EFA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3B209-3E80-404A-92E6-BC07958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66E7-2D9E-452A-B2B0-2F889BEC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3AF37-2DCC-4C29-BEE4-E5729DB0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CB8D9-8082-49D3-834C-3D344E21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D6AB8-142A-4BC9-83E6-3FDBB76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311A6-E2E3-4304-9D67-B7FD8088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BC973-CEF4-4B17-B957-E63500B9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CB00E-B4C2-4FE8-ACF0-1FC89278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98946-170E-474C-9F3F-0662CEC2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427-84AF-438D-A89F-1B61A962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BC3-3EB1-451B-B638-2EE7DCD7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0FD-0822-4849-9D91-DD08D8C8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A3C-2307-4D02-8683-4D8B8E46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9AF-FECC-4D19-91C0-2011ADFD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EBDC5-052F-4554-B51F-39E1D719D2C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09C3D-867B-48F7-846A-310606D01F1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F2C66-4265-4A13-946B-167BD701110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6996F-246C-4483-ABAF-8682047BE0D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1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2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ttps://www.youtube.com/watch?v=NhMe3_3Q_j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 en aandoeningen aan pezen en spi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, t.g.v botontkal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gewrichtskap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 op langere duu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, later ook de groter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 door botaangroe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 en in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(Röntgenfoto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06028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20-10-18T17:12:13Z</dcterms:modified>
  <cp:revision>63</cp:revision>
  <dc:subject/>
  <dc:title>RHEU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