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AB3A-9609-4871-ABD2-4F3F91CF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908-C73E-4A5C-A538-FF190C4C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C08-C325-45E5-9455-CAC233B3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80F-5C89-4A66-8341-D2591A2B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70AE-ECA5-4293-8B07-6A0779CC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09F2-F08D-4219-9445-BF41D0B2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9DED-A8D5-4B3E-9A07-2CED8DC0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5DD1-BE2A-4541-87AF-DCBEC4EC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1BD5-690A-4852-82ED-BDD4D1DA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5E36-7309-40B2-90F3-1F8898C2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368E-53BE-426D-9E9C-2C59E95B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45DA-3684-4DDA-9513-42BFA03D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4230-7D70-426F-9A50-01AB403C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61FC-837F-448F-8A37-15DF9CFA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6350-465C-4E5A-A327-5312D68E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1733-3BEE-4834-B27B-312E90B7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D0B0-7C1E-4879-B2D6-48408659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C42-A631-4316-AE87-39CDAF76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8A8-14B4-409B-B6B6-E90BDC95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08D-BF7B-4647-94A7-714B130F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311-F361-48BB-BD7B-F86CF769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ECA-A697-42EC-AF84-1C60174C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10C-26DD-4F7E-A86A-F2571838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38C-5FB9-466C-BB46-C8C17A3C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D3C9-D4C8-4F93-AF18-9548039E18D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0114-D91E-4C80-B43E-3BBCC04DB33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A65F-CAB2-42E6-9829-A48D25CDB5C7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7723-BD70-438B-BA2A-E6DE179A46E4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Sandra Kreuning</cp:lastModifiedBy>
  <dcterms:modified xsi:type="dcterms:W3CDTF">2018-03-27T09:53:36Z</dcterms:modified>
  <cp:revision>10</cp:revision>
  <dc:subject/>
  <dc:title>DEMENTIE</dc:title>
</cp:coreProperties>
</file>