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EB4-C703-48B6-9953-1E9AEB2B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FF6-A4ED-40E0-B0FB-C5BD003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C74-34FC-44AB-B1AB-3F6D6517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F9F-AD4E-4028-9778-F044771E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32C-0302-4EE3-AD65-746CED5F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849C-C8E2-4E86-8312-B6EA5B3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A21-E8EB-4A38-90A6-6EF678B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F5B-02EF-4794-A977-EE0A0D44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92D-7894-4A66-9CDC-4C20BA28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FA1-C29D-4978-82CC-7D50BA6C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BDD7-B83F-4CDD-AE78-3CAA1B5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F21-9665-4098-ADA5-3BC84A2A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AFB-693C-4F9B-97E4-2ADABA8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E87D-AA43-4184-86E6-BEE1B07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0CEA-B6E6-4C92-B2E3-568D4ABE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8FED-6CD3-4915-ADA3-D4A859EA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1FA9-4E89-4606-91D8-89986BF2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D3A0-FDA6-4B34-8A93-948A3375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0BCB-379D-48E2-96B6-4157ED64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5482-2CC5-4222-B97E-66840E9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CDCE-FB7A-4B14-90CD-90412BBC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1EBE-D0D7-4418-B4C5-1F0CF0D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91D-0AF8-4204-BB94-89EC51A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7130-5CB9-4F75-9E15-D37EDFDA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97A7-854B-4297-AD45-67453F9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CEB1-244A-4FFB-A0A4-66FAAC7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BC88-475F-4033-A00B-DF640088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ADBB-EC34-4FDD-850F-77E4285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AE2D-E53B-4B4B-ADA6-D932D2A3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A368-AC44-42BC-887F-A87ABFE3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83FE-ADB9-4CFC-9B7B-4A54F4D2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F541-BFA0-44AC-80CC-C774569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5A8C-71C9-4FA1-84A5-FA73955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7CE-3231-43A5-8FD8-32EEB842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0CEB-A89C-42DC-972D-4D358B9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D54D-BDE9-47FD-B5C1-3DFF08D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2FE1-5C2C-4D47-8A9E-CCFA5DA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4400-AE85-49ED-9AD3-5EF7F86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FB74-24EF-4807-97A6-DA54994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392A-ABFE-4B1B-9A10-DC262726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7EF9-B21E-4582-87F6-806722F9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8270-416D-4E91-A0D3-2DBBEC01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12AA-A429-4CCE-9876-975C37AB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8A9-67C8-47C8-80DD-E0D1F05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435-97FA-410D-BC9F-5B55A81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DF4-60BC-465E-9034-2C8081F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CC5-1B87-42E5-A93B-8022BE1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14E-738B-4139-8516-BA59D60A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99192-5A47-45EB-A4AD-F03B3117AAB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5F016-1F7C-4306-8488-5C12D769CBB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F3AA3-408B-40D2-8062-D71ACFBC4FD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6D447-716C-4E78-A1F6-CB95774D2A0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1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2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ttps://www.youtube.com/watch?v=NhMe3_3Q_j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 en aandoeningen aan pezen en spi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, t.g.v botontkal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gewrichtskap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 op langere duu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, later ook de groter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 door botaangroe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 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(Röntgenfoto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602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20-10-18T17:12:13Z</dcterms:modified>
  <cp:revision>63</cp:revision>
  <dc:subject/>
  <dc:title>RHEU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