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595-6DDC-4C89-A015-EBB42CF4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724-25FC-4A50-8A5F-76AEA10D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BF9-759A-498C-AFDF-B3EC32EC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81D-AA0A-4172-A7D5-F2EDFD99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22C9-CD26-40B8-9395-8328BBD2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6CE0-39AD-4227-B605-C7D384D6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1972-5172-4C9C-A7C8-D3F828C3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199F-2410-4BC7-8EB2-499D5BB7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5208-C55B-46F7-9810-AA960294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DEC7-3A01-44AC-B2C0-90AD29FA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C598-24A1-4EA4-8C3F-B19CF99C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1CF0-6D4E-4DFF-AC2F-4F194D38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F7F6-6629-4681-91D6-6C473ADF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EF03-5EDC-4E79-BD72-62AF898C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B81F-7AC7-4249-8DCD-7A05721C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EF1F-81A8-48C0-B6A5-736DE344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D180-4D61-4F8B-AD91-893CFFC4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ED7C6-1C7C-47D7-8222-7A20E2CD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5156A-B714-4C52-98FD-0B166DF8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E1CE1-6DA3-4D34-8296-F0BC6AA0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4079B-D927-43AA-A049-2A20A884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51EE0-A593-4A25-A9F7-A0DEDED5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3783-7DD4-430B-BA22-E0E0C250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B64DD-B705-45FD-B636-11392936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C8E05-EAD1-4B65-8343-EA153E09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A6B7-BA61-4B2C-9CFC-2CF18196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8571D-2D8A-4F93-8CE3-E7D7073A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D5F6C-5282-4D66-8122-2CF9B3E1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801D6-E70E-4724-BD2A-C5285C95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CD552-A86C-40B1-91A9-05518EFF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74EB1-D576-4D48-8735-A96D3D31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B63A9-90CB-4978-B22B-F6B075FF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8B754-DDFD-49F5-81ED-FC1F9FB0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0143-4755-45E8-B1B1-B231CDBF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0694F-115C-49CD-AF42-6AE33264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A9B4A-9CC5-4FB2-8F9A-0A11D543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35E92-7B8E-4BBA-9BF9-CC75BBB1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BAD65-3013-4868-A339-DFBFCFAA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2DB22-04D4-416A-A796-60EA50BB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A9347-74BA-428F-8E56-72A24E73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A19B0-6C9B-4A87-A60E-ADD5DF6C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F11D1-3AD1-4CD0-B9FD-9B7AE8AD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64A2F-7E9A-4C62-A28C-6D1D5DE0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C5A-CBC9-4555-9C4E-369B935D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C2FF-C5EF-458A-82B9-CA3C2B6C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7B8-E228-4431-A67F-5B8D56C1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846-9A0D-4759-A58B-72682A90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C96-1AAF-4397-9644-B281080D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0A2AC-1379-4E79-9C1D-8F3F6F4D4CCF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D8DAB-413B-4047-89BE-91FF7F6332B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F71302-2FAB-4307-9441-A54F8FCD46F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9EB93-5008-46D1-94AD-A68F4293707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8800" spc="-1" strike="noStrike">
                <a:solidFill>
                  <a:srgbClr val="ff0000"/>
                </a:solidFill>
                <a:latin typeface="Verdana"/>
                <a:ea typeface="Verdana"/>
              </a:rPr>
              <a:t>REUMA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il_fi" descr="http://primawebshop.nl/medias/sys_master/8451887846401664.jpg"/>
          <p:cNvPicPr/>
          <p:nvPr/>
        </p:nvPicPr>
        <p:blipFill>
          <a:blip r:embed="rId1"/>
          <a:stretch/>
        </p:blipFill>
        <p:spPr>
          <a:xfrm>
            <a:off x="684360" y="1268280"/>
            <a:ext cx="5975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iekte van het bewegingsapparaat die zich meestal op hogere leeftijd openbaar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 is een reumatische aandoening waarbij het gewrichtskraakbeen in kwaliteit achteruitgaat en dunner en zachter word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en degeneratieve 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3488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gebeurt 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raakbeen verand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 ontstaan kleine scheurtjes spleten en groeven in het kraakbeen en botwoekeringen aan de randen van de aangedane gewri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Irritatie van het gewrichtskap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één gewric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il_fi" descr="http://www.reumafonds.nl/_sana_/handlers/getfile.ashx/de582bf1-cad6-400a-a9dc-61472e104712/Artrose_gezond_en_artrotisch_gewricht.jpg"/>
          <p:cNvPicPr/>
          <p:nvPr/>
        </p:nvPicPr>
        <p:blipFill>
          <a:blip r:embed="rId1"/>
          <a:stretch/>
        </p:blipFill>
        <p:spPr>
          <a:xfrm>
            <a:off x="4788000" y="4149720"/>
            <a:ext cx="41400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Meest voorkome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n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onderru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knieë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heupen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du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ving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il_fi" descr="http://groesland.nl/images/Artrose.jpg"/>
          <p:cNvPicPr/>
          <p:nvPr/>
        </p:nvPicPr>
        <p:blipFill>
          <a:blip r:embed="rId1"/>
          <a:stretch/>
        </p:blipFill>
        <p:spPr>
          <a:xfrm>
            <a:off x="3995640" y="1413000"/>
            <a:ext cx="43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ntstaan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, gaat niet o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felijke oorzaak(mogelijk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schadiging van gewricht door langdurige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spo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we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vergew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klach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 bij bewegen, vooral na 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oeite met be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wel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houdingsafwij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ff0000"/>
                </a:solidFill>
                <a:latin typeface="Verdana"/>
                <a:ea typeface="Verdana"/>
              </a:rPr>
              <a:t>Voorkome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overbelasting van 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il_fi" descr="http://ikslijtsnel.punt.nl/upload/verkeerde_houding.jpg"/>
          <p:cNvPicPr/>
          <p:nvPr/>
        </p:nvPicPr>
        <p:blipFill>
          <a:blip r:embed="rId1"/>
          <a:stretch/>
        </p:blipFill>
        <p:spPr>
          <a:xfrm>
            <a:off x="755640" y="2997360"/>
            <a:ext cx="2664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en om te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el medicijnen voor symptom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stillers,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contractu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contractuur= 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il_fi" descr="http://www.pedicure-asten.nl/attachments/Image/reuma1.jpg"/>
          <p:cNvPicPr/>
          <p:nvPr/>
        </p:nvPicPr>
        <p:blipFill>
          <a:blip r:embed="rId1"/>
          <a:stretch/>
        </p:blipFill>
        <p:spPr>
          <a:xfrm>
            <a:off x="3708360" y="3789360"/>
            <a:ext cx="4464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efenen en fysiotherap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m belasting van gewrichten te vermind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atie (kunst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il_fi" descr="http://www.stop-artrose.org/wp-content/uploads/2010/01/heup-kunstgewricht.jpg"/>
          <p:cNvPicPr/>
          <p:nvPr/>
        </p:nvPicPr>
        <p:blipFill>
          <a:blip r:embed="rId1"/>
          <a:stretch/>
        </p:blipFill>
        <p:spPr>
          <a:xfrm>
            <a:off x="6012000" y="4653000"/>
            <a:ext cx="2808000" cy="1989000"/>
          </a:xfrm>
          <a:prstGeom prst="rect">
            <a:avLst/>
          </a:prstGeom>
          <a:ln w="0">
            <a:noFill/>
          </a:ln>
        </p:spPr>
      </p:pic>
      <p:pic>
        <p:nvPicPr>
          <p:cNvPr id="255" name="il_fi" descr="http://webserv.nhl.nl/~oostmeij/fig-map/cartoons/obelix_ik%20ben%20niet%20dik_b.jpg"/>
          <p:cNvPicPr/>
          <p:nvPr/>
        </p:nvPicPr>
        <p:blipFill>
          <a:blip r:embed="rId2"/>
          <a:stretch/>
        </p:blipFill>
        <p:spPr>
          <a:xfrm>
            <a:off x="684360" y="1916280"/>
            <a:ext cx="3456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mgaan met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dersteuning bij huishoudelijk verzorgende werkzaamh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bukken en rei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passingen (verhoogd toilet, stoel, wandelstok, looprekje, rolstoel, orthopedisch schoeisel) 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il_fi" descr="http://www.blessurewinkel.nl/html/afbeeldingen_specifiek/specifiek_18.jpg"/>
          <p:cNvPicPr/>
          <p:nvPr/>
        </p:nvPicPr>
        <p:blipFill>
          <a:blip r:embed="rId1"/>
          <a:stretch/>
        </p:blipFill>
        <p:spPr>
          <a:xfrm>
            <a:off x="4967280" y="3716280"/>
            <a:ext cx="4176720" cy="3141720"/>
          </a:xfrm>
          <a:prstGeom prst="rect">
            <a:avLst/>
          </a:prstGeom>
          <a:ln w="0">
            <a:noFill/>
          </a:ln>
        </p:spPr>
      </p:pic>
      <p:pic>
        <p:nvPicPr>
          <p:cNvPr id="259" name="il_fi" descr="http://www.remicade.nl/images/foto036_134x239.jpg"/>
          <p:cNvPicPr/>
          <p:nvPr/>
        </p:nvPicPr>
        <p:blipFill>
          <a:blip r:embed="rId2"/>
          <a:stretch/>
        </p:blipFill>
        <p:spPr>
          <a:xfrm>
            <a:off x="2367000" y="4121280"/>
            <a:ext cx="12762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hoefte aan warmte dus niet wassen met koud water (vaak warm in hui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arme wollen kl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ociale contac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https://www.youtube.com/watch?v=NhMe3_3Q_j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il_fi" descr="http://www.nijha.nl/cache/paragraphs/718516_f1_800x600.jpg"/>
          <p:cNvPicPr/>
          <p:nvPr/>
        </p:nvPicPr>
        <p:blipFill>
          <a:blip r:embed="rId1"/>
          <a:stretch/>
        </p:blipFill>
        <p:spPr>
          <a:xfrm>
            <a:off x="3203640" y="328464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is reum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: verzamelnaam voor vele gewrichtsaandoeningen en aandoeningen aan pezen en spier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toïde artritis (artritis is ontsteking van 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Reumatoïde artriti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e vorm van reuma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uto-immuun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vanaf 4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Verdana"/>
                <a:ea typeface="Verdana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jaar, vaker bij vrouwen dan mannen, t.g.v botontkalk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van gewrichtskapsels die de binnenkant van de gewrichten bekl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orzaak niet bek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Gewri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in gewrichtskapsel, gewrichtskapsel wordt dikker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pijn,zwelling,w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Kraakbeen verdwijnt op langere duur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bewegingen pijnlij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het botweef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il_fi" descr="http://www.reumafonds.nl/_sana_/handlers/getfile.ashx/b70910e5-59d6-4013-9084-772c151284aa/Gezond%20en%20ontstoken%20gewricht.JPG"/>
          <p:cNvPicPr/>
          <p:nvPr/>
        </p:nvPicPr>
        <p:blipFill>
          <a:blip r:embed="rId1"/>
          <a:stretch/>
        </p:blipFill>
        <p:spPr>
          <a:xfrm>
            <a:off x="1187280" y="1413000"/>
            <a:ext cx="44802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kleine gewrichten in handen en voeten, later ook de grotere gewri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(vooral s’ochtends,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ren(dwangsta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nobbels door botaangroe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 bij bewegen en in 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il_fi" descr="http://www.bndestem.nl/multimedia/archive/00737/reuma_737805b.jpg"/>
          <p:cNvPicPr/>
          <p:nvPr/>
        </p:nvPicPr>
        <p:blipFill>
          <a:blip r:embed="rId1"/>
          <a:stretch/>
        </p:blipFill>
        <p:spPr>
          <a:xfrm>
            <a:off x="5076720" y="3789360"/>
            <a:ext cx="3816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Nog meer 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oeid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armoe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erk zweten, vooral `s nach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il_fi" descr="http://www.nutrigenerics.com/UserFiles/Uploads/vermoeide-vrouw.gif"/>
          <p:cNvPicPr/>
          <p:nvPr/>
        </p:nvPicPr>
        <p:blipFill>
          <a:blip r:embed="rId1"/>
          <a:stretch/>
        </p:blipFill>
        <p:spPr>
          <a:xfrm>
            <a:off x="5219640" y="3213000"/>
            <a:ext cx="3529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Onderzoeken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melijk 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(Röntgenfoto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il_fi" descr="http://www.kennislink.nl/system/files/000/031/861/small/RheumatoideArthritisAP.jpg?1257332167"/>
          <p:cNvPicPr/>
          <p:nvPr/>
        </p:nvPicPr>
        <p:blipFill>
          <a:blip r:embed="rId1"/>
          <a:stretch/>
        </p:blipFill>
        <p:spPr>
          <a:xfrm>
            <a:off x="6732720" y="2060640"/>
            <a:ext cx="1942920" cy="2520720"/>
          </a:xfrm>
          <a:prstGeom prst="rect">
            <a:avLst/>
          </a:prstGeom>
          <a:ln w="0">
            <a:noFill/>
          </a:ln>
        </p:spPr>
      </p:pic>
      <p:pic>
        <p:nvPicPr>
          <p:cNvPr id="230" name="il_fi" descr="http://www.sleutelstad.nl/public/images/241962265.434485-rontgenfoto%20jpg.jpg"/>
          <p:cNvPicPr/>
          <p:nvPr/>
        </p:nvPicPr>
        <p:blipFill>
          <a:blip r:embed="rId2"/>
          <a:stretch/>
        </p:blipFill>
        <p:spPr>
          <a:xfrm>
            <a:off x="4356000" y="2060640"/>
            <a:ext cx="2016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 voor genez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él medicijn voor sympto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Pijnstillende 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Gebruik van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Ziekte vertragende reuma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eefregels: gedoseerde rust, oefeningen om stijfheid en contracturen tegen te gaan, geschikt matras, voeding met voldoende eiwit en ka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eren: kunst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Aandachtspunten bij zorgvragers met chronische reuma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06028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dhouding bij bed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amshouding (aangepaste sto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urprev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choei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Temperatuur en vochtig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2:50:28Z</dcterms:created>
  <dc:creator>Gebruiker</dc:creator>
  <dc:description/>
  <dc:language>en-US</dc:language>
  <cp:lastModifiedBy>Sandra Kreuning</cp:lastModifiedBy>
  <dcterms:modified xsi:type="dcterms:W3CDTF">2020-10-18T17:12:13Z</dcterms:modified>
  <cp:revision>63</cp:revision>
  <dc:subject/>
  <dc:title>RHEU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7E6EAFB7E375B4FA8D2FF7FD64788B7</vt:lpwstr>
  </property>
</Properties>
</file>