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79B2-5A5C-4C42-B6B1-C4B62453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7287-4B4F-4855-A343-01102AB8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3731-D672-4AA3-99C7-66965515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DA83-20BD-49F8-A3EE-04FE31D9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1824-507E-45BA-BDA3-CD9AD55A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9EC0-0D9E-48F7-AECA-2B2CA984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F0E1-59B5-4A75-9A53-670E628C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BE30-C109-4FC3-BD09-11C62449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7766-E491-40A6-A0CC-17CFD5A8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2F10-A77B-45B9-B423-741E3219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9023-ECD3-44F2-AD4D-AAD37EC4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DCB0-5A5F-4A3D-A17C-D16EB90F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6298-7766-40AC-825A-EE41578F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308C-E8C2-4B70-867D-47D3B4D7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0B96-2A93-48D0-AB79-F8A06EA3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AFD2-7F3C-43D6-9EDF-D783FED7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67A3-2B43-4857-9A7C-75BB4106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D67C-9578-4488-B0D6-0BD7AF0C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7AE8-4C3A-4D21-8C20-1FCFBB31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6823-3545-49E7-B346-AF7D6883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EC29-FCB0-4996-A56C-20F29F33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7733-96E3-4822-922C-06F9CA6E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1374-5F4D-4D5F-9278-B1AB0A73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6952-70D2-4F48-A309-E3739D89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0AA5-19BA-4E54-A19D-1F4CC5319FE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B20C-364B-461B-93E0-247582A3BE0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23CD-664A-41E4-97E6-FFC4A2A2EAD9}" type="datetime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A1AA-BF83-4AAD-99A9-07B63927A5DA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87" name="Picture 4" descr="Illustratie"/>
          <p:cNvPicPr/>
          <p:nvPr/>
        </p:nvPicPr>
        <p:blipFill>
          <a:blip r:embed="rId1"/>
          <a:stretch/>
        </p:blipFill>
        <p:spPr>
          <a:xfrm>
            <a:off x="4622760" y="228600"/>
            <a:ext cx="452124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gnos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 in het identificeren van voorwerpen, geluiden, geu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emand ruikt wel goed (gas) maar herkent niet de geur van gas / gev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andenborstel / kam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ymptomen van de tweede ord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431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dragsveranderingen/gedragsstoor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karaktertre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corum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contin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nfabul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03640" y="19162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oede / agressie / ang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pathie / achterdoch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zamelwoed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persever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9" name="Picture 5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oorte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55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ziekte van Alzheimer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0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asculaire Dementie (MID =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ulti - infarct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907: voor het eerst beschrev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angzaam en geleidelijk worden hersencellen vernietig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rzaak: kluwens van eiwitten in de hersen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5" name="Picture 4" descr="alzheimer"/>
          <p:cNvPicPr/>
          <p:nvPr/>
        </p:nvPicPr>
        <p:blipFill>
          <a:blip r:embed="rId1"/>
          <a:stretch/>
        </p:blipFill>
        <p:spPr>
          <a:xfrm>
            <a:off x="7315200" y="609480"/>
            <a:ext cx="1590840" cy="2781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alzheimer eiwit"/>
          <p:cNvPicPr/>
          <p:nvPr/>
        </p:nvPicPr>
        <p:blipFill>
          <a:blip r:embed="rId2"/>
          <a:stretch/>
        </p:blipFill>
        <p:spPr>
          <a:xfrm>
            <a:off x="6019920" y="4186080"/>
            <a:ext cx="3124080" cy="2671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woman1"/>
          <p:cNvPicPr/>
          <p:nvPr/>
        </p:nvPicPr>
        <p:blipFill>
          <a:blip r:embed="rId3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rtical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frontale kwabdementie (o.a. ziekte van Pick)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mentie van het Lewy Body typ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Creutzfeldt - Jacob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ubcorticale dementie (secundaire dementies)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Parkinso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ultiple sclero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IDS - dem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: stoornissen in recente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ijkt eerst op verstrooid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geheugen neemt steeds meer af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utonoom handelen wordt on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Risico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factoren: hoe ouder hoe meer ka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pic>
        <p:nvPicPr>
          <p:cNvPr id="139" name="Picture 6" descr="alz-prev"/>
          <p:cNvPicPr/>
          <p:nvPr/>
        </p:nvPicPr>
        <p:blipFill>
          <a:blip r:embed="rId1"/>
          <a:stretch/>
        </p:blipFill>
        <p:spPr>
          <a:xfrm>
            <a:off x="3048120" y="19810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ltij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mmunicatiemoeilijkh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press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allucinat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en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plots begin van het dementiesyndroo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sprongsgewijze achteruitga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nregelmatig verval van geestelijk vermogen: afhankelijk van de plaats van de infarct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zamelnaam voor een groep van ziekten met een vaste kern van verschijnsel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lies van oriënta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oeilijkheden met denken 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andering van gedra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an gevolg zijn van 1 of meerdere infarct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= plotselinge verstoring van doorbloeding van hersenweefsel, daardoor uitval van deel hersenwerki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oorstadiu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vergeetacht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laat steken vall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amouflage - gedra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ontkenning / rouw / verdriet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irrita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Beginnend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begeleiding nod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onfrontatie met andere werel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ang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zoekt houva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Milde of matig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opslaan of onthouden van info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lukt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orgvrager wordt apathisch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teeds meer zorg nodi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gaat verder terug in herinnerin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heden / verleden loopt door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elk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8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Ernstige of diep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pleging en verzorging: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behoeften vervullen: eten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rinken / rust / geborgenheid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warmte / veilig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mmunicatie via taal niet meer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61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alzheimer1"/>
          <p:cNvPicPr/>
          <p:nvPr/>
        </p:nvPicPr>
        <p:blipFill>
          <a:blip r:embed="rId2"/>
          <a:stretch/>
        </p:blipFill>
        <p:spPr>
          <a:xfrm>
            <a:off x="6568920" y="0"/>
            <a:ext cx="2575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geleid van het Latijnse   de-mens = zonder geest zijn, ontgeestelijk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niet alleen achteruitgang van geestelijke vermoge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k lichamelijke gevolg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kort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ecente gebeurte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ieuwe indru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aakt sneller “de draad kwijt”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6" name="Picture 4" descr="dementie"/>
          <p:cNvPicPr/>
          <p:nvPr/>
        </p:nvPicPr>
        <p:blipFill>
          <a:blip r:embed="rId1"/>
          <a:stretch/>
        </p:blipFill>
        <p:spPr>
          <a:xfrm>
            <a:off x="6453360" y="2819520"/>
            <a:ext cx="2690640" cy="27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lang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 latere fase van dementie verdwijnt geheugen verder: recent verleden verdwij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ijv. oorlogsherinneringen / jeugdherinneringen blijven langer intac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persoo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reedt op in latere fa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erkent voor hem bekende personen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oms ook eigen spiegelbeeld niet meer herke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tij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elke dag / jaar / seiz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ochtend / avond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achtelijke onru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ruimte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woon ik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ben ik nu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is het toile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asie: taalstoornis: wat hij ziet of hoort kan niet meer benoemd word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. kan iets niet op de goede manier zeg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. stroom van woorden zonder betekeni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. gestoord taalbegrip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prax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minderd vermogen om doelgericht handelingen uit te voe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vlees snij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ich aankl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knopen dichtd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chaar gebrui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6:57:32Z</dcterms:created>
  <dc:creator>Rita de vries</dc:creator>
  <dc:description/>
  <dc:language>en-US</dc:language>
  <cp:lastModifiedBy>Sandra Kreuning</cp:lastModifiedBy>
  <dcterms:modified xsi:type="dcterms:W3CDTF">2018-03-27T09:53:36Z</dcterms:modified>
  <cp:revision>10</cp:revision>
  <dc:subject/>
  <dc:title>DEMENTIE</dc:title>
</cp:coreProperties>
</file>