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5246-DA3D-4AD3-A420-AC8CA014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4B58-6844-4315-A400-7F1B5773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52408-B155-4904-92AB-16E2516F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B600C-CF82-4EA0-99B4-16513358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A395FD-3552-491B-B3D2-2E661A0C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BBA93-502C-4B7E-BD08-D3A06BD4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76190-21D1-40F2-934C-A5F65AC1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8922C-257A-426D-9EBD-B3B53F7C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1002E-2A34-4368-B967-A25C4642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162AC-A28D-4E51-B47B-40FD6D16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A5200-4616-4266-B9DB-B24CADEF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F0052E-E689-4911-9445-A18C7CF6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67E-7B7B-4FE5-B5E8-5AA07C36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84478B-398A-4791-A46C-737DF926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B72281-4D8B-4721-B554-FF4255BE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00653-3F30-4DDF-8F4A-9361DE4D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4207E-4CE4-4537-9C52-D3A2EA4D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45A47-3389-4552-A78C-D9DB7823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B764AA-4FB6-432F-86BC-10430852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02487A-3FE0-4D14-ACB1-A4BDF74E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E34D2-EC5E-40C2-89EF-2B938883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0739A-A6DF-43A5-9E30-4EE600E1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68D7D9-2806-4929-BE4D-523BFA97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8013-B29F-413A-AFDC-2D3B7DEB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F871DE-385B-4BCB-AFF1-C9299B59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480DB-0EF7-4942-8613-7D34F4A8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9FDB4-6055-4B42-BF3C-AF8F9D6F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ECC0C-F22A-42B0-938F-217B9EA1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F7EBB-C046-495C-9D6F-E4C95909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5E812-31E3-41BC-8DCB-FC0D4B8A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D3889-D068-4A7C-9556-6F4BC4E1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B2206-2587-41AC-8870-68716107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4856A-29FC-4679-82B1-A91ECA34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502F2-9A21-4724-A977-574C28C0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192E-1B7B-4676-B460-3A83D777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5AE1D-ED4F-40DE-AFD4-4F0AE6DC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41995-6FE9-457E-90EA-643C638E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3ED0C-6AAB-485A-B55B-EFF33B65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A75B6-C525-4777-AAE1-23AF0501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979CF-B659-424A-BF13-F17A937B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DA2DC4-4A2B-4790-8B93-0A24EE4D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D834D-B542-468D-9B19-AA6CEA15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1261D1-BA40-4D25-B5FB-C2BA0204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145C65-FEAD-48E3-A282-D6E45A21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2F084E-A3D8-4B73-99AE-328ECA2A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9A4E-277B-4D61-B5B9-B8FE51BB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E3664-9287-4835-967B-3B08D545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8ED54C-23DD-44FC-9749-840B96D0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6C0F9F-CDF3-4CA3-9C09-3CF29613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C9B1FF-6E1C-4E65-92FB-FB19B717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04F23A-46E1-4344-B672-3D775661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BF56-E1A4-4391-AC54-0BA54F7C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236C-8F68-4C19-8278-60AEEB43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ED65-85A2-41EB-8FD3-738B6FFE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50C8-5916-41AD-BD60-07BC6588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17C9-62A4-4717-B83D-0D5E73E3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7B3-DDD0-4AD5-8AFC-C34B9D2C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D0C8-DAF8-467B-9A1D-014BE31B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DBB0-216D-41CD-8E46-600925F2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D26C-B62B-4958-9AD0-0C6E2E1D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3A03-80F7-43BF-958E-7D01507D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6FB7-BFDF-4EDB-A5C1-170FFF55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4FFEC-2B45-49F8-9CE5-9C523A93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FDDF3-5BD8-429D-BBBE-C2854F72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11A5A-9479-4911-8961-322CECAF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6A8A-A545-4FDD-A361-37D0A7A7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02D7B-D238-47AF-A56B-5663CD59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B96-9D92-4284-83CD-B576B9DF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9E011-F7BF-422A-B8C7-5A922D9C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C8E6B-FA4E-4F75-8E67-8B84C42F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71CB8-BD11-405D-A7E1-73B90E2E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97187-2657-4FD9-9B84-1DEF1233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F485C-E061-4342-B870-C1E22664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69FB9-5F9C-4F63-A3F6-23A08285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21972-1764-47E5-ADC2-CF9DF63B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7EB9E-EC71-4113-AD9B-D706BE1C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2C414-2E00-4B2D-8D7C-2EA84080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A3A72-0FE5-4390-840E-63A0B15E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075-BAC4-4E12-AF16-D5A9C0AF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89C17-CF8A-4AB8-9A3F-FEBAF331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21498-2D4D-4147-8685-7447414C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C1F7A-15E2-4AA1-8E2D-995B7949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139ED-8842-40F9-ABE3-A7D50C75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2E01F-391E-482B-9A92-C21CBFA1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A1C5E-9A73-4816-8F78-EDE63BF1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654DE-952D-49AA-B40D-07F39F94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8BC79-237F-487A-A067-A54E43A7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C23A7-CB78-4C4F-9385-38A728FB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2535F-C040-4444-88EF-52E27D73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094-0082-4071-AD2B-18E5E734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3A547-CBDA-41A8-ACA3-B2CBE2DC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C2324-4DC5-452B-963E-5CC7FF4C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6E69C-0D39-4D9C-950B-C8D86F65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65DFF-59B9-4B1B-979D-D8716D13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6A7DC-F556-4CFB-A7E3-4B0EB052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318DF-04E4-4C9A-935A-F64E9104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2509C-AC3F-44BC-97C6-DEC158A4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E8913-693B-440D-A95F-90B6DD25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22A67-3DAF-4921-BFBB-E20A2443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3D5BB-9B5F-41CC-B81D-DDD8DBC5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E3B-7932-4317-BE5E-26174C5F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F3127-2DE8-4795-994C-D60750DD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2A121-0760-47C1-9350-A84160D6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8D180-474F-4226-A708-272AEC29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1FE4B-8D2B-4D1F-86B6-9AA6C7EE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00416-8B87-4560-83F0-6E08CA9D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49B6B-EBAA-447E-8147-37810122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03172-7038-44C1-BD90-2DA6AB23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1F9E9-8CA2-42EB-9550-CA0FBF4F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1690D-DB43-4320-B587-DE6A5A9F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5BB6B-E4B8-4479-9623-3EBCB064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CBD-52E1-4B65-89A0-271F81AE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0764A-84C9-4C91-879D-926F6309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2D5D8-5644-429D-BC1E-908E3029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FE758-13A8-44A7-9B2F-82A47F2E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311FD-903F-4A4A-ADFA-03707E7C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BAF91-046B-405E-8916-8C36EBE1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D942F-1009-4DE4-A79D-5C462F34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416AD-C56F-42F7-B722-A2F9DBE0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8E66B-48BF-45A8-900E-2A04B439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EE4A6-297A-465A-93E4-AC212091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7DEEE-70F2-4EB0-99FD-69502987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F337-649B-4485-A40C-F79689F2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BAB7A-73F2-48A1-92C4-BB3AF4A0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108C8-BD68-4178-8A33-88B11968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5D563-E0D2-472E-B67F-035508C7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93ADF-5885-4714-BB04-073114EC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521A3-CD90-40C4-86E6-CBF34758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D2C00-78CE-443F-B245-3920109C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D0F6F-9EC7-4CA3-AC62-72D16BB4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CD9E5-E4A0-4CB6-9EE9-A47265F8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53BF3-AD7D-4267-9686-FBB2EF3B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A7C06-D9C3-4832-8578-B8557E8C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8754-FAC9-4787-978D-62F3E960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8AA86-B84D-4CED-BFF5-86BF8870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1EC65-B78E-46DD-960D-4063664D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6CF6D-3FED-4B1D-8F9E-80AF8F38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EA1CB-D185-4EB5-A35E-BE8D5D58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9847D-A558-469D-B96E-9CC2116B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09F63-040A-4D3F-9731-7A343C11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9885D-C984-4EF2-96D5-B43EC11D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7F59A-D324-48EF-9E4F-09B0D443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1ACE3D-321C-49BC-914D-04869616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31CAC-6DA4-4C95-A2A4-35CCF992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A9E0-F26B-492B-984E-E83473AA4D05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1027-D175-45D4-99EE-D24F5DF4D858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8308-D4FE-4099-B94A-95DEF2DC3FA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18CC-35DB-4814-ABC5-6DBEAE253D07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5CB4-5D87-413C-B0DE-0817C732F89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DC7C-B331-43F4-90A4-CBFCBAF508E8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1C35-96B1-4238-B2CC-04CD33161515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E6CD-5381-4045-83F7-5B74CAF9ECD1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1E51-1742-4483-9BEB-5DA2A29117D1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CAC2-E976-4A44-8189-E2BA2B1EF5DD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B90B-2BAB-4066-B565-DD423D4CF016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95E2-AE1F-4CD7-864C-D18FE633A923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d16349"/>
                </a:solidFill>
                <a:latin typeface="Georgia"/>
              </a:rPr>
              <a:t>Infectie en ontsteking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3059280" y="3860640"/>
            <a:ext cx="3097080" cy="23241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eorgia"/>
              </a:rPr>
              <a:t>Wat kun je er aan doen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68360" y="2276280"/>
            <a:ext cx="80517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ichaam zelf: aanmaak antistoffen (immuu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ymptomatische behand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 viruss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rkoudheid, griep (influenza), acute darminfectie, waterpokken, gordelroos, koortslip, Pfeiffer, AIDS, meningit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Schimmels en gist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onder microscoop als dra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op aanwezig op licha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schimmels = commensale schimmel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 plaats van ziekte te veroorzaken, beschermt de commensale flora het lichaam tegen ziekteverwekkende organismen. Indien de commensale flora wordt verstoord, herstelt deze zich weer snel.   Spruw - ba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venwicht raakt verstoord door allerlei oorz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 (een ziekteverwekker van biologische oorsprong) schimmel, bijv. voetschimm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plaats, last, jeuk, week, n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8920" y="16286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schimmel: medica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Worm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met blote oo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Aarsmade (enterobiu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Spoel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ia vingers en mo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s in omgev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uw varkensvlees/ rundvle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gewassen gro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deren in de zand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komen van zelf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ygië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ijnen: mebendazol = Vermox, madic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recept verkrijgba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Passieve en actieve immunis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Georgia"/>
              </a:rPr>
              <a:t>Pass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krijgt antistoffen van een and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kind van moeder via de placenta en moedermelk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Inenting met antistoffen. Werkt niet heel la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Georgia"/>
              </a:rPr>
              <a:t>Act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lichaam maakt zelf antistoffen aa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maakt een infectie doo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Vaccinatie met dode of verzwakte ziekteverwekker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Georgia"/>
              </a:rPr>
              <a:t>Vaccin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750960" y="1527120"/>
            <a:ext cx="760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Ontsteking / infec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ontsteking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is een (plaatselijke) reactie van het lichaam op een willekeurige schadelijke prikk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infectie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 na infectie handhaven en vermenigvuldigen van een ziekteverwekker = bacterie, virus, schimmel of gist, worm of protoz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Bacterië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ééncellig, onder gewone microscoop te 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werpig (staaf) of rond (kok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bacteriën = commensal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chadelijke bacteriën = pathoge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n in het lichaam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26920" y="1557360"/>
            <a:ext cx="76932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ijn, zwelling, roodheid, warmte, gestoorde functi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ukocyten als afwe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= leukocyt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+ bacteriën = infiltraa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usvorming (dode leuko’s + bac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in holte = ab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angs gangetje = fistel (geneest niet goed zelf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684000" y="549000"/>
            <a:ext cx="7908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afsterven leuko’s + bacteriën komen stoffen vrij die onze lich.temp doen stijgen = koor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orts = lichaamstemperatuur van 38°Cof hog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rectaal gemeten) oor en oraal kan is niet zo prec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acteriën in bloedbaan = sepsis = zeer hoge koorts + levensgevaar / bloedvergiftig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476280"/>
            <a:ext cx="853452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Wat kun je er aan doen</a:t>
            </a: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lichaam zelf, aanmaak antistoffen (immuun)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Antibiotica: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esistentie / overgevoelighei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Voorbeelden bacteriee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laas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rbekkenontsteking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teenpuist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ndroo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bc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e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ingitis (nekkramp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Viruss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, alleen te zien onder sterke electronenmicr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enigvuldigt zich ten koste van lichaamcel, cel breekt a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rijgekomen virus gaat naar volgende cellen, etc.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pgezette lymfeklieren, soms koorts, verder afhankelijk van ple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focyten als afwe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worden gemaakt in lymfekliere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9:00:12Z</dcterms:created>
  <dc:creator>vredelust</dc:creator>
  <dc:description/>
  <dc:language>en-US</dc:language>
  <cp:lastModifiedBy>Sandra Kreuning</cp:lastModifiedBy>
  <dcterms:modified xsi:type="dcterms:W3CDTF">2018-07-11T10:20:32Z</dcterms:modified>
  <cp:revision>54</cp:revision>
  <dc:subject/>
  <dc:title>infectieziekten</dc:title>
</cp:coreProperties>
</file>