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A0E-E0E3-4C14-AD38-E46CFC85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613-1C78-44C6-9F20-A2CDBE7B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E51-01EC-4C84-BCF6-ECD2DEA8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056-E7B1-41F1-88C2-7DB0097F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5336-92A4-4D76-B6FD-574318FA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D47A-26A6-4FE4-AF4D-CC4DB792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B623-4D86-4448-A40B-341A7D90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DD18-DC70-456B-BE3C-27F19D07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C5C1-85DB-4BD9-AA4B-3E449C02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A3A2-F8C4-4141-B448-F3035283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5AE9-CE42-4DE9-9E4B-CB99309F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943E-4859-44CB-8906-295E4AC1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7D5F-77BC-4D65-A835-980E7DD8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FED1-10D7-4A59-9782-BF7DBF27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CCFF-87FD-4A52-87B7-0EC5488E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636D-23C1-4CCF-B1DC-FC7CE660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54ED-C3C6-47B2-BB77-2FC403DA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3C714-809A-4EAA-93B7-61DFB931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2E272-DC62-403B-9880-527068AB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01356-D70E-4BAF-B68E-367A46AE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139EA-33A4-45AF-A215-75F30F7B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0D51C-8CB7-448D-B3C8-7E384375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998-FBA9-4A77-93AC-8AC3C583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A400D-D7E0-4449-9135-40293AA6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1A87-1D37-46C5-9F03-6DBF3C4F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14AA8-2A83-49A7-B73A-E8BE6916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D4578-EEAE-41E9-B70C-A33FFD25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DF6E3-85D2-47F8-ADE8-E14E7D6F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8AEE4-F8A4-496A-9E9D-220F863E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6D280-4C0C-4CF1-9901-92607E3F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9BFE8-63DB-48DA-84EC-0C6EF59D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5137B-09A7-479C-911B-80064EAC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5D9B8-9541-4714-ADC7-CE87F9DF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76B-0A1B-4CB0-ADC9-A2ED339B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8E8A1-203E-4ABB-826B-60554632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013EC-B720-4087-8DA0-7FA6D636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A2A02-D95E-4DA5-B0DA-F031D96D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3B27F-AD28-4D75-9C01-7CBA5447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3B5CB-E0F2-4091-B324-475B4A8A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845DD-BDFA-45AB-9716-81F0F5D3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BCD1-B320-4CED-B353-1550ACF2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46DEF-1E8C-4CC0-AFED-B0E7B5C0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F746F-465E-4510-ABC2-80678A8E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4D1-37C2-4650-B9DC-439D8CF2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B0D-4C7D-4E96-9A12-3CDBB912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0E9-2223-40AA-8628-51EA962A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F89-F1BA-43D4-BF59-330B6F4C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126-7D79-4E9D-9E6F-2E2384A5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5C335-5588-4201-A6C6-FC00BAB7A9F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46959-87C1-4E71-9A08-CA94D3A8D92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8970A-CC2E-4F89-B135-46689CE6C03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B10E5-168D-4732-ACE3-30568B2B76E3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8800" spc="-1" strike="noStrike">
                <a:solidFill>
                  <a:srgbClr val="ff0000"/>
                </a:solidFill>
                <a:latin typeface="Verdana"/>
                <a:ea typeface="Verdana"/>
              </a:rPr>
              <a:t>REUMA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l_fi" descr="http://primawebshop.nl/medias/sys_master/8451887846401664.jpg"/>
          <p:cNvPicPr/>
          <p:nvPr/>
        </p:nvPicPr>
        <p:blipFill>
          <a:blip r:embed="rId1"/>
          <a:stretch/>
        </p:blipFill>
        <p:spPr>
          <a:xfrm>
            <a:off x="684360" y="1268280"/>
            <a:ext cx="5975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iekte van het bewegingsapparaat die zich meestal op hogere leeftijd openbaa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 is een reumatische aandoening waarbij het gewrichtskraakbeen in kwaliteit achteruitgaat en dunner en zachter word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en degeneratieve 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488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gebeurt 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raakbeen verand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 ontstaan kleine scheurtjes spleten en groeven in het kraakbeen en botwoekeringen aan de randen van de aangedan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Irritatie van het gewrichtskap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één gewri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il_fi" descr="http://www.reumafonds.nl/_sana_/handlers/getfile.ashx/de582bf1-cad6-400a-a9dc-61472e104712/Artrose_gezond_en_artrotisch_gewricht.jpg"/>
          <p:cNvPicPr/>
          <p:nvPr/>
        </p:nvPicPr>
        <p:blipFill>
          <a:blip r:embed="rId1"/>
          <a:stretch/>
        </p:blipFill>
        <p:spPr>
          <a:xfrm>
            <a:off x="4788000" y="4149720"/>
            <a:ext cx="41400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Meest voorkome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n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onderru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knieë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heupen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du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ving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il_fi" descr="http://groesland.nl/images/Artrose.jpg"/>
          <p:cNvPicPr/>
          <p:nvPr/>
        </p:nvPicPr>
        <p:blipFill>
          <a:blip r:embed="rId1"/>
          <a:stretch/>
        </p:blipFill>
        <p:spPr>
          <a:xfrm>
            <a:off x="3995640" y="1413000"/>
            <a:ext cx="43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ntstaan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, gaat niet o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felijke oorzaak(mogelijk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schadiging van gewricht door langdurige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spo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we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vergew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klach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, vooral na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oeite met be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wel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oudingsafwij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ff0000"/>
                </a:solidFill>
                <a:latin typeface="Verdana"/>
                <a:ea typeface="Verdana"/>
              </a:rPr>
              <a:t>Voorkome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overbelasting van 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il_fi" descr="http://ikslijtsnel.punt.nl/upload/verkeerde_houding.jpg"/>
          <p:cNvPicPr/>
          <p:nvPr/>
        </p:nvPicPr>
        <p:blipFill>
          <a:blip r:embed="rId1"/>
          <a:stretch/>
        </p:blipFill>
        <p:spPr>
          <a:xfrm>
            <a:off x="755640" y="2997360"/>
            <a:ext cx="266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en om te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el medicijnen voor symptom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stillers,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contrac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contractuur= 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l_fi" descr="http://www.pedicure-asten.nl/attachments/Image/reuma1.jpg"/>
          <p:cNvPicPr/>
          <p:nvPr/>
        </p:nvPicPr>
        <p:blipFill>
          <a:blip r:embed="rId1"/>
          <a:stretch/>
        </p:blipFill>
        <p:spPr>
          <a:xfrm>
            <a:off x="3708360" y="3789360"/>
            <a:ext cx="446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efenen en fysiotherap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m belasting van gewrichten te vermind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atie (kunst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il_fi" descr="http://www.stop-artrose.org/wp-content/uploads/2010/01/heup-kunstgewricht.jpg"/>
          <p:cNvPicPr/>
          <p:nvPr/>
        </p:nvPicPr>
        <p:blipFill>
          <a:blip r:embed="rId1"/>
          <a:stretch/>
        </p:blipFill>
        <p:spPr>
          <a:xfrm>
            <a:off x="6012000" y="4653000"/>
            <a:ext cx="2808000" cy="1989000"/>
          </a:xfrm>
          <a:prstGeom prst="rect">
            <a:avLst/>
          </a:prstGeom>
          <a:ln w="0">
            <a:noFill/>
          </a:ln>
        </p:spPr>
      </p:pic>
      <p:pic>
        <p:nvPicPr>
          <p:cNvPr id="255" name="il_fi" descr="http://webserv.nhl.nl/~oostmeij/fig-map/cartoons/obelix_ik%20ben%20niet%20dik_b.jpg"/>
          <p:cNvPicPr/>
          <p:nvPr/>
        </p:nvPicPr>
        <p:blipFill>
          <a:blip r:embed="rId2"/>
          <a:stretch/>
        </p:blipFill>
        <p:spPr>
          <a:xfrm>
            <a:off x="684360" y="1916280"/>
            <a:ext cx="3456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mgaan met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dersteuning bij huishoudelijk verzorgende werkzaam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bukken en rei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passingen (verhoogd toilet, stoel, wandelstok, looprekje, rolstoel, orthopedisch schoeisel)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l_fi" descr="http://www.blessurewinkel.nl/html/afbeeldingen_specifiek/specifiek_18.jpg"/>
          <p:cNvPicPr/>
          <p:nvPr/>
        </p:nvPicPr>
        <p:blipFill>
          <a:blip r:embed="rId1"/>
          <a:stretch/>
        </p:blipFill>
        <p:spPr>
          <a:xfrm>
            <a:off x="4967280" y="3716280"/>
            <a:ext cx="4176720" cy="3141720"/>
          </a:xfrm>
          <a:prstGeom prst="rect">
            <a:avLst/>
          </a:prstGeom>
          <a:ln w="0">
            <a:noFill/>
          </a:ln>
        </p:spPr>
      </p:pic>
      <p:pic>
        <p:nvPicPr>
          <p:cNvPr id="259" name="il_fi" descr="http://www.remicade.nl/images/foto036_134x239.jpg"/>
          <p:cNvPicPr/>
          <p:nvPr/>
        </p:nvPicPr>
        <p:blipFill>
          <a:blip r:embed="rId2"/>
          <a:stretch/>
        </p:blipFill>
        <p:spPr>
          <a:xfrm>
            <a:off x="2367000" y="4121280"/>
            <a:ext cx="1276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hoefte aan warmte dus niet wassen met koud water (vaak warm in hui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arme wollen kl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ociale contac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ttps://www.youtube.com/watch?v=NhMe3_3Q_j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il_fi" descr="http://www.nijha.nl/cache/paragraphs/718516_f1_800x600.jpg"/>
          <p:cNvPicPr/>
          <p:nvPr/>
        </p:nvPicPr>
        <p:blipFill>
          <a:blip r:embed="rId1"/>
          <a:stretch/>
        </p:blipFill>
        <p:spPr>
          <a:xfrm>
            <a:off x="3203640" y="328464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is reum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: verzamelnaam voor vele gewrichtsaandoeningen en aandoeningen aan pezen en spier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toïde artritis (artritis is ontsteking van 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Reumatoïde artrit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e vorm van reum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uto-immuun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vanaf 4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Verdana"/>
                <a:ea typeface="Verdana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jaar, vaker bij vrouwen dan mannen, t.g.v botontkalk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van gewrichtskapsels die de binnenkant van de gewrichten bekl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orzaak niet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Gewri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in gewrichtskapsel, gewrichtskapsel wordt dikke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pijn,zwelling,w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Kraakbeen verdwijnt op langere duu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bewegingen pijn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het botweef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il_fi" descr="http://www.reumafonds.nl/_sana_/handlers/getfile.ashx/b70910e5-59d6-4013-9084-772c151284aa/Gezond%20en%20ontstoken%20gewricht.JPG"/>
          <p:cNvPicPr/>
          <p:nvPr/>
        </p:nvPicPr>
        <p:blipFill>
          <a:blip r:embed="rId1"/>
          <a:stretch/>
        </p:blipFill>
        <p:spPr>
          <a:xfrm>
            <a:off x="1187280" y="1413000"/>
            <a:ext cx="448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kleine gewrichten in handen en voeten, later ook de groter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(vooral s’ochtends,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ren(dwangsta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nobbels door botaangroe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 en in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l_fi" descr="http://www.bndestem.nl/multimedia/archive/00737/reuma_737805b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16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Nog meer 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oeid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armoe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erk zweten, vooral `s nach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il_fi" descr="http://www.nutrigenerics.com/UserFiles/Uploads/vermoeide-vrouw.gif"/>
          <p:cNvPicPr/>
          <p:nvPr/>
        </p:nvPicPr>
        <p:blipFill>
          <a:blip r:embed="rId1"/>
          <a:stretch/>
        </p:blipFill>
        <p:spPr>
          <a:xfrm>
            <a:off x="5219640" y="3213000"/>
            <a:ext cx="3529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Onderzoeken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melijk 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(Röntgenfoto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l_fi" descr="http://www.kennislink.nl/system/files/000/031/861/small/RheumatoideArthritisAP.jpg?1257332167"/>
          <p:cNvPicPr/>
          <p:nvPr/>
        </p:nvPicPr>
        <p:blipFill>
          <a:blip r:embed="rId1"/>
          <a:stretch/>
        </p:blipFill>
        <p:spPr>
          <a:xfrm>
            <a:off x="6732720" y="2060640"/>
            <a:ext cx="1942920" cy="2520720"/>
          </a:xfrm>
          <a:prstGeom prst="rect">
            <a:avLst/>
          </a:prstGeom>
          <a:ln w="0">
            <a:noFill/>
          </a:ln>
        </p:spPr>
      </p:pic>
      <p:pic>
        <p:nvPicPr>
          <p:cNvPr id="230" name="il_fi" descr="http://www.sleutelstad.nl/public/images/241962265.434485-rontgenfoto%20jpg.jpg"/>
          <p:cNvPicPr/>
          <p:nvPr/>
        </p:nvPicPr>
        <p:blipFill>
          <a:blip r:embed="rId2"/>
          <a:stretch/>
        </p:blipFill>
        <p:spPr>
          <a:xfrm>
            <a:off x="4356000" y="2060640"/>
            <a:ext cx="201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 voor genez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él medicijn voor sympto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Pijnstillende 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Gebruik van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Ziekte vertragende reuma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eefregels: gedoseerde rust, oefeningen om stijfheid en contracturen tegen te gaan, geschikt matras, voeding met voldoende eiwit en ka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eren: kunst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Aandachtspunten bij zorgvragers met chronische reum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06028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dhouding bij bed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amshouding (aangepaste sto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urpre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choei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Temperatuur en 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50:28Z</dcterms:created>
  <dc:creator>Gebruiker</dc:creator>
  <dc:description/>
  <dc:language>en-US</dc:language>
  <cp:lastModifiedBy>Sandra Kreuning</cp:lastModifiedBy>
  <dcterms:modified xsi:type="dcterms:W3CDTF">2020-10-18T17:12:13Z</dcterms:modified>
  <cp:revision>63</cp:revision>
  <dc:subject/>
  <dc:title>RHEU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6EAFB7E375B4FA8D2FF7FD64788B7</vt:lpwstr>
  </property>
</Properties>
</file>