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6E0F-5990-411A-8F7C-B6C4EF906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E5CE-DFC1-4A20-8D7E-E698025E52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7562-C561-4073-9037-0F124629E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08AC-2C3E-404B-9CE9-71F924B9FB1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22151-14B2-4458-9553-C11BF9EC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8C1C-BD5C-4DCF-9B52-7F8D8F74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CA3AE-E4B6-4115-BB14-685AB122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122F-3288-42A5-B88C-06A25FD5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C29B-81A1-47D8-A598-EF8F2523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2DB1-E617-47BD-BC93-27381AC8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C0C9-BE83-4CA9-A78E-7BCB632F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5029F-E2C5-4A2E-83B5-9E31902F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97F02-0947-4D1F-BEB4-DCD9027C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517DC-F27C-40C6-B854-FD2484E6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15EC-1235-4FB2-A2D2-232AB41E99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55F4-7F2D-4473-A755-80163860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5A94D-F77A-47F7-9BF9-8DC8AAC3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D3748-8F1C-4070-950E-951EFAD9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C8EFF-18DC-47F7-B1E4-20410253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DFF2-8FCB-4CE6-9247-16A4B5BC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DD2F6-CCDE-461B-8D3E-744ACACA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59CE2-1F4D-4551-BA78-218FF5FA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FA520-C40F-4544-B40B-CD74F70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8072-B8E1-4387-A552-68F822FE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6AB00-5854-4ACA-B3BF-D976DB8A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7D98-D8E6-44C7-81E3-35CC8DD5A03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DD5D6-A62D-4295-A01E-1C4BF0BD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366F6-0833-4A03-AEE4-0DA1E46F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CE62C-F6BA-45A9-BE35-276B969F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1EB83-0A5F-4E04-AE79-B4117CE7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2CC86-D175-43CD-AD41-E7E5A45B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92AA8-EC27-4142-A821-E5D58738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49A25-DD8D-4C64-B4D0-AC9B0D74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04FCF-3A7E-4C2B-A433-EDB746B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39258-95B3-42B4-A143-24387E4A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C25D6-E563-45EA-8CAB-FAC7604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7E57-4C51-4CDA-8480-E9251570ED5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8501E-5983-461C-9CCC-A7FBD494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BA561-8583-4F84-8ECB-C2ED41DB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3A197-85E4-42CB-B7F9-B31957BB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B3971-00A2-44A4-B405-1F6FE3C0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B51E7-98FF-419A-B11F-B68FA2A7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89A39-DA24-40AC-9ABD-BDC3BF19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C8FC4-610C-4D7E-B58B-B7551411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6E916-73A3-4EC9-90AF-3A481B0C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E942E-166C-482F-8B34-0A72F3D8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534B4-5CC3-4B17-932D-324F0DA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A997-ECE2-47FC-897B-42460B45734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F6B38-2103-4F78-A87E-D02BF2F5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DFA46-5A99-44DC-9EBC-7701326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A6801-DA29-4AD8-B974-59B0897A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6B745-72DE-47AC-A8BF-CF5FA77C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8B124-777F-4324-9243-5A52B96B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DB99A-98FC-4EDD-81D2-042781C1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359E6-D764-4520-A32A-8561D58E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A1D87-4B0B-4CC9-B3AF-E324B7D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94087-FC3B-46D7-AB87-55533233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CDE71-E0AF-456E-AC95-ED1018B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7B74-143A-4035-B31A-286E8A0908B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70CE5-E6FD-4557-962A-C8186052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2207E-281E-4EF4-801E-96224FDB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73240-EC5C-49AD-9BAF-8AB4757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7D582-046F-4EF6-89B1-62D97054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84B21-3F46-48FD-AFE4-213C7AAC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07EE7-7E17-4FD1-9F33-A19D79D0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18022-AB77-443D-B822-C452BDAB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BA5A8-F17D-4BD1-B82D-72A60FC2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0538D-7A66-4E41-9E3B-C44335F9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A3E19-11CB-4D4E-86D2-25584D60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2788-70C2-468C-804C-8E1B9579F05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DF1E4-6CE5-4948-A4AD-78535B40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0B9E9-89F3-44B4-9741-CA781125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FCE52-DB15-4553-BA72-B9C61BC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1B3FE-5317-45D2-929B-7AB31D14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8EE5B-A0C3-437D-9CF3-965E1713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D7EE4-E7AC-475C-A149-2F08B8A0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F4949-054A-4D0B-A64C-E0540F5D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7F266-84D3-4370-B476-3FC1F2B5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02F71-0839-4D02-B723-4B92FBFD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562F7-1C3F-4EC9-91A7-8BEAAAC1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F619-0263-4CA2-8B4D-D9EEF4342BC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88905-D4C9-4C79-981E-844AB30B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9BDCA-D53A-43C1-98D9-71F4C34D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C0C39-4360-4216-BDD0-6C7EE3C4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A3D19-CF33-45DF-A008-57E1B54D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D9F52-18F8-49EA-9480-320849A7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4F571-D4C5-45B7-9D71-584C4FD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FD47B-301E-442E-AD9C-EC771F7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247BF-34CA-4B24-8C67-610ED71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28D8F-9A8E-4E1E-B7BC-041AAA58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C5217-CC7B-4933-B9AF-7096A4EF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5739-5AB1-4EB7-A2A1-5653808D5AC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62089-57A2-485F-B164-1F393A52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A6766-0903-4089-9AE3-18421C04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47706-4C23-4809-8AD7-B63AEEC7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6DCDD-97D2-4907-BF08-E7BA9865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1F79E-5CFF-433D-9F86-4D5C7577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D44F7-6234-49E7-A4F5-BD55B507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C0E1B-575B-4394-A8EA-3E56CC7F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24C1D-0848-4017-BDDE-6D5382CF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E06A5-3AC9-4C65-9C8C-701D2A7B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26345-846E-41FA-9876-B7BAF99C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F561-CDBD-4E53-B68B-A15606EABF7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C4464-D597-4228-A708-682499A8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A8F55-2D7B-461C-BF69-2D1043FA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F9FD6-BB0B-4F49-B9A4-95984008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B0994-CE9F-4C15-BC81-E336AF74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E3C7E-2816-407F-85D7-D5C3B9DB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73848-73CC-453E-A474-B6A9336F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1B2A0-0929-43C0-BE72-D52DBD2E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800DC-F408-44D4-B65B-CD2D89F6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BC6C4-B836-44BB-89E8-68C41691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6C888-D4BA-48B7-A50C-7AF5FD07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1E91-9807-4B8A-9810-994C22ECB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7B60-4D66-4F21-9897-F78B0DAAFE6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40E93-D8EE-4667-B917-97BB6B1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66CE9-B876-4FDE-9C71-1C606D4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0435C-96CB-426E-9026-DAD5226E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CA3CB-1CB0-4638-BC79-549194EF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69E0F-A876-4B5A-89AE-AB396354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D7A2-67BB-4E65-A5CB-26A397A30A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69B3-21FB-4AC3-AE51-25D2109294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9718-AFD5-4865-907A-9485DE485D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F7C5-4BBA-4A1C-A01D-AEDE011A8D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AEF-04C3-40A3-8330-2B04F69B73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D56-204A-4309-A21A-84CB23D73B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EAE-6344-4EA3-9203-0BCB19CF40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677-1261-494C-A5F2-7756649AAD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3EF-920A-4864-A4D4-BC7E9FB21E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1AA4-1F19-47DB-9840-F84597DA1B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ECF-DEFF-439D-BE77-319577B043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691-C2E7-49AA-BE89-5D60798527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38B-2A16-4D96-BEC1-D88FE62743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281-89D2-44A4-944B-0B98ABEFBB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4B2-629C-4CCB-9740-72A323410E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E45-6753-44C9-824B-C9CF90208A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9BD-5348-4F67-9305-55357ABCBF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2C5D-E70D-43A2-BAE9-7FD28BA6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8B60-0920-4E4C-B05A-B020C71D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2ECF-190C-431B-B25D-21E5C98B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5043-92CC-4D38-BB0E-1FCE72A5B5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F2FE-10A8-45B2-892C-FB6AF56F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AD63-0AD7-4043-A98C-13898FAC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2060-2E39-4C70-921E-FAEB5034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A3FA-4179-4A8B-95F8-19D11C79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A840-122A-4570-BFA6-6309CFE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874C-7945-475F-959E-3B74668C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F1BB-240E-4461-A603-88DBD29B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9A58-BD8C-42C4-B05E-F35FC451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BD14-B199-4AE5-95F7-1A97F69E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6CA6-BA48-456B-A5D0-65EB0A2C49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5EBE-E305-4D04-8DFB-FDA8BAD52C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2500-CB90-4819-ADEC-CFB6502A54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0BEE-4AB0-4E9B-898A-D0C395D668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8B561-4EC8-4AA8-92B4-4EE1B1DD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EC320-170A-4081-9A0D-EFEFF0B1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CDE6-15E9-4D79-8D01-CA556883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68E1-4A66-4CAB-A5EC-2739F614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9DA36-212E-4B31-82D7-EB696671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FBE7-973B-40D3-B335-60CDAA003E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9FE3-CBBC-4030-BC20-539A2475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85E9-0648-4412-A5FE-49F2F22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BDB5-C625-45E7-975D-E63AD89F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B2A7-BD5E-4AC0-B829-6E67DA76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6900F-1FBD-4AA4-B8BC-9A039A04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FFDA-8470-431B-8371-5BCD7988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12BA-2FED-45F5-8D3F-6E9D29DE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FDD5F-E35D-4A4D-80B1-6D46431A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2C280-1EE8-4357-9E25-7FCD9F1D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E10FC-BA25-4EB6-AC39-03DE68F4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A5CE-94F6-40D0-9F34-4A84978B9D6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239E-9C17-47DB-B461-015C7B93E08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1C68-1255-41E7-8AFE-345545F8E17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5F98-7DEE-479A-9C22-8811C6719D7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0AE1-3AD1-446D-A2A6-7DD38AF9E73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6E19-1621-4889-B4E5-9A07D7F1016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5AB-30DA-4361-AF28-28838FAB4DD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2163-1A08-4585-8B0C-98C82C94370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576-9389-471F-BFF9-E7E1EBB61C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4653-DE5C-4254-B33A-7EB608493FE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81B9-AC8D-49E5-999D-D25E55194D8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104F-2769-445D-8B91-65F010BB6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FCCA-F3E5-41FA-919F-EB810E4AB660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vrijdag 31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8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2258-1FEB-4D7A-B7C2-7703BF58CC3F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vrijdag 31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464-5AC0-4457-85E5-6703E0DBB948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vrijdag 31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015C-DF04-41BB-B57F-7A7D33A54CB5}" type="datetime2">
              <a:rPr b="0" lang="nl-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vrijdag 31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D8D5-9988-4D72-B533-766F790B0DE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9151-9AFA-468B-9BFF-5A0F4B3D0E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80800" y="1125000"/>
            <a:ext cx="659124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6600" spc="-1" strike="noStrike">
                <a:solidFill>
                  <a:srgbClr val="000000"/>
                </a:solidFill>
                <a:latin typeface="Arial"/>
                <a:ea typeface="Arial"/>
              </a:rPr>
              <a:t>Voeding</a:t>
            </a:r>
            <a:br>
              <a:rPr sz="6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rteringsstelsel vark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VE31/4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. Van Gorp/L. Raedts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GO/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lokd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443280" y="1230480"/>
            <a:ext cx="2484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dsel wordt gekneed en speeksel wordt er doorheen gemeng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tmeel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ertering door amyl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9B9-0040-4A64-8741-9106D45E4E3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216000" y="1230480"/>
            <a:ext cx="6087960" cy="43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416C-AB6A-4A18-BA90-C74F578C8FE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764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6" name="Rechte verbindingslijn met pijl 8"/>
          <p:cNvCxnSpPr>
            <a:stCxn id="765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67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hemische vertering met enzym pepsi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psine breekt eiwitten af tot aminozu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 maakt zoutzuur zodat pepsine goed werkt en dat bacteriën gedood worden. pH = 2 à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poort (uitgang van de maag) zorgt ervoor dat er alleen kleine deeltjes uit kunn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ACCA-EF6C-47C8-B934-25ED41EF6BF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B15-1D64-4842-A004-85F6AF7FA8C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774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Rechte verbindingslijn met pijl 8"/>
          <p:cNvCxnSpPr>
            <a:stCxn id="775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77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vleeskl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FF34-435C-4AC7-9C8E-22B5EDEB29F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ijdelijke aanduiding voor inhoud 2"/>
          <p:cNvSpPr/>
          <p:nvPr/>
        </p:nvSpPr>
        <p:spPr>
          <a:xfrm>
            <a:off x="971640" y="1484280"/>
            <a:ext cx="747396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Produceert alvleessap dat wordt afgegeven aan de </a:t>
            </a:r>
            <a:r>
              <a:rPr b="0" lang="nl-NL" sz="2600" spc="-1" strike="noStrike">
                <a:solidFill>
                  <a:srgbClr val="f79646"/>
                </a:solidFill>
                <a:latin typeface="Arial"/>
                <a:ea typeface="Arial"/>
              </a:rPr>
              <a:t>12-vingerige darm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Alvleessap bevat veel enzymen! Pepsine, lipase en amyl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ENZYM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psine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vertering van aminoz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pase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vertering van vet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mylase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vertering van koolhydraten tot gluc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1E13-3EE4-43AD-94AE-2ECB4DA442C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784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6" name="Rechte verbindingslijn met pijl 8"/>
          <p:cNvCxnSpPr>
            <a:stCxn id="785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87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ever &amp; Galbla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276A-52E9-43C5-A4A0-5AFBB94DD31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Afbeelding 4" descr=""/>
          <p:cNvPicPr/>
          <p:nvPr/>
        </p:nvPicPr>
        <p:blipFill>
          <a:blip r:embed="rId1"/>
          <a:stretch/>
        </p:blipFill>
        <p:spPr>
          <a:xfrm>
            <a:off x="684360" y="1636560"/>
            <a:ext cx="82119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001F-0225-4C06-A0EC-EBDD72C5C56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794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6" name="Rechte verbindingslijn met pijl 8"/>
          <p:cNvCxnSpPr>
            <a:stCxn id="795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97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2-vingerige d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erste deel v.d. dunne darm (is ongeveer 12 vingers la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ordt bicarbonaat toegevoegd om de zure voedselbrij van de maag weer te neutraliseren. (in de maag is pH 4, daarna pH 6 of 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oor alvleessappen, darmsappen en gal wordt de vertering van vetten, eiwitten en koolhydraten voortgez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6A8F-98C8-4F79-BFFE-CF922C7EE33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195F-BF57-42C1-88B3-77B2DE522F9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804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Rechte verbindingslijn met pijl 8"/>
          <p:cNvCxnSpPr>
            <a:stCxn id="805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807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erkv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oe werkt de spijsvertering van een varken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t in de juiste volgorde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ok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kk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del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ind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deze hetzelfde als die van de men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E965-058F-4176-BBF0-961D5F374C1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B109-FD1A-4E14-AB4F-215016369EA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rokken voedsel afgebroken tot voedingsstoffen. Darmwand laat voedingsstoffen door naar het licha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ijdelijke aanduiding voor inhoud 2"/>
          <p:cNvSpPr/>
          <p:nvPr/>
        </p:nvSpPr>
        <p:spPr>
          <a:xfrm>
            <a:off x="1835280" y="2924280"/>
            <a:ext cx="66355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 is heel lang! Hier vermengen enzymen en voedsel zich 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ingsstoffen (glucose, aminozuren, vetzuren) worden opgenomen in het blo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rmsap wordt toegevoegd om de overgebleven voedingsstoffen te verteren. In het darmsap zitten amylase, lipase en pep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A599-B023-4E38-8DB1-990047D5B4D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815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Rechte verbindingslijn met pijl 8"/>
          <p:cNvCxnSpPr>
            <a:stCxn id="816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818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ikke darm &amp; Blinde d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1547280" y="1197000"/>
            <a:ext cx="7139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Dikke da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Afbraak r.c. tot vetzuren. Deze worden opgenomen in blo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Water uit voer gehaald (resorp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linde da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ij de mens geen functie, kan ontstoken rak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ij planteneters worden harde celwanden verteert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Endeldarm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, laatste stuk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 vorming mest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D21D-3E2C-4FC5-8A47-A45DAE4B7BC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vattende vid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Onlinemedia 4" descr=""/>
          <p:cNvPicPr/>
          <p:nvPr/>
        </p:nvPicPr>
        <p:blipFill>
          <a:blip r:embed="rId1"/>
          <a:stretch/>
        </p:blipFill>
        <p:spPr>
          <a:xfrm>
            <a:off x="25560" y="981000"/>
            <a:ext cx="9065880" cy="5099040"/>
          </a:xfrm>
          <a:prstGeom prst="rect">
            <a:avLst/>
          </a:prstGeom>
          <a:ln w="0">
            <a:noFill/>
          </a:ln>
        </p:spPr>
      </p:pic>
      <p:sp>
        <p:nvSpPr>
          <p:cNvPr id="82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7F4F-3F29-4684-81C8-6BD04A45281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8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8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49200" y="1268280"/>
            <a:ext cx="6645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  <a:ea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C434-D5A5-4224-AC9D-564981A9E6F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Afbeelding 4" descr="Afbeelding met kamer&#10;&#10;Automatisch gegenereerde beschrijving"/>
          <p:cNvPicPr/>
          <p:nvPr/>
        </p:nvPicPr>
        <p:blipFill>
          <a:blip r:embed="rId1"/>
          <a:stretch/>
        </p:blipFill>
        <p:spPr>
          <a:xfrm>
            <a:off x="1062000" y="2538360"/>
            <a:ext cx="7020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ijd ov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erken aan voedermiddelenlij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DEF3-6583-4D08-85D1-A5076AFBCC8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kennis werkv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186920" y="1341360"/>
            <a:ext cx="72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rm 2-tal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 per 2-tal een A3 papi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ies een van de volgende onderwerpen: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ondholt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galblaa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lokdar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12-vingerige 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a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dunne 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alvleeskli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dikke 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lev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linde 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la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B89-9FBF-42DC-83CF-C3D4AD98E03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ervolg werkv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eken op het blad hoe jouw onderwerp eruit zi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chrijf op wat je weet over je onderwerp. Denk aan;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functie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nzym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krach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amenwerking met andere organen?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wat wordt er verteer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ang deze onderdelen klassikaal in de juiste volgorde. En bespreek deze in de juiste volgor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3447-3B90-4724-BC86-507C6AEE1AB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ragen m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e Wikiwij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48A7-1FEE-4EAC-BEE7-5503F0ACF9D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1547280" y="1052640"/>
            <a:ext cx="6634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eef de juiste benaming bij de cijf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1671-4558-4708-96CE-31897B4109B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Afbeelding 4" descr=""/>
          <p:cNvPicPr/>
          <p:nvPr/>
        </p:nvPicPr>
        <p:blipFill>
          <a:blip r:embed="rId1"/>
          <a:srcRect l="0" t="53935" r="0" b="0"/>
          <a:stretch/>
        </p:blipFill>
        <p:spPr>
          <a:xfrm>
            <a:off x="1774800" y="1868400"/>
            <a:ext cx="64072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826560" y="213372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-darm 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859E-B5A2-4A45-9AC6-A56BDF897C9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Afbeelding 4" descr=""/>
          <p:cNvPicPr/>
          <p:nvPr/>
        </p:nvPicPr>
        <p:blipFill>
          <a:blip r:embed="rId1"/>
          <a:stretch/>
        </p:blipFill>
        <p:spPr>
          <a:xfrm>
            <a:off x="4622760" y="1111320"/>
            <a:ext cx="417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ype voedsel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 hoort bij wa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E8B0-6929-414F-81B8-0B67AB086CB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Afbeelding 6" descr=""/>
          <p:cNvPicPr/>
          <p:nvPr/>
        </p:nvPicPr>
        <p:blipFill>
          <a:blip r:embed="rId1"/>
          <a:stretch/>
        </p:blipFill>
        <p:spPr>
          <a:xfrm>
            <a:off x="1604880" y="1916280"/>
            <a:ext cx="71532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734" name="Rechte verbindingslijn met pijl 8"/>
          <p:cNvCxnSpPr/>
          <p:nvPr/>
        </p:nvCxnSpPr>
        <p:spPr>
          <a:xfrm flipV="1">
            <a:off x="3634920" y="2275920"/>
            <a:ext cx="1585080" cy="432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35" name="Rechte verbindingslijn met pijl 9"/>
          <p:cNvCxnSpPr/>
          <p:nvPr/>
        </p:nvCxnSpPr>
        <p:spPr>
          <a:xfrm>
            <a:off x="4643280" y="2276280"/>
            <a:ext cx="721440" cy="432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36" name="Rechte verbindingslijn met pijl 16"/>
          <p:cNvCxnSpPr/>
          <p:nvPr/>
        </p:nvCxnSpPr>
        <p:spPr>
          <a:xfrm>
            <a:off x="3635280" y="3068280"/>
            <a:ext cx="1729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37" name="Rechte verbindingslijn met pijl 19"/>
          <p:cNvCxnSpPr/>
          <p:nvPr/>
        </p:nvCxnSpPr>
        <p:spPr>
          <a:xfrm>
            <a:off x="4643280" y="2265480"/>
            <a:ext cx="659520" cy="1164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38" name="Rechte verbindingslijn met pijl 25"/>
          <p:cNvCxnSpPr/>
          <p:nvPr/>
        </p:nvCxnSpPr>
        <p:spPr>
          <a:xfrm>
            <a:off x="4140000" y="3665520"/>
            <a:ext cx="1162440" cy="397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rbivo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evinden zich heel veel micro-organismen (eencelligen en bacteriën) die celwanden van planten kunnen afbre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lindedar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evinden zich heel veel micro-organismen (eencelligen en bacteriën) die celwanden van planten kunnen afbre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17F6-C833-431B-B4D9-126DCA073EC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983880" y="14266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eeksel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nzym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mylas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3F4B-08FC-4621-83F8-14531F6F171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2" descr=""/>
          <p:cNvPicPr/>
          <p:nvPr/>
        </p:nvPicPr>
        <p:blipFill>
          <a:blip r:embed="rId1"/>
          <a:srcRect l="4358" t="0" r="4358" b="0"/>
          <a:stretch/>
        </p:blipFill>
        <p:spPr>
          <a:xfrm>
            <a:off x="984240" y="2363760"/>
            <a:ext cx="6972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71640" y="1426680"/>
            <a:ext cx="6635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2BCE-0189-4C3E-9268-503CE08454E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Afbeelding 1" descr=""/>
          <p:cNvPicPr/>
          <p:nvPr/>
        </p:nvPicPr>
        <p:blipFill>
          <a:blip r:embed="rId1"/>
          <a:stretch/>
        </p:blipFill>
        <p:spPr>
          <a:xfrm>
            <a:off x="1214280" y="2224080"/>
            <a:ext cx="6715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71CA-56F5-4861-AFEE-2933FFF2F25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33360" y="1878120"/>
            <a:ext cx="6677280" cy="4464000"/>
          </a:xfrm>
          <a:prstGeom prst="rect">
            <a:avLst/>
          </a:prstGeom>
          <a:ln w="0">
            <a:noFill/>
          </a:ln>
        </p:spPr>
      </p:pic>
      <p:sp>
        <p:nvSpPr>
          <p:cNvPr id="753" name="Tekstvak 5"/>
          <p:cNvSpPr/>
          <p:nvPr/>
        </p:nvSpPr>
        <p:spPr>
          <a:xfrm>
            <a:off x="1908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ok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kstvak 6"/>
          <p:cNvSpPr/>
          <p:nvPr/>
        </p:nvSpPr>
        <p:spPr>
          <a:xfrm>
            <a:off x="17928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5" name="Rechte verbindingslijn met pijl 8"/>
          <p:cNvCxnSpPr>
            <a:stCxn id="754" idx="2"/>
          </p:cNvCxnSpPr>
          <p:nvPr/>
        </p:nvCxnSpPr>
        <p:spPr>
          <a:xfrm>
            <a:off x="755640" y="2356920"/>
            <a:ext cx="1008720" cy="28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56" name="Rechte verbindingslijn met pijl 9"/>
          <p:cNvCxnSpPr/>
          <p:nvPr/>
        </p:nvCxnSpPr>
        <p:spPr>
          <a:xfrm flipV="1">
            <a:off x="1115640" y="3789360"/>
            <a:ext cx="1080360" cy="255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9:58:02Z</dcterms:created>
  <dc:creator>Martin Drenth</dc:creator>
  <dc:description/>
  <dc:language>en-US</dc:language>
  <cp:lastModifiedBy>Leon Raedts</cp:lastModifiedBy>
  <dcterms:modified xsi:type="dcterms:W3CDTF">2020-03-01T08:57:54Z</dcterms:modified>
  <cp:revision>97</cp:revision>
  <dc:subject/>
  <dc:title>Gebruik van Powerpoint sjablonen</dc:title>
</cp:coreProperties>
</file>