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6386-11FB-428D-BAC6-1CF58491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99A-8DCC-4C27-8FA1-7F2F41DF22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21E0-A909-4E56-8677-7E311C60B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5227-9583-4F4C-9BB1-AF98B138A04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224C1-041F-4950-B550-B3B0480C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30E49-39D5-45EF-8D58-8439730F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F6AD9-DDF5-4AA0-A384-D3C301AF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48AE7-F5E2-48E1-8442-BEA07AC8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7F99E-3097-4B70-BC59-F38F532C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DCC28-8A85-42F7-A270-CDA5C86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105CF-29C2-4B53-8245-6392475F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FA775-A44E-49D8-B282-07F4FEA2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A53EC-8E14-430F-B194-6656649E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DBC0C-8EA0-4A28-B9BD-7DDE1C8B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9DD3-8858-448C-BFFA-4BCE5103DAC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4209F-59CD-4C0A-BA0F-315C6359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19F4-F2CD-4CF4-AB99-AFCBB15D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8FCF7-0FAC-4ADD-A390-D606F865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685AC-B927-40BB-811C-728C6434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02B1E-8153-4232-9128-52FC70BE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57837-9652-4CBC-B5F2-E93BA013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636F4-AAF7-4D9C-B930-85E212D6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89A00-66DD-45A2-A60C-29E341AD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697EF-639E-4B5D-A345-1530C247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D5D70-E737-4CC6-89FA-91BA4855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8BD5-38AF-4337-A844-8F5FD641C44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C0D0D-2427-4045-8EFC-DA075926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0D1AB-1417-4496-87B2-2A361DDD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95C75-2F81-4551-9978-350F7CCD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B8C4F-9EAF-402D-9EC9-7C42BF77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93F2E-EAF6-4068-A841-454584F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267A4-8ADD-4C63-A833-C13EF5DC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AC5D4-3D6D-4050-8D46-684E59EC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DB915-374E-426B-B76A-75EB0ACE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4C5EA-8D3C-4E16-9A4A-F3FC1A17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36B73-205B-4923-9467-9703D74A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2F9C-E0ED-44DB-B110-C83408DF301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27568-1AB5-41B1-9081-6B1772C1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17FD4-66A9-44F2-8DDD-7F309241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7E929-149B-4916-A3E1-28A78F97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B1465-CAD6-45BC-B172-3EF17573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A8BEA-DB8A-4F46-9457-D7C711A8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A2ECF-D5C3-4D8A-95B1-F832822F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2FA45-9F23-43DC-B113-E91CF7DC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AF09F-E5EE-4515-9702-932EE5DC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3E8FB-1B43-4FFC-8700-77BE1327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92CBF-9F4E-490A-AAAD-4E28B51E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2BF6-A9B4-4678-A926-83C1C98352A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532AD-55E3-4AA0-B56E-DC46CB30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DC82E-75C3-4381-81CC-AF2D46A9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D4B59-9562-4772-81C7-02269EC3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3017B-4F73-4E82-9F30-5246AF86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C79A3-1000-43A8-946E-91493868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B35FF-159C-4D5E-8DD0-B480CE99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F82E2-77E6-4DD5-B09B-E6EF2ADB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C4D85-45FD-447E-A028-BB510880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09F75-3D95-4AB2-A6FE-9A80D40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B768B-DD6A-4B62-8AFB-A55633A3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DC1A-58AF-4D21-A09B-5278852CDA9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E315D-53AE-42A8-887E-92F832B6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0467D-6C6A-4C7C-8258-1010CE23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7FEA3-084D-4F13-BA7F-29C274E4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04847-4838-4688-BCD4-10F832EE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67729-C6CC-43B0-B30D-D761C2C9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D2577-8C36-464F-8FE6-59A8CF5B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331ED-DACE-4C3C-A1CA-A5B5DBED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AC1A7-35AC-4E17-8271-492A0229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BD9EC-C4DF-4437-99E4-A4722D10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1C410-3DC0-474A-A63E-2F45DEB4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28BE-2645-4F26-9B05-A2C9D537EC1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8777A-D169-4BC0-B23A-2CE640AD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FD734-91B9-4DC8-B0C4-90432174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0888C-77BB-449A-93AB-4CC8FD24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217A0-AC85-41B9-9FC2-85A45EB7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ADD2E-DE16-4102-AFA3-50225C25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E9551-B29D-4287-B7A0-F998C1C1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94D36-422D-44DD-A660-C1D8A73D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0DD74-CAC6-4ECB-A2EB-D7F4264B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D64E9-4A82-4489-A70B-0021BF10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5D929-836C-4A6C-9AC1-D04EFEC2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1BCA-4C55-4B93-97ED-C1595A3C23F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2CEDB-9E04-483F-A110-C2B0DB61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D3076-8CE4-48DE-8CE8-48812258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D75F3-2D1F-4BEE-8C13-966A9D20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EE7E9-7FCA-488F-8F9A-29B35F4A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B3458-DB80-43F2-AF31-A1CE805F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75C04-56A4-45D8-A03E-FE8C3DF2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7E2C4-5390-4FC1-9659-F4D90752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CFA89-FCC3-467D-AFBC-EBA4BE8C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D74DF-1014-434E-9841-CCE66828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5D417-237F-4D04-B771-D8507726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7A333-64FA-481C-A040-3C3F904B448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934D5-8B7D-4E28-A36B-03E43923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9B63B-439A-4989-951C-EC2315DD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FA2EA-6E5B-4A93-8FF6-0E6A922B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989C0-838F-423E-B60F-801FA298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A6EB6-F02A-4EA0-8631-3C940EB7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A520E-7371-4FBF-9D63-CED14F3B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9420F-D6A1-4A9B-9164-DFDE5098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A680C-CE03-4EBC-A2BB-6707F468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A62E6-05B1-4FA9-A24C-C3E98B1D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F48E2-F41D-472A-839B-76091446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3D60-25AA-4397-A815-B2778F651B2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9E3EA-4022-417F-B325-02B8CD89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28C7C-6E9C-4986-A335-27C83238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7CC6F-F32C-4FB3-A005-679092AC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EBB97-6C05-42E5-9CE8-3A1A59E8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58FF0-E82F-47FD-BD54-B4A74495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50487-D10E-42B2-9D6D-247B247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FE3B5-CB4F-49F6-A58E-AF683EF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E7AFE-F673-47DF-94A8-905AC26F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E57AB-C181-47F0-ACAD-A2B815B5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7AEA9-29CB-49D2-925C-F505805F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3A5F-B603-44C2-A28C-9634346DC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3F3A-C994-4E21-840A-05C9E792B2A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A9024-B0AC-44D5-9BB0-3AE41EB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02C55-533E-4729-8021-0A69A7FF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8A981-E414-4DA0-A7B9-EB26394E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B276F-6813-40CC-968E-17F2D735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123ED-A54E-4CE2-A45D-1F807202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4722-0803-4354-B500-20561B0F1F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5D4B-5ABB-4CCE-892B-9F188EADB6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1FB7-FE24-42F7-B53B-4618E2F26C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D348-8C2D-4E88-AF15-4791168120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C22-2947-465D-A39E-E869ABE75B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793-004F-4A55-BBA1-366F0994DB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603-ACB9-43BF-99A0-1A8CB565F8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524-6F54-46BD-9648-BFCB3D5C3E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17C-F17E-4ED9-8508-5B2FFD7C4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0CF8-848D-43A3-9B22-EA2E1794B4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195-1C8E-4805-8678-5E9E1026F4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B62-50E0-449A-867E-FC9AD34C01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806-F29B-411A-BA13-55398BF31C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B58-2091-40CD-8F2F-C3ABEA58B9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017-0929-40BE-98A7-2351EAF882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307-A0B3-4320-A98A-6CB03EF6D0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4E4-74B5-4D3E-9D9C-6EBBE6EC3B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28D9-7598-44AC-8061-05934742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F23C-B3FF-481C-8218-2540EB30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6038-58B0-44EC-A391-A869F915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BA1B-3F19-4173-9B41-8540EB0363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FD6B-0F24-47E6-9355-6B3DC0E8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29A0-7D8F-4873-AF3D-5B644987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7533-07DA-430F-A81D-C5E412F6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273D-F6FD-4B02-8C44-25B416CD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E809-E167-4F58-BB8A-49047081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AB9D-6643-487F-94B1-09F9C8F4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0F06-8D0C-451E-A187-A11A2C8C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CEB5-C655-43EF-A15B-96DF94B8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9E87-8092-4D27-A15C-20325A6E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E41C-B7BB-4AAC-A1A7-1A5872EB1B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8AB1-EDD1-4138-A931-D02142FEB07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4BB6-1C81-4999-A0B1-13271A2D0BB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A845-1CB2-44C3-A277-4EA095BDB7D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2283-AD61-4841-A05B-4C452E4C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2717-7CF9-4E1A-8898-1776EACB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1F20-1DA3-4493-ADDD-94AE6446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F79C-C0B6-4E83-BA79-6B217D6F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AD15-0EA3-45B8-82C0-B1106357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EEDD-2EEA-4244-97DE-75040E06CD4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130A-1BFB-4555-AB47-0F7DCD76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DE1B-F56E-4E55-9384-FBCBFE8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CD83-F3A4-41A1-B64E-92543FE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F8D6-8426-4BAF-8140-57BAFED9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9B299-7AD1-4D9B-826A-93216A32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17D86-DC12-4C37-9D08-0060A4B4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6F05E-6227-464B-8B8A-D9E6D9D9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B8C73-1685-4CE6-AB25-385EEAD6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5C9A0-687A-4829-ADB3-B05897A5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1C716-D58A-4B8B-A11B-D30EB458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EB76-AC1B-4ADF-BB55-E057BD4B5F6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7C0B-9574-40A6-81A5-0F5C2AD142E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C7FC-6FA1-4C9B-9C28-296CB575EEC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0DFE-71EE-4AB5-B0B0-2FDCC1F640C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10C6-904E-48C2-99FF-3CD9C75C043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4E7-B232-43FC-BF8C-82BDF12AA4A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4648-4B96-4857-8D46-F4806E7AB4E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0650-9B9F-4CDA-BEF7-A073582440A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747D-7DEC-444F-B282-F3A368EAEF7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ADC9-1DB8-4711-A211-1DFA258CE92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D6CD-113D-43F9-83B4-B10D16C2892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7C5A-5830-434A-93D1-383BD9061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0C24-3F30-4956-85F5-3CB046CB1772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vrijdag 31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8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887B-4574-4D3A-9DD0-CEAA86FCD33D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vrijdag 31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FA03-D0FE-4A65-9125-DE7EBEEA371D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vrijdag 31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862D-E6E8-4064-BF33-970D21363EC9}" type="datetime2">
              <a:rPr b="0" lang="nl-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vrijdag 31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EB93-D5B9-4139-976A-18C0209A705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B55B-3046-4A65-BB98-82997A567E4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80800" y="1125000"/>
            <a:ext cx="659124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6600" spc="-1" strike="noStrike">
                <a:solidFill>
                  <a:srgbClr val="000000"/>
                </a:solidFill>
                <a:latin typeface="Arial"/>
                <a:ea typeface="Arial"/>
              </a:rPr>
              <a:t>Voeding</a:t>
            </a:r>
            <a:br>
              <a:rPr sz="6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rteringsstelsel vark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VE31/4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. Van Gorp/L. Raedts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GO/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lokd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443280" y="1230480"/>
            <a:ext cx="2484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dsel wordt gekneed en speeksel wordt er doorheen gemeng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tmeel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ertering door amyl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F18D-D497-4791-9E6C-E62C054FCB6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216000" y="1230480"/>
            <a:ext cx="6087960" cy="43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B309-71F0-4B8F-8B8A-5052E953DF5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764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6" name="Rechte verbindingslijn met pijl 8"/>
          <p:cNvCxnSpPr>
            <a:stCxn id="765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67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hemische vertering met enzym pepsi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psine breekt eiwitten af tot aminozu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 maakt zoutzuur zodat pepsine goed werkt en dat bacteriën gedood worden. pH = 2 à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poort (uitgang van de maag) zorgt ervoor dat er alleen kleine deeltjes uit kunn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37D6-4566-4EF9-BDD3-4C19C1A15E3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1E95-29A3-4DE9-BC4A-F9F2D7C55B4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774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Rechte verbindingslijn met pijl 8"/>
          <p:cNvCxnSpPr>
            <a:stCxn id="775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77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vleeskl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C7C3-F6EE-4497-ABCA-364876E2FD8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ijdelijke aanduiding voor inhoud 2"/>
          <p:cNvSpPr/>
          <p:nvPr/>
        </p:nvSpPr>
        <p:spPr>
          <a:xfrm>
            <a:off x="971640" y="1484280"/>
            <a:ext cx="747396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Produceert alvleessap dat wordt afgegeven aan de </a:t>
            </a:r>
            <a:r>
              <a:rPr b="0" lang="nl-NL" sz="2600" spc="-1" strike="noStrike">
                <a:solidFill>
                  <a:srgbClr val="f79646"/>
                </a:solidFill>
                <a:latin typeface="Arial"/>
                <a:ea typeface="Arial"/>
              </a:rPr>
              <a:t>12-vingerige darm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Alvleessap bevat veel enzymen! Pepsine, lipase en amyla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ENZYM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psine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vertering van aminoz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ipase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vertering van vet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mylase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vertering van koolhydraten tot gluc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B6B1-FCBF-4828-B07B-1BF74F93BF0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784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6" name="Rechte verbindingslijn met pijl 8"/>
          <p:cNvCxnSpPr>
            <a:stCxn id="785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87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ever &amp; Galbla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B2DC-E5DA-463D-B8FC-2B19E1121BE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Afbeelding 4" descr=""/>
          <p:cNvPicPr/>
          <p:nvPr/>
        </p:nvPicPr>
        <p:blipFill>
          <a:blip r:embed="rId1"/>
          <a:stretch/>
        </p:blipFill>
        <p:spPr>
          <a:xfrm>
            <a:off x="684360" y="1636560"/>
            <a:ext cx="82119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7559-7EF2-4B13-8D9F-83544F6A6D8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794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6" name="Rechte verbindingslijn met pijl 8"/>
          <p:cNvCxnSpPr>
            <a:stCxn id="795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97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2-vingerige d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erste deel v.d. dunne darm (is ongeveer 12 vingers la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ordt bicarbonaat toegevoegd om de zure voedselbrij van de maag weer te neutraliseren. (in de maag is pH 4, daarna pH 6 of 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oor alvleessappen, darmsappen en gal wordt de vertering van vetten, eiwitten en koolhydraten voortgez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ECFD-75DF-4D5E-B937-AA1CDDBD4E2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1A4F-676E-431D-BC71-67DB644BD24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804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Rechte verbindingslijn met pijl 8"/>
          <p:cNvCxnSpPr>
            <a:stCxn id="805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807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erkv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oe werkt de spijsvertering van een varken?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t in de juiste volgorde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ok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kk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del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ind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s deze hetzelfde als die van de men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145D-3BED-4FD2-9A41-5F23EC5285E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B20F-585E-42E2-9AC1-7DDD29EB7FE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rokken voedsel afgebroken tot voedingsstoffen. Darmwand laat voedingsstoffen door naar het licha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ijdelijke aanduiding voor inhoud 2"/>
          <p:cNvSpPr/>
          <p:nvPr/>
        </p:nvSpPr>
        <p:spPr>
          <a:xfrm>
            <a:off x="1835280" y="2924280"/>
            <a:ext cx="66355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 is heel lang! Hier vermengen enzymen en voedsel zich 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ingsstoffen (glucose, aminozuren, vetzuren) worden opgenomen in het blo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rmsap wordt toegevoegd om de overgebleven voedingsstoffen te verteren. In het darmsap zitten amylase, lipase en pep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5D8E-8DBE-4DDD-94B1-F7FCBB1A30B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815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Rechte verbindingslijn met pijl 8"/>
          <p:cNvCxnSpPr>
            <a:stCxn id="816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818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ikke darm &amp; Blinde d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1547280" y="1197000"/>
            <a:ext cx="7139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Dikke da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Afbraak r.c. tot vetzuren. Deze worden opgenomen in blo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Water uit voer gehaald (resorp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linde da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ij de mens geen functie, kan ontstoken rak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ij planteneters worden harde celwanden verteert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Endeldarm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, laatste stuk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 vorming mest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7680-09B9-45C5-8DED-65C47BC9B9A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vattende vid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Onlinemedia 4" descr=""/>
          <p:cNvPicPr/>
          <p:nvPr/>
        </p:nvPicPr>
        <p:blipFill>
          <a:blip r:embed="rId1"/>
          <a:stretch/>
        </p:blipFill>
        <p:spPr>
          <a:xfrm>
            <a:off x="25560" y="981000"/>
            <a:ext cx="9065880" cy="5099040"/>
          </a:xfrm>
          <a:prstGeom prst="rect">
            <a:avLst/>
          </a:prstGeom>
          <a:ln w="0">
            <a:noFill/>
          </a:ln>
        </p:spPr>
      </p:pic>
      <p:sp>
        <p:nvSpPr>
          <p:cNvPr id="82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E0DF-14EB-44F9-B959-5A93E9FF6C9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8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8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49200" y="1268280"/>
            <a:ext cx="6645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Arial"/>
                <a:ea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2053-A95A-4F15-BC45-8E6D9F6D4B9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Afbeelding 4" descr="Afbeelding met kamer&#10;&#10;Automatisch gegenereerde beschrijving"/>
          <p:cNvPicPr/>
          <p:nvPr/>
        </p:nvPicPr>
        <p:blipFill>
          <a:blip r:embed="rId1"/>
          <a:stretch/>
        </p:blipFill>
        <p:spPr>
          <a:xfrm>
            <a:off x="1062000" y="2538360"/>
            <a:ext cx="70200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ijd ov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erken aan voedermiddelenlij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9750-5896-4A56-B06D-C6B45438865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kennis werkv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186920" y="1341360"/>
            <a:ext cx="72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rm 2-tal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 per 2-tal een A3 papi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ies een van de volgende onderwerpen: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ondholt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galblaa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lokdar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12-vingerige 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a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dunne 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alvleeskli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dikke 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lev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linde 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la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22FA-FE7B-454D-BB60-DB08BD77463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ervolg werkv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eken op het blad hoe jouw onderwerp eruit zi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chrijf op wat je weet over je onderwerp. Denk aan;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functie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nzym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krach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amenwerking met andere organen?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wat wordt er verteer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ang deze onderdelen klassikaal in de juiste volgorde. En bespreek deze in de juiste volgor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8ECB-C162-469C-B9AB-AC703630707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ragen m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e Wikiwij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6ED3-43D5-4B66-9F8A-0F4644FBCF4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1547280" y="1052640"/>
            <a:ext cx="6634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eef de juiste benaming bij de cijf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54AB-E2DB-4592-BA19-C0BF0C4E00F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Afbeelding 4" descr=""/>
          <p:cNvPicPr/>
          <p:nvPr/>
        </p:nvPicPr>
        <p:blipFill>
          <a:blip r:embed="rId1"/>
          <a:srcRect l="0" t="53935" r="0" b="0"/>
          <a:stretch/>
        </p:blipFill>
        <p:spPr>
          <a:xfrm>
            <a:off x="1774800" y="1868400"/>
            <a:ext cx="64072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826560" y="213372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-darm 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4CDF-D82C-4030-BFF1-299CE3DD047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Afbeelding 4" descr=""/>
          <p:cNvPicPr/>
          <p:nvPr/>
        </p:nvPicPr>
        <p:blipFill>
          <a:blip r:embed="rId1"/>
          <a:stretch/>
        </p:blipFill>
        <p:spPr>
          <a:xfrm>
            <a:off x="4622760" y="1111320"/>
            <a:ext cx="4172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ype voedsel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 hoort bij wa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6A64-09D4-41DA-BEFD-74C714B1313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Afbeelding 6" descr=""/>
          <p:cNvPicPr/>
          <p:nvPr/>
        </p:nvPicPr>
        <p:blipFill>
          <a:blip r:embed="rId1"/>
          <a:stretch/>
        </p:blipFill>
        <p:spPr>
          <a:xfrm>
            <a:off x="1604880" y="1916280"/>
            <a:ext cx="7153200" cy="2584440"/>
          </a:xfrm>
          <a:prstGeom prst="rect">
            <a:avLst/>
          </a:prstGeom>
          <a:ln w="0">
            <a:noFill/>
          </a:ln>
        </p:spPr>
      </p:pic>
      <p:cxnSp>
        <p:nvCxnSpPr>
          <p:cNvPr id="734" name="Rechte verbindingslijn met pijl 8"/>
          <p:cNvCxnSpPr/>
          <p:nvPr/>
        </p:nvCxnSpPr>
        <p:spPr>
          <a:xfrm flipV="1">
            <a:off x="3634920" y="2275920"/>
            <a:ext cx="1585080" cy="432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35" name="Rechte verbindingslijn met pijl 9"/>
          <p:cNvCxnSpPr/>
          <p:nvPr/>
        </p:nvCxnSpPr>
        <p:spPr>
          <a:xfrm>
            <a:off x="4643280" y="2276280"/>
            <a:ext cx="721440" cy="432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36" name="Rechte verbindingslijn met pijl 16"/>
          <p:cNvCxnSpPr/>
          <p:nvPr/>
        </p:nvCxnSpPr>
        <p:spPr>
          <a:xfrm>
            <a:off x="3635280" y="3068280"/>
            <a:ext cx="1729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37" name="Rechte verbindingslijn met pijl 19"/>
          <p:cNvCxnSpPr/>
          <p:nvPr/>
        </p:nvCxnSpPr>
        <p:spPr>
          <a:xfrm>
            <a:off x="4643280" y="2265480"/>
            <a:ext cx="659520" cy="1164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38" name="Rechte verbindingslijn met pijl 25"/>
          <p:cNvCxnSpPr/>
          <p:nvPr/>
        </p:nvCxnSpPr>
        <p:spPr>
          <a:xfrm>
            <a:off x="4140000" y="3665520"/>
            <a:ext cx="1162440" cy="397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rbivo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evinden zich heel veel micro-organismen (eencelligen en bacteriën) die celwanden van planten kunnen afbrek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lindedar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evinden zich heel veel micro-organismen (eencelligen en bacteriën) die celwanden van planten kunnen afbrek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5544-D1E0-4200-BB53-BE0A74744E7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983880" y="14266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eeksel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nzym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mylas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0A49-6C7A-4F12-A0BD-DBE1EDD1A6D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2" descr=""/>
          <p:cNvPicPr/>
          <p:nvPr/>
        </p:nvPicPr>
        <p:blipFill>
          <a:blip r:embed="rId1"/>
          <a:srcRect l="4358" t="0" r="4358" b="0"/>
          <a:stretch/>
        </p:blipFill>
        <p:spPr>
          <a:xfrm>
            <a:off x="984240" y="2363760"/>
            <a:ext cx="6972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71640" y="1426680"/>
            <a:ext cx="6635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3BBD-825B-40E0-98AE-519924CCB9D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Afbeelding 1" descr=""/>
          <p:cNvPicPr/>
          <p:nvPr/>
        </p:nvPicPr>
        <p:blipFill>
          <a:blip r:embed="rId1"/>
          <a:stretch/>
        </p:blipFill>
        <p:spPr>
          <a:xfrm>
            <a:off x="1214280" y="2224080"/>
            <a:ext cx="6715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AE6E-E0FB-4CCC-B0BC-636163F9F3D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753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5" name="Rechte verbindingslijn met pijl 8"/>
          <p:cNvCxnSpPr>
            <a:stCxn id="754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56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9:58:02Z</dcterms:created>
  <dc:creator>Martin Drenth</dc:creator>
  <dc:description/>
  <dc:language>en-US</dc:language>
  <cp:lastModifiedBy>Leon Raedts</cp:lastModifiedBy>
  <dcterms:modified xsi:type="dcterms:W3CDTF">2020-03-01T08:57:54Z</dcterms:modified>
  <cp:revision>97</cp:revision>
  <dc:subject/>
  <dc:title>Gebruik van Powerpoint sjablonen</dc:title>
</cp:coreProperties>
</file>