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8462-9E00-4AB1-942F-2E374979D3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29D2-10B3-4687-A13F-6213DD47E3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1553-3C9B-487C-B210-B04613B88E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405-2813-4D56-8B6E-5924D953A0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F7B0-6E75-4580-9898-CBFD78A4A1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376-1668-436B-AA55-D3623A1A10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4B31-E27C-48FB-8B78-88C9C12BAE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0618-4AC7-4D48-980C-0C6EA3B1DE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489-1EB5-4C00-95AB-E4B5CF9573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999-7FFE-4E08-A35F-329650B021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D391-6214-4C03-9091-8B6E5748EA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24CE-10FD-410F-A8D0-EFE0E45436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333-D007-4C84-A293-D585EFB36A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D1A-5586-4443-969C-72BFF670BA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3161-18BA-4535-BC27-4298230A0D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5422-C929-4AFF-8F85-214B715801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601-590E-428D-AE55-46B09F04BA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E6E-66C1-44B6-9A72-724E783BC6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968D-C33E-4730-8486-5D425F46AB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CDC-AA4A-40F2-8A0D-16A06D26B0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EC39-9DD9-47C2-A1D2-BD4CFDA4B2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01F-2E7A-4AD4-BB87-5AA18971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920-4182-455A-8296-2B8B58AA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18A-AA9F-42DA-A0B8-5C0356E8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C4E-5758-42BA-AAF5-F065344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089-841E-4A66-827B-337D823B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54B-3E5F-40C6-B475-FA479A89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BF8-1A01-444D-8300-3BCC256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125-CDED-43A7-A59C-E4661B7D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CF7-8F7E-4F6D-B6EF-C8CEF565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D0A-090F-4703-BD4C-B1E16B9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DC1-6CC9-4609-9E73-19B8C08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92F-0C76-41FF-B4B8-3457DD4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6eb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69F-A8BB-4578-AEE6-9B39ED27B87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iwitten en V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st 15  koolstofverbindingen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ragraaf 15.6 - 1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ynthese van 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sters ontstaan als alcoholen reageren met (carbon)zu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de reactie ontstaa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oort tot de condensatiereacties  (reacties waarbij een klein molecuul wordt afgesplit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3" descr="verestering methanol en ethaanzuur.JPG"/>
          <p:cNvPicPr/>
          <p:nvPr/>
        </p:nvPicPr>
        <p:blipFill>
          <a:blip r:embed="rId1"/>
          <a:stretch/>
        </p:blipFill>
        <p:spPr>
          <a:xfrm>
            <a:off x="1258920" y="5005440"/>
            <a:ext cx="5457960" cy="2095560"/>
          </a:xfrm>
          <a:prstGeom prst="rect">
            <a:avLst/>
          </a:prstGeom>
          <a:ln w="0">
            <a:noFill/>
          </a:ln>
        </p:spPr>
      </p:pic>
      <p:sp>
        <p:nvSpPr>
          <p:cNvPr id="84" name="Tekstvak 4"/>
          <p:cNvSpPr/>
          <p:nvPr/>
        </p:nvSpPr>
        <p:spPr>
          <a:xfrm>
            <a:off x="7247160" y="5580000"/>
            <a:ext cx="70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H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5"/>
          <p:cNvSpPr/>
          <p:nvPr/>
        </p:nvSpPr>
        <p:spPr>
          <a:xfrm>
            <a:off x="6510240" y="6229440"/>
            <a:ext cx="23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Ester van ethaanzu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etha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ten en Olië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tten en oliën zijn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el verschillende vetzuren: geeft grote variatie in vetten en olië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en van vetzuren (Binas tabel 67B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zadig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kelvoudig onverzadigde vetz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ervoudig onverzadigde vetz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62028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tten zijn vast bij kamertemperatuur, oliën vloei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klaring? Hypothe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00000" y="2421000"/>
          <a:ext cx="7921800" cy="4003560"/>
        </p:xfrm>
        <a:graphic>
          <a:graphicData uri="http://schemas.openxmlformats.org/drawingml/2006/table">
            <a:tbl>
              <a:tblPr/>
              <a:tblGrid>
                <a:gridCol w="3961080"/>
                <a:gridCol w="3960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lyceryltrioleaat (vloeiba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ofdbestanddeel van olijfo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lyceryltristearaat (vaste sto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ofdbestanddeel van dierlijk v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eltpunt –5 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eltpunt 55 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∆t = 60 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Afbeelding 4" descr="ruimtelijke structuur glyceryltrioleaat.jpg"/>
          <p:cNvPicPr/>
          <p:nvPr/>
        </p:nvPicPr>
        <p:blipFill>
          <a:blip r:embed="rId1"/>
          <a:stretch/>
        </p:blipFill>
        <p:spPr>
          <a:xfrm>
            <a:off x="1042920" y="5229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5" descr="ruimtelijke structuur glycerylriostearaat.gif"/>
          <p:cNvPicPr/>
          <p:nvPr/>
        </p:nvPicPr>
        <p:blipFill>
          <a:blip r:embed="rId2"/>
          <a:stretch/>
        </p:blipFill>
        <p:spPr>
          <a:xfrm>
            <a:off x="5003640" y="5373720"/>
            <a:ext cx="28688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900000" y="3716280"/>
          <a:ext cx="7921800" cy="639720"/>
        </p:xfrm>
        <a:graphic>
          <a:graphicData uri="http://schemas.openxmlformats.org/drawingml/2006/table">
            <a:tbl>
              <a:tblPr/>
              <a:tblGrid>
                <a:gridCol w="3961080"/>
                <a:gridCol w="3960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= 885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= 891 g/mol                ∆M = 6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3" name="Tekstvak 10"/>
          <p:cNvSpPr/>
          <p:nvPr/>
        </p:nvSpPr>
        <p:spPr>
          <a:xfrm>
            <a:off x="2484360" y="4581360"/>
            <a:ext cx="6191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4365720"/>
          <a:ext cx="7921800" cy="792000"/>
        </p:xfrm>
        <a:graphic>
          <a:graphicData uri="http://schemas.openxmlformats.org/drawingml/2006/table">
            <a:tbl>
              <a:tblPr/>
              <a:tblGrid>
                <a:gridCol w="3961080"/>
                <a:gridCol w="3960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ycerol verestert met 3 moleculen oliezu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df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ycerol verestert met 3 moleculen stearinezu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df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iwi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95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norme diverse groep van stoff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omen voor in alle organism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tructurele eiw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Collageen in bindweefs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-crystalline in ooglenz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okatalysato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lcoholdehydrogenas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Lipasen (katalyseert reactie: vet + water  </a:t>
            </a:r>
            <a:r>
              <a:rPr b="0" lang="nl-NL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 vetzuren + glycerol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we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ntilicham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rmon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Insul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gebouwd uit bouwstenen: aminozu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minoz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ructuurformule bevat in ieder geval de volgende karakteristieke groepe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mino-groep (amin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uurgroep (carbonzur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In natuurlijke eiwitten komen alleen </a:t>
            </a:r>
            <a:r>
              <a:rPr b="0" lang="nl-NL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aminozuren voo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aminogroep aan koolstofatoom 2 van de hoofdketen (het C-atoom van de zuurgroep heeft nummer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Afbeelding 3" descr="aminogroep.gif"/>
          <p:cNvPicPr/>
          <p:nvPr/>
        </p:nvPicPr>
        <p:blipFill>
          <a:blip r:embed="rId1"/>
          <a:stretch/>
        </p:blipFill>
        <p:spPr>
          <a:xfrm>
            <a:off x="4859280" y="2276640"/>
            <a:ext cx="814320" cy="99360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5" descr="carbonzuur2.gif"/>
          <p:cNvPicPr/>
          <p:nvPr/>
        </p:nvPicPr>
        <p:blipFill>
          <a:blip r:embed="rId2"/>
          <a:stretch/>
        </p:blipFill>
        <p:spPr>
          <a:xfrm>
            <a:off x="5651640" y="371628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-aminoz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structuurform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0 aminozuren als bouwsteen in natuurlijke eiwitten (Binas tabel 67C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 aminozuur wijkt af van de algemene structuurformu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 letter afkortingen en 3 letter afkort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Afbeelding 6" descr="amino_acid_general.png"/>
          <p:cNvPicPr/>
          <p:nvPr/>
        </p:nvPicPr>
        <p:blipFill>
          <a:blip r:embed="rId1"/>
          <a:stretch/>
        </p:blipFill>
        <p:spPr>
          <a:xfrm>
            <a:off x="971640" y="2205000"/>
            <a:ext cx="238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Oxytocine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5972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nuffelhormoon (rust en verbondenhe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bouwd uit 9 aminoz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ijdelijke aanduiding voor inhoud 7" descr="Oxytocin molecuul.png"/>
          <p:cNvPicPr/>
          <p:nvPr/>
        </p:nvPicPr>
        <p:blipFill>
          <a:blip r:embed="rId1"/>
          <a:stretch/>
        </p:blipFill>
        <p:spPr>
          <a:xfrm>
            <a:off x="1349280" y="1557360"/>
            <a:ext cx="6950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ppeling van aminoz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groep van aminozuur 1 reageert met de aminogroep van aminozu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lanine                           Glycin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la-Gly  dipept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Rechte verbindingslijn met pijl 11"/>
          <p:cNvCxnSpPr/>
          <p:nvPr/>
        </p:nvCxnSpPr>
        <p:spPr>
          <a:xfrm>
            <a:off x="4571640" y="3933360"/>
            <a:ext cx="6483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0" name="Afbeelding 13" descr="koppelen AZ 2.gif"/>
          <p:cNvPicPr/>
          <p:nvPr/>
        </p:nvPicPr>
        <p:blipFill>
          <a:blip r:embed="rId1"/>
          <a:stretch/>
        </p:blipFill>
        <p:spPr>
          <a:xfrm>
            <a:off x="5435640" y="3433680"/>
            <a:ext cx="2376360" cy="1209600"/>
          </a:xfrm>
          <a:prstGeom prst="rect">
            <a:avLst/>
          </a:prstGeom>
          <a:ln w="0">
            <a:noFill/>
          </a:ln>
        </p:spPr>
      </p:pic>
      <p:sp>
        <p:nvSpPr>
          <p:cNvPr id="111" name="Tekstvak 14"/>
          <p:cNvSpPr/>
          <p:nvPr/>
        </p:nvSpPr>
        <p:spPr>
          <a:xfrm>
            <a:off x="7966440" y="3676680"/>
            <a:ext cx="76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+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15" descr="koppelen AZ 1.gif"/>
          <p:cNvPicPr/>
          <p:nvPr/>
        </p:nvPicPr>
        <p:blipFill>
          <a:blip r:embed="rId2"/>
          <a:stretch/>
        </p:blipFill>
        <p:spPr>
          <a:xfrm>
            <a:off x="1170000" y="3357720"/>
            <a:ext cx="318600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16"/>
          <p:cNvSpPr/>
          <p:nvPr/>
        </p:nvSpPr>
        <p:spPr>
          <a:xfrm>
            <a:off x="2124000" y="3573360"/>
            <a:ext cx="1152720" cy="7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Nieuwe groep van koolstofverbindingen: Am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rakteristieke groep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‘ = H in eiwi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rdt ook amide- of peptide binding genoem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in de structuurformule van een stof deze karakteristieke groep voorkomt, hoort de stof tot de ami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fbeelding 3" descr="250px-Amide-general.png"/>
          <p:cNvPicPr/>
          <p:nvPr/>
        </p:nvPicPr>
        <p:blipFill>
          <a:blip r:embed="rId1"/>
          <a:stretch/>
        </p:blipFill>
        <p:spPr>
          <a:xfrm>
            <a:off x="1403280" y="2349360"/>
            <a:ext cx="1800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iw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 de vorming van de amidebinding in eiwitten reageren alleen de zuurgroep en aminogroep aan het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 atoom met elkaar (zie Binas tabel 67C1, aangegeven in het gro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eiwit begint altijd met een vrije aminogroep en eindigt met een zuu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at het eiwit gesynthetiseerd is, kunnen er nog allerlei reacties plaats vinden, waardoor het eiwit gemodificeerd word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bouw coll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entraal staat de chemische structuur van stoffen die we in het dagelijks leven oliën, vetten en eiwitten noe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liën en v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iw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 Asparta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spartaam wordt als zoetstof gebruikt in  voedingsmiddel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ght producten en kauwg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tructuurform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spartaam wordt in 2 stappen gesynthetiseerd, hierbij worden onder andere 2 aminozuren als grondstof gebruik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 welke 3 stoffen kan aspartaam gesynthetiseerd wo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f de 2 reactievergelijkingen in structuurformules van de synthese van asparta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arom is de volgorde van de 2 synthesestappen van bela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Afbeelding 3" descr="aspartaam.png"/>
          <p:cNvPicPr/>
          <p:nvPr/>
        </p:nvPicPr>
        <p:blipFill>
          <a:blip r:embed="rId1"/>
          <a:stretch/>
        </p:blipFill>
        <p:spPr>
          <a:xfrm>
            <a:off x="1619280" y="1670040"/>
            <a:ext cx="4143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liën en V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te groep van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men voor in alle organis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Reserve) brand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uw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elmembra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rmonen en andere belangrijke hulpstoffen in het licha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inding tussen glycerol en vetz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ructuurfor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lycerol (1,2,3-propaantri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t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palmitinezuur (hexadecaanzuu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ructuurfor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lycerol (1,2,3-propaantri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t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palmitinezuur (hexadecaanzuu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fbeelding 3" descr="palmitinezuur.gif"/>
          <p:cNvPicPr/>
          <p:nvPr/>
        </p:nvPicPr>
        <p:blipFill>
          <a:blip r:embed="rId1"/>
          <a:stretch/>
        </p:blipFill>
        <p:spPr>
          <a:xfrm>
            <a:off x="1187280" y="5300640"/>
            <a:ext cx="678996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4" descr="glycerol.gif"/>
          <p:cNvPicPr/>
          <p:nvPr/>
        </p:nvPicPr>
        <p:blipFill>
          <a:blip r:embed="rId2"/>
          <a:stretch/>
        </p:blipFill>
        <p:spPr>
          <a:xfrm>
            <a:off x="1187280" y="2421000"/>
            <a:ext cx="2016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ructuurformule ver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ijdelijke aanduiding voor inhoud 3" descr="triglyceride palmitinezuur.gif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727280" y="1413000"/>
            <a:ext cx="5689440" cy="3247920"/>
          </a:xfrm>
          <a:prstGeom prst="rect">
            <a:avLst/>
          </a:prstGeom>
          <a:ln w="0">
            <a:noFill/>
          </a:ln>
        </p:spPr>
      </p:pic>
      <p:pic>
        <p:nvPicPr>
          <p:cNvPr id="62" name="Afbeelding 4" descr="glycerol.gif"/>
          <p:cNvPicPr/>
          <p:nvPr/>
        </p:nvPicPr>
        <p:blipFill>
          <a:blip r:embed="rId2"/>
          <a:stretch/>
        </p:blipFill>
        <p:spPr>
          <a:xfrm>
            <a:off x="1116000" y="5445000"/>
            <a:ext cx="1380960" cy="80964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5" descr="palmitinezuur.gif"/>
          <p:cNvPicPr/>
          <p:nvPr/>
        </p:nvPicPr>
        <p:blipFill>
          <a:blip r:embed="rId3"/>
          <a:stretch/>
        </p:blipFill>
        <p:spPr>
          <a:xfrm>
            <a:off x="3173400" y="5445000"/>
            <a:ext cx="5334120" cy="79236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7"/>
          <p:cNvSpPr/>
          <p:nvPr/>
        </p:nvSpPr>
        <p:spPr>
          <a:xfrm>
            <a:off x="1673280" y="1268280"/>
            <a:ext cx="1512720" cy="108108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Glycerol kan met 3 vetzuren reager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ok de teruggaande reactie is mogelij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ie ook Binas tabel 67B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Afbeelding 4" descr="glycerol2.gif"/>
          <p:cNvPicPr/>
          <p:nvPr/>
        </p:nvPicPr>
        <p:blipFill>
          <a:blip r:embed="rId1"/>
          <a:stretch/>
        </p:blipFill>
        <p:spPr>
          <a:xfrm>
            <a:off x="900000" y="1989000"/>
            <a:ext cx="1150920" cy="274644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5" descr="carbonzuur.gif"/>
          <p:cNvPicPr/>
          <p:nvPr/>
        </p:nvPicPr>
        <p:blipFill>
          <a:blip r:embed="rId2"/>
          <a:stretch/>
        </p:blipFill>
        <p:spPr>
          <a:xfrm>
            <a:off x="2340000" y="1935000"/>
            <a:ext cx="1427040" cy="712800"/>
          </a:xfrm>
          <a:prstGeom prst="rect">
            <a:avLst/>
          </a:prstGeom>
          <a:ln w="0">
            <a:noFill/>
          </a:ln>
        </p:spPr>
      </p:pic>
      <p:cxnSp>
        <p:nvCxnSpPr>
          <p:cNvPr id="69" name="Rechte verbindingslijn met pijl 7"/>
          <p:cNvCxnSpPr/>
          <p:nvPr/>
        </p:nvCxnSpPr>
        <p:spPr>
          <a:xfrm>
            <a:off x="3850920" y="3429000"/>
            <a:ext cx="1081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9"/>
          <p:cNvCxnSpPr/>
          <p:nvPr/>
        </p:nvCxnSpPr>
        <p:spPr>
          <a:xfrm flipH="1" flipV="1">
            <a:off x="3779640" y="3572640"/>
            <a:ext cx="11527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1" name="Afbeelding 11" descr="palmitinezuur veresterd met glycerol.gif"/>
          <p:cNvPicPr/>
          <p:nvPr/>
        </p:nvPicPr>
        <p:blipFill>
          <a:blip r:embed="rId3"/>
          <a:stretch/>
        </p:blipFill>
        <p:spPr>
          <a:xfrm>
            <a:off x="5326200" y="1959120"/>
            <a:ext cx="2341440" cy="2939760"/>
          </a:xfrm>
          <a:prstGeom prst="rect">
            <a:avLst/>
          </a:prstGeom>
          <a:ln w="0">
            <a:noFill/>
          </a:ln>
        </p:spPr>
      </p:pic>
      <p:sp>
        <p:nvSpPr>
          <p:cNvPr id="72" name="Tekstvak 12"/>
          <p:cNvSpPr/>
          <p:nvPr/>
        </p:nvSpPr>
        <p:spPr>
          <a:xfrm>
            <a:off x="7821720" y="3244680"/>
            <a:ext cx="76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+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13"/>
          <p:cNvSpPr/>
          <p:nvPr/>
        </p:nvSpPr>
        <p:spPr>
          <a:xfrm>
            <a:off x="1857240" y="2349360"/>
            <a:ext cx="10717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Nieuwe groep van koolstofverbindingen: E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rakteristieke groe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‘ =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in de structuurformule van een stof deze karakteristieke groep voorkomt, hoort de stof tot de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7" descr="esters_gen_form.jpg"/>
          <p:cNvPicPr/>
          <p:nvPr/>
        </p:nvPicPr>
        <p:blipFill>
          <a:blip r:embed="rId1"/>
          <a:stretch/>
        </p:blipFill>
        <p:spPr>
          <a:xfrm>
            <a:off x="971640" y="2276640"/>
            <a:ext cx="218448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Rechte verbindingslijn 9"/>
          <p:cNvSpPr/>
          <p:nvPr/>
        </p:nvSpPr>
        <p:spPr>
          <a:xfrm flipH="1">
            <a:off x="1413000" y="401472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ak stoffen met kenmerkende 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kele eenvoudige es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Afbeelding 3" descr="esters geuren.gif"/>
          <p:cNvPicPr/>
          <p:nvPr/>
        </p:nvPicPr>
        <p:blipFill>
          <a:blip r:embed="rId1"/>
          <a:stretch/>
        </p:blipFill>
        <p:spPr>
          <a:xfrm>
            <a:off x="1042920" y="3141720"/>
            <a:ext cx="5626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08:43:20Z</dcterms:created>
  <dc:creator>SWEERS</dc:creator>
  <dc:description/>
  <dc:language>en-US</dc:language>
  <cp:lastModifiedBy>Maarten Plugge </cp:lastModifiedBy>
  <dcterms:modified xsi:type="dcterms:W3CDTF">2013-08-27T10:07:23Z</dcterms:modified>
  <cp:revision>50</cp:revision>
  <dc:subject/>
  <dc:title>Eiwitten en Vetten</dc:title>
</cp:coreProperties>
</file>