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3D807-793B-4448-9092-70C32C1107AF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Griezelbomen in houtskool- 2B potlod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109C4-59DA-411A-827F-E06269C57E8C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7ACB-FC33-4E14-8CF4-C139EE46A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BBBF-A58D-4EAC-8C74-D7D3A72D7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BF2F-B108-446E-B202-6E610A8B8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70CC-28AF-41AF-AB55-18AF12C16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7D4F-FCFC-43C2-8609-F1976D876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1308-71C7-4CD5-BF2A-C63EA4D10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8D34-9994-4F9A-B619-1A8284011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93C6-CB9F-4733-8C58-DAF3BD392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6334-7945-4DA2-BA8B-DD5C1BD72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753B-F213-45CD-AB7C-2FBA7CC70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65C1-6999-4E34-A23E-F46FC067E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88CE-6549-4ADD-868A-1374BCE41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BEDF7-882A-4649-AB11-A17CD508520E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Jokerman"/>
              </a:rPr>
              <a:t>GRIEZELBOMEN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Je loopt in het donker en bent verdwaald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e bomen langs het pad komen groo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n dreigend op je af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Je oog valt op een paar bomen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ie er heel eng uitzi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Zie je het goed? Het lijken wel………………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6" descr="http://t1.gstatic.com/images?q=tbn:ANd9GcQ4Tnf5DHpmjwmoBmt3VGNZLziAo9UPXyc4OS5Rjm1ke5FghC-iIqMGksQLZg"/>
          <p:cNvPicPr/>
          <p:nvPr/>
        </p:nvPicPr>
        <p:blipFill>
          <a:blip r:embed="rId1"/>
          <a:stretch/>
        </p:blipFill>
        <p:spPr>
          <a:xfrm>
            <a:off x="5327640" y="4979880"/>
            <a:ext cx="1917720" cy="1881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http://www.ukko.nl/img/kleuren/full/kleurplaat-griezels-0001.gif"/>
          <p:cNvPicPr/>
          <p:nvPr/>
        </p:nvPicPr>
        <p:blipFill>
          <a:blip r:embed="rId2"/>
          <a:stretch/>
        </p:blipFill>
        <p:spPr>
          <a:xfrm>
            <a:off x="228600" y="1219320"/>
            <a:ext cx="3375000" cy="51814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pdracht:</a:t>
            </a:r>
            <a:br>
              <a:rPr sz="4000"/>
            </a:br>
            <a:r>
              <a:rPr b="1" lang="en-US" sz="6000" spc="-1" strike="noStrike">
                <a:solidFill>
                  <a:srgbClr val="000000"/>
                </a:solidFill>
                <a:latin typeface="Jokerman"/>
              </a:rPr>
              <a:t>GRIEZELBOS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8" descr="https://encrypted-tbn0.gstatic.com/images?q=tbn:ANd9GcR9wlYCCT8MEvUxOeqVC5uYvnh1JToDd4l3CJt_SvYqkkUvN6d4Ai_lF64"/>
          <p:cNvPicPr/>
          <p:nvPr/>
        </p:nvPicPr>
        <p:blipFill>
          <a:blip r:embed="rId3"/>
          <a:stretch/>
        </p:blipFill>
        <p:spPr>
          <a:xfrm>
            <a:off x="7467480" y="4940280"/>
            <a:ext cx="1371600" cy="1754280"/>
          </a:xfrm>
          <a:prstGeom prst="rect">
            <a:avLst/>
          </a:prstGeom>
          <a:ln w="0">
            <a:noFill/>
          </a:ln>
        </p:spPr>
      </p:pic>
      <p:sp>
        <p:nvSpPr>
          <p:cNvPr id="54" name="Tekstvak 7"/>
          <p:cNvSpPr/>
          <p:nvPr/>
        </p:nvSpPr>
        <p:spPr>
          <a:xfrm>
            <a:off x="3962520" y="2057400"/>
            <a:ext cx="4647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ken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nkel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riezelbomen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potloo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rwerk in een boom monsters of dieren, of heksen of wat jij ENG vindt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eef de bomen: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igen schaduw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n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lag- schaduw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in lichte en donkere tinte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ichtbron ( natuurlijk/ kunstmatig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teriaal: potlood HB-2B en of houtsk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Jokerman"/>
              </a:rPr>
              <a:t>GRIEZELBOMEN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kstvak 3"/>
          <p:cNvSpPr/>
          <p:nvPr/>
        </p:nvSpPr>
        <p:spPr>
          <a:xfrm>
            <a:off x="3962520" y="2057400"/>
            <a:ext cx="4647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. Bedenk wat je met d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chtergrond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doet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. Er mag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en groot wit stuk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de tekening zit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aal bakje met inkt bij docent + brede kw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kt in dunne laag opbrengen, Tekening kun je iets door de laag  nog zi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kening droog? Pak kroontjespen, begin met omtreklijn  daarna lichte delen wegkrass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http://www.ukko.nl/img/kleuren/full/kleurplaat-griezels-0001.gif"/>
          <p:cNvPicPr/>
          <p:nvPr/>
        </p:nvPicPr>
        <p:blipFill>
          <a:blip r:embed="rId1"/>
          <a:stretch/>
        </p:blipFill>
        <p:spPr>
          <a:xfrm>
            <a:off x="533520" y="2895480"/>
            <a:ext cx="2977920" cy="4572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http://www.casperboot.nl/wp-content/uploads/2011/02/14520006.jpg"/>
          <p:cNvPicPr/>
          <p:nvPr/>
        </p:nvPicPr>
        <p:blipFill>
          <a:blip r:embed="rId2"/>
          <a:stretch/>
        </p:blipFill>
        <p:spPr>
          <a:xfrm>
            <a:off x="228600" y="1295280"/>
            <a:ext cx="3581280" cy="2374920"/>
          </a:xfrm>
          <a:prstGeom prst="rect">
            <a:avLst/>
          </a:prstGeom>
          <a:ln w="0">
            <a:noFill/>
          </a:ln>
        </p:spPr>
      </p:pic>
      <p:sp>
        <p:nvSpPr>
          <p:cNvPr id="59" name="Rechthoek 1"/>
          <p:cNvSpPr/>
          <p:nvPr/>
        </p:nvSpPr>
        <p:spPr>
          <a:xfrm>
            <a:off x="2286000" y="3105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ilhouet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irc_mi" descr="http://waltsturrock.com/wp-content/uploads/2013/07/Scary_Tree_4.jpg"/>
          <p:cNvPicPr/>
          <p:nvPr/>
        </p:nvPicPr>
        <p:blipFill>
          <a:blip r:embed="rId1"/>
          <a:stretch/>
        </p:blipFill>
        <p:spPr>
          <a:xfrm>
            <a:off x="76320" y="1150920"/>
            <a:ext cx="4781520" cy="3973680"/>
          </a:xfrm>
          <a:prstGeom prst="rect">
            <a:avLst/>
          </a:prstGeom>
          <a:ln w="0">
            <a:noFill/>
          </a:ln>
        </p:spPr>
      </p:pic>
      <p:pic>
        <p:nvPicPr>
          <p:cNvPr id="61" name="irc_mi" descr="http://4.bp.blogspot.com/-sgED5kID-bU/Uj7VOlFiCHI/AAAAAAAAJUk/08a0rp42oWg/s1600/Spooky-tree+with+creepy+house.jpg"/>
          <p:cNvPicPr/>
          <p:nvPr/>
        </p:nvPicPr>
        <p:blipFill>
          <a:blip r:embed="rId2"/>
          <a:stretch/>
        </p:blipFill>
        <p:spPr>
          <a:xfrm>
            <a:off x="4724280" y="1150920"/>
            <a:ext cx="3888000" cy="37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http://4.bp.blogspot.com/-BHczWWXsUIE/UMYnAx8q-pI/AAAAAAAAmEc/xAytCiIlIA0/s1600/wallpaper-met-zombie-met-rode-ogen.jpg"/>
          <p:cNvPicPr/>
          <p:nvPr/>
        </p:nvPicPr>
        <p:blipFill>
          <a:blip r:embed="rId1"/>
          <a:stretch/>
        </p:blipFill>
        <p:spPr>
          <a:xfrm>
            <a:off x="838080" y="1219320"/>
            <a:ext cx="7418520" cy="44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irc_mi" descr="http://fc07.deviantart.net/fs70/i/2013/305/8/6/spooky_forest_by_visualiart-d6sk79y.jpg"/>
          <p:cNvPicPr/>
          <p:nvPr/>
        </p:nvPicPr>
        <p:blipFill>
          <a:blip r:embed="rId1"/>
          <a:stretch/>
        </p:blipFill>
        <p:spPr>
          <a:xfrm>
            <a:off x="914400" y="754200"/>
            <a:ext cx="7243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irc_mi" descr="http://3.bp.blogspot.com/_Tg4YEtohJek/S8oWsmWsj0I/AAAAAAAAA7A/Tbz_GAp6Hjc/s1600/tree+scary.jpg"/>
          <p:cNvPicPr/>
          <p:nvPr/>
        </p:nvPicPr>
        <p:blipFill>
          <a:blip r:embed="rId1"/>
          <a:stretch/>
        </p:blipFill>
        <p:spPr>
          <a:xfrm>
            <a:off x="533520" y="914400"/>
            <a:ext cx="8173800" cy="47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0T16:55:30Z</dcterms:created>
  <dc:creator>Trudy</dc:creator>
  <dc:description/>
  <dc:language>en-US</dc:language>
  <cp:lastModifiedBy>Trudy Ross-Tervooren</cp:lastModifiedBy>
  <dcterms:modified xsi:type="dcterms:W3CDTF">2015-02-04T09:14:25Z</dcterms:modified>
  <cp:revision>14</cp:revision>
  <dc:subject/>
  <dc:title>Opdracht: GRIEZELBOMEN</dc:title>
</cp:coreProperties>
</file>