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40BA-ADFC-47E9-B68C-9218E101446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riezelbomen in houtskool- 2B potlo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83C0-4B3D-42AB-AA74-41E52F8668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43D-662D-4ECE-87CC-B7D1CB55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474-A44C-464C-9136-216342AE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3C0-19F8-487C-9F72-D3832479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92A-8D95-484C-9E42-FDD76379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503-1C49-4306-9D22-7FDAF992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4E9-59C4-436B-9028-541A10E1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479-1D0F-4ABA-8103-83C80B4D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BB4-AFFC-442F-BEAF-118DB604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A8F-DA2B-42D5-B01A-2C45827F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B67-64D3-45E6-B984-A213C4BF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C05-0035-481B-A379-3977DEC9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DDF-5754-4227-AB43-22EEB02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0A64-5C63-4F88-BC15-2AA0119E672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Jokerman"/>
              </a:rPr>
              <a:t>GRIEZELBOM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e loopt in het donker en bent verdwaald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 bomen langs het pad komen gro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 dreigend op je af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e oog valt op een paar bom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e er heel eng uitz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ie je het goed? Het lijken wel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t1.gstatic.com/images?q=tbn:ANd9GcQ4Tnf5DHpmjwmoBmt3VGNZLziAo9UPXyc4OS5Rjm1ke5FghC-iIqMGksQLZg"/>
          <p:cNvPicPr/>
          <p:nvPr/>
        </p:nvPicPr>
        <p:blipFill>
          <a:blip r:embed="rId1"/>
          <a:stretch/>
        </p:blipFill>
        <p:spPr>
          <a:xfrm>
            <a:off x="5327640" y="4979880"/>
            <a:ext cx="1917720" cy="188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ukko.nl/img/kleuren/full/kleurplaat-griezels-0001.gif"/>
          <p:cNvPicPr/>
          <p:nvPr/>
        </p:nvPicPr>
        <p:blipFill>
          <a:blip r:embed="rId2"/>
          <a:stretch/>
        </p:blipFill>
        <p:spPr>
          <a:xfrm>
            <a:off x="228600" y="1219320"/>
            <a:ext cx="3375000" cy="5181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dracht:</a:t>
            </a:r>
            <a:br>
              <a:rPr sz="4000"/>
            </a:br>
            <a:r>
              <a:rPr b="1" lang="en-US" sz="6000" spc="-1" strike="noStrike">
                <a:solidFill>
                  <a:srgbClr val="000000"/>
                </a:solidFill>
                <a:latin typeface="Jokerman"/>
              </a:rPr>
              <a:t>GRIEZELBO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s://encrypted-tbn0.gstatic.com/images?q=tbn:ANd9GcR9wlYCCT8MEvUxOeqVC5uYvnh1JToDd4l3CJt_SvYqkkUvN6d4Ai_lF64"/>
          <p:cNvPicPr/>
          <p:nvPr/>
        </p:nvPicPr>
        <p:blipFill>
          <a:blip r:embed="rId3"/>
          <a:stretch/>
        </p:blipFill>
        <p:spPr>
          <a:xfrm>
            <a:off x="7467480" y="4940280"/>
            <a:ext cx="1371600" cy="1754280"/>
          </a:xfrm>
          <a:prstGeom prst="rect">
            <a:avLst/>
          </a:prstGeom>
          <a:ln w="0">
            <a:noFill/>
          </a:ln>
        </p:spPr>
      </p:pic>
      <p:sp>
        <p:nvSpPr>
          <p:cNvPr id="54" name="Tekstvak 7"/>
          <p:cNvSpPr/>
          <p:nvPr/>
        </p:nvSpPr>
        <p:spPr>
          <a:xfrm>
            <a:off x="3962520" y="2057400"/>
            <a:ext cx="4647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ke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ke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iezelbome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otl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werk in een boom monsters of dieren, of heksen of wat jij ENG vind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ef de bomen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igen schaduw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lag- schadu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lichte en donkere tin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chtbron ( natuurlijk/ kunstmatig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al: potlood HB-2B en of houtsk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Jokerman"/>
              </a:rPr>
              <a:t>GRIEZELBOM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3"/>
          <p:cNvSpPr/>
          <p:nvPr/>
        </p:nvSpPr>
        <p:spPr>
          <a:xfrm>
            <a:off x="3962520" y="2057400"/>
            <a:ext cx="464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Bedenk wat je met d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oe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Er mag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en groot wit stuk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de tekening z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al bakje met inkt bij docent + brede kw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kt in dunne laag opbrengen, Tekening kun je iets door de laag  nog z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kening droog? Pak kroontjespen, begin met omtreklijn  daarna lichte delen wegkr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www.ukko.nl/img/kleuren/full/kleurplaat-griezels-0001.gif"/>
          <p:cNvPicPr/>
          <p:nvPr/>
        </p:nvPicPr>
        <p:blipFill>
          <a:blip r:embed="rId1"/>
          <a:stretch/>
        </p:blipFill>
        <p:spPr>
          <a:xfrm>
            <a:off x="533520" y="2895480"/>
            <a:ext cx="297792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casperboot.nl/wp-content/uploads/2011/02/14520006.jpg"/>
          <p:cNvPicPr/>
          <p:nvPr/>
        </p:nvPicPr>
        <p:blipFill>
          <a:blip r:embed="rId2"/>
          <a:stretch/>
        </p:blipFill>
        <p:spPr>
          <a:xfrm>
            <a:off x="228600" y="1295280"/>
            <a:ext cx="3581280" cy="23749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lhoue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rc_mi" descr="http://waltsturrock.com/wp-content/uploads/2013/07/Scary_Tree_4.jpg"/>
          <p:cNvPicPr/>
          <p:nvPr/>
        </p:nvPicPr>
        <p:blipFill>
          <a:blip r:embed="rId1"/>
          <a:stretch/>
        </p:blipFill>
        <p:spPr>
          <a:xfrm>
            <a:off x="76320" y="1150920"/>
            <a:ext cx="4781520" cy="3973680"/>
          </a:xfrm>
          <a:prstGeom prst="rect">
            <a:avLst/>
          </a:prstGeom>
          <a:ln w="0">
            <a:noFill/>
          </a:ln>
        </p:spPr>
      </p:pic>
      <p:pic>
        <p:nvPicPr>
          <p:cNvPr id="61" name="irc_mi" descr="http://4.bp.blogspot.com/-sgED5kID-bU/Uj7VOlFiCHI/AAAAAAAAJUk/08a0rp42oWg/s1600/Spooky-tree+with+creepy+house.jpg"/>
          <p:cNvPicPr/>
          <p:nvPr/>
        </p:nvPicPr>
        <p:blipFill>
          <a:blip r:embed="rId2"/>
          <a:stretch/>
        </p:blipFill>
        <p:spPr>
          <a:xfrm>
            <a:off x="4724280" y="1150920"/>
            <a:ext cx="38880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4.bp.blogspot.com/-BHczWWXsUIE/UMYnAx8q-pI/AAAAAAAAmEc/xAytCiIlIA0/s1600/wallpaper-met-zombie-met-rode-ogen.jpg"/>
          <p:cNvPicPr/>
          <p:nvPr/>
        </p:nvPicPr>
        <p:blipFill>
          <a:blip r:embed="rId1"/>
          <a:stretch/>
        </p:blipFill>
        <p:spPr>
          <a:xfrm>
            <a:off x="838080" y="1219320"/>
            <a:ext cx="74185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rc_mi" descr="http://fc07.deviantart.net/fs70/i/2013/305/8/6/spooky_forest_by_visualiart-d6sk79y.jpg"/>
          <p:cNvPicPr/>
          <p:nvPr/>
        </p:nvPicPr>
        <p:blipFill>
          <a:blip r:embed="rId1"/>
          <a:stretch/>
        </p:blipFill>
        <p:spPr>
          <a:xfrm>
            <a:off x="914400" y="754200"/>
            <a:ext cx="7243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rc_mi" descr="http://3.bp.blogspot.com/_Tg4YEtohJek/S8oWsmWsj0I/AAAAAAAAA7A/Tbz_GAp6Hjc/s1600/tree+scary.jpg"/>
          <p:cNvPicPr/>
          <p:nvPr/>
        </p:nvPicPr>
        <p:blipFill>
          <a:blip r:embed="rId1"/>
          <a:stretch/>
        </p:blipFill>
        <p:spPr>
          <a:xfrm>
            <a:off x="533520" y="914400"/>
            <a:ext cx="81738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6:55:30Z</dcterms:created>
  <dc:creator>Trudy</dc:creator>
  <dc:description/>
  <dc:language>en-US</dc:language>
  <cp:lastModifiedBy>Trudy Ross-Tervooren</cp:lastModifiedBy>
  <dcterms:modified xsi:type="dcterms:W3CDTF">2015-02-04T09:14:25Z</dcterms:modified>
  <cp:revision>14</cp:revision>
  <dc:subject/>
  <dc:title>Opdracht: GRIEZELBOMEN</dc:title>
</cp:coreProperties>
</file>