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399-F115-4317-8337-500366FE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101-43FF-48E1-A89E-B8475CC1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442-8B5E-4F6B-83DA-954B16C2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9F4-0673-44EC-908A-5E8D7F44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269-D26C-4FCB-8F8D-C39B57AE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F59-7E24-4D83-8614-FA195F5D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A35-7996-465D-A997-FD164680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06C-F846-4B89-8D5A-93E33E2E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AF8-7298-43A1-832B-D2E86CE6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5E1-0A1B-42B4-AEED-B5B526CC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E1D-E559-4D62-A29D-8E4DD278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0DA-BAD8-46B6-AF44-DA446F27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C603-D534-4CDD-8290-221A44D885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BILITY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 STAAT Z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WOORDIGE TIJD EN TOEKOM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 en BE ABLE TO &gt; in staat zijn, ku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ben betrekking op het 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 can speak English;We can’t speak Chi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L BE ABLE TO &gt; TOEKOM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xt year this baby will be able to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 / CAN’T &gt; geeft aan of je een afspraak wel of niet kunt na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 can’t come tonight, I have to work over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 heeft GEEN INFINITIEF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 may be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will be able to answer all you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y should be able to finish their work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bruik BEING ABLE TO als –ING VORM nodig is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Gebruik HAVE/HAS BEEN ABLE TO in V.T.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he hates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like being able to fulfil all your w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 has never been able to 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 have not been able to walk since my skiing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BILITY / IN STAAT ZIJ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de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leden tijd van CAN is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vorm gebruiken voor situaties in het algem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he could read when she was 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 could run the marathon in less than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ree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ÉÉN ENKELE KEER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(in het verled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ET GAAT OM IETS DAT JE MAAR EEN KEER GEDAAN KON KRIJGEN GEBRUIK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NAGE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EDED I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/WERE ABL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w did you manage to fix your b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d you succeed in winning the ma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AS NIET IN STAAT / KON 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ALTIJD COULD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SITUATIES IN HET ALGEM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EENMALIGE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 COULDN’T TELL THE TIME UNTIL I WAS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 COULD’NT GET OUT OF BE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COULDN’T HEAR WHAT HE 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8:51:24Z</dcterms:created>
  <dc:creator>Rini Kools</dc:creator>
  <dc:description/>
  <dc:language>en-US</dc:language>
  <cp:lastModifiedBy>Joyce van Hoorn</cp:lastModifiedBy>
  <dcterms:modified xsi:type="dcterms:W3CDTF">2016-05-31T08:59:29Z</dcterms:modified>
  <cp:revision>3</cp:revision>
  <dc:subject/>
  <dc:title>ABILITY  =</dc:title>
</cp:coreProperties>
</file>