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20031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BEC9-FD81-406D-B2F6-38AEF8180F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eveel jongeren roken drinken en blowen in de afgelopen ma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on: Jeugd en Riskant Gedrag 2011, Utrecht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aandprevalentie: aantal jongeren dat in maand voorafgaand aan het onderzoek gerookt, gedronken of geblowd he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8F59-CE8E-4360-A961-F10DF81212D9}" type="slidenum">
              <a:rPr b="0" lang="nl-NL" sz="12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it is een overzicht van het percentage scholieren (12-18 jaar) dat ooit alcohol, tabak, cannabis of xtc heeft gebruik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on: Jeugd en Riskant Gedrag 2011, Utrecht 20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ijdelijke aanduiding voor datum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5ECE-6AA2-41BA-96FE-7C861FC3A7F8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ijdelijke aanduiding voor dianumm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6AE2-4EC6-4407-B485-565230B7DD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eugd en Riskant Gedrag 2011, Utrecht 20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ctuele drinkers: percentage van hen dat maandelijks 5 of meer glazen drinkt bij één gelegenhe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47D7-E1DB-4B6F-B56C-265B1CB9DEDE}" type="slidenum">
              <a:rPr b="0" lang="nl-NL" sz="12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15- jarige jongeren die tijdens het onderzoek aangaven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in de afgelopen maand geblowd te hebben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, hoe vaak hebben zij in die maand geblow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on: Jeugd en Riskant Gedrag 2011, Utrecht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9199-9538-4933-A4BC-361DD24019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EB2E-F3E7-4C67-BED3-25F4D13DA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822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95480"/>
            <a:ext cx="822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4CC5-4E3C-47D5-B3AF-5F301031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07172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54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954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1389-102E-427B-8296-DCE1652C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07172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07172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9548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9548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9548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1A75-8470-489A-948A-F3870D865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7172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0" y="4320"/>
            <a:ext cx="9144000" cy="42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7172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954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066A-E218-444E-AEC2-A1F8BAA0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7172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954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7172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95480"/>
            <a:ext cx="822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822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95480"/>
            <a:ext cx="822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7172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954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954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7172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7172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9548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9548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9548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CE92-23CC-4573-B89D-F1E5D765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07172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D831-DD93-4BC3-A2E5-3F11A5D5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073D-8685-4EE4-AD99-8AC8A230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4320"/>
            <a:ext cx="9144000" cy="42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F630-3AA6-4BE9-A45C-C0513E61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7172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954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07CA-1A22-4BB5-B348-94B26465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7172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954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4807-05E2-47BE-A408-DC0EF4B0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7172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95480"/>
            <a:ext cx="822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A11A-CECF-4CD9-BE24-DED4518D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13" descr="test definitief.tif"/>
          <p:cNvPicPr/>
          <p:nvPr/>
        </p:nvPicPr>
        <p:blipFill>
          <a:blip r:embed="rId2"/>
          <a:srcRect l="2655" t="11211" r="25678" b="52252"/>
          <a:stretch/>
        </p:blipFill>
        <p:spPr>
          <a:xfrm>
            <a:off x="0" y="6399360"/>
            <a:ext cx="9144000" cy="46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20031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2003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2003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e2003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500200" y="6450120"/>
            <a:ext cx="357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264000" y="6447960"/>
            <a:ext cx="1633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072280" y="6453360"/>
            <a:ext cx="67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A868-7B22-40E7-AF68-807A26F3A875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Rechte verbindingslijn 10" descr=""/>
          <p:cNvPicPr/>
          <p:nvPr/>
        </p:nvPicPr>
        <p:blipFill>
          <a:blip r:embed="rId3"/>
          <a:stretch/>
        </p:blipFill>
        <p:spPr>
          <a:xfrm>
            <a:off x="-19080" y="890640"/>
            <a:ext cx="9186840" cy="5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fbeelding 13" descr="test definitief.tif"/>
          <p:cNvPicPr/>
          <p:nvPr/>
        </p:nvPicPr>
        <p:blipFill>
          <a:blip r:embed="rId2"/>
          <a:srcRect l="2655" t="11211" r="25678" b="52252"/>
          <a:stretch/>
        </p:blipFill>
        <p:spPr>
          <a:xfrm>
            <a:off x="0" y="6399360"/>
            <a:ext cx="9144000" cy="466560"/>
          </a:xfrm>
          <a:prstGeom prst="rect">
            <a:avLst/>
          </a:prstGeom>
          <a:ln w="0">
            <a:noFill/>
          </a:ln>
        </p:spPr>
      </p:pic>
      <p:pic>
        <p:nvPicPr>
          <p:cNvPr id="44" name="Rechte verbindingslijn 10" descr=""/>
          <p:cNvPicPr/>
          <p:nvPr/>
        </p:nvPicPr>
        <p:blipFill>
          <a:blip r:embed="rId3"/>
          <a:stretch/>
        </p:blipFill>
        <p:spPr>
          <a:xfrm>
            <a:off x="-19080" y="890640"/>
            <a:ext cx="9186840" cy="54000"/>
          </a:xfrm>
          <a:prstGeom prst="rect">
            <a:avLst/>
          </a:prstGeom>
          <a:ln w="0">
            <a:noFill/>
          </a:ln>
        </p:spPr>
      </p:pic>
      <p:sp>
        <p:nvSpPr>
          <p:cNvPr id="45" name="Rechthoek 8"/>
          <p:cNvSpPr/>
          <p:nvPr/>
        </p:nvSpPr>
        <p:spPr>
          <a:xfrm>
            <a:off x="0" y="6296040"/>
            <a:ext cx="914400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4"/>
          <a:stretch/>
        </p:blipFill>
        <p:spPr>
          <a:xfrm>
            <a:off x="5429160" y="466560"/>
            <a:ext cx="3714840" cy="6391440"/>
          </a:xfrm>
          <a:prstGeom prst="rect">
            <a:avLst/>
          </a:prstGeom>
          <a:ln w="0">
            <a:noFill/>
          </a:ln>
        </p:spPr>
      </p:pic>
      <p:sp>
        <p:nvSpPr>
          <p:cNvPr id="47" name="Tekstvak 11"/>
          <p:cNvSpPr/>
          <p:nvPr/>
        </p:nvSpPr>
        <p:spPr>
          <a:xfrm>
            <a:off x="142920" y="3286080"/>
            <a:ext cx="5572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kstvak 12"/>
          <p:cNvSpPr/>
          <p:nvPr/>
        </p:nvSpPr>
        <p:spPr>
          <a:xfrm>
            <a:off x="4357800" y="214200"/>
            <a:ext cx="45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400" spc="-1" strike="noStrike">
                <a:solidFill>
                  <a:srgbClr val="a6a6a6"/>
                </a:solidFill>
                <a:latin typeface="Verdana"/>
              </a:rPr>
              <a:t>Improving Mental Health by Sharing Knowl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hthoek 13"/>
          <p:cNvSpPr/>
          <p:nvPr/>
        </p:nvSpPr>
        <p:spPr>
          <a:xfrm>
            <a:off x="0" y="928800"/>
            <a:ext cx="57150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Afbeelding 14" descr="Logo Trimbos.jpg"/>
          <p:cNvPicPr/>
          <p:nvPr/>
        </p:nvPicPr>
        <p:blipFill>
          <a:blip r:embed="rId5"/>
          <a:stretch/>
        </p:blipFill>
        <p:spPr>
          <a:xfrm>
            <a:off x="1814400" y="5229360"/>
            <a:ext cx="2338560" cy="1342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20031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2003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2003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e2003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8200" y="317520"/>
            <a:ext cx="4468680" cy="352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Object 2"/>
          <p:cNvGraphicFramePr/>
          <p:nvPr/>
        </p:nvGraphicFramePr>
        <p:xfrm>
          <a:off x="4603680" y="3367080"/>
          <a:ext cx="4873680" cy="34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03680" y="3367080"/>
                    <a:ext cx="4873680" cy="34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7"/>
          <p:cNvSpPr/>
          <p:nvPr/>
        </p:nvSpPr>
        <p:spPr>
          <a:xfrm>
            <a:off x="1057320" y="4357800"/>
            <a:ext cx="3875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s er een proble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Landelijke cijfers en waar hebben we het over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3164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Op blz 513-514 staan verschillende voorbeelden.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Welke had je zelf opgeschreven welke denk jij dat het best zal werken en waarom?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e20031"/>
                </a:solidFill>
                <a:latin typeface="Verdana"/>
              </a:rPr>
              <a:t>Beschikbaarheid beperken</a:t>
            </a: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124" name="Tijdelijke aanduiding voor voettekst 3"/>
          <p:cNvSpPr/>
          <p:nvPr/>
        </p:nvSpPr>
        <p:spPr>
          <a:xfrm>
            <a:off x="2500200" y="6450120"/>
            <a:ext cx="3571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ijdelijke aanduiding voor datum 4"/>
          <p:cNvSpPr/>
          <p:nvPr/>
        </p:nvSpPr>
        <p:spPr>
          <a:xfrm>
            <a:off x="6264360" y="6448320"/>
            <a:ext cx="163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jdelijke aanduiding voor dianummer 5"/>
          <p:cNvSpPr/>
          <p:nvPr/>
        </p:nvSpPr>
        <p:spPr>
          <a:xfrm>
            <a:off x="8072280" y="6453360"/>
            <a:ext cx="67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DAD2-31CE-4B9E-8587-92FDF7532242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3164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Welke drie benaderingswijzen zijn er? ( blz515)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En geef van elk een voorbeeld of kenmerk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e20031"/>
                </a:solidFill>
                <a:latin typeface="Verdana"/>
              </a:rPr>
              <a:t>Voorlichting en educatie</a:t>
            </a: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129" name="Tijdelijke aanduiding voor voettekst 3"/>
          <p:cNvSpPr/>
          <p:nvPr/>
        </p:nvSpPr>
        <p:spPr>
          <a:xfrm>
            <a:off x="2500200" y="6450120"/>
            <a:ext cx="3571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ijdelijke aanduiding voor datum 4"/>
          <p:cNvSpPr/>
          <p:nvPr/>
        </p:nvSpPr>
        <p:spPr>
          <a:xfrm>
            <a:off x="6264360" y="6448320"/>
            <a:ext cx="163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ijdelijke aanduiding voor dianummer 5"/>
          <p:cNvSpPr/>
          <p:nvPr/>
        </p:nvSpPr>
        <p:spPr>
          <a:xfrm>
            <a:off x="8072280" y="6453360"/>
            <a:ext cx="67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9FDF-4D6E-43E9-AEBF-BDB93E9E9A0C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3164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18.3.3: zoek uit wat de volgende woorden betekenen: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Effectieve preventie werking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Zelfsignalering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Problematisch gebruik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Reden van gebruik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Hoeveelheid en patroon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Klachten en incidenten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e20031"/>
                </a:solidFill>
                <a:latin typeface="Verdana"/>
              </a:rPr>
              <a:t>vroegsignalering</a:t>
            </a: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134" name="Tijdelijke aanduiding voor voettekst 3"/>
          <p:cNvSpPr/>
          <p:nvPr/>
        </p:nvSpPr>
        <p:spPr>
          <a:xfrm>
            <a:off x="2500200" y="6450120"/>
            <a:ext cx="3571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ijdelijke aanduiding voor datum 4"/>
          <p:cNvSpPr/>
          <p:nvPr/>
        </p:nvSpPr>
        <p:spPr>
          <a:xfrm>
            <a:off x="6264360" y="6448320"/>
            <a:ext cx="163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ijdelijke aanduiding voor dianummer 5"/>
          <p:cNvSpPr/>
          <p:nvPr/>
        </p:nvSpPr>
        <p:spPr>
          <a:xfrm>
            <a:off x="8072280" y="6453360"/>
            <a:ext cx="67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5498-F9A2-430A-A152-F90733675ACF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3164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De gezonde school en genotmiddelen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homeparty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e20031"/>
                </a:solidFill>
                <a:latin typeface="Verdana"/>
              </a:rPr>
              <a:t>Evidence-based</a:t>
            </a: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139" name="Tijdelijke aanduiding voor voettekst 3"/>
          <p:cNvSpPr/>
          <p:nvPr/>
        </p:nvSpPr>
        <p:spPr>
          <a:xfrm>
            <a:off x="2500200" y="6450120"/>
            <a:ext cx="3571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ijdelijke aanduiding voor datum 4"/>
          <p:cNvSpPr/>
          <p:nvPr/>
        </p:nvSpPr>
        <p:spPr>
          <a:xfrm>
            <a:off x="6264360" y="6448320"/>
            <a:ext cx="163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8072280" y="6453360"/>
            <a:ext cx="67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83EC-6366-4B83-9623-85428402A75B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3164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Universele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Selectieve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Geïndiceerde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Zorggerichte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Samen met he buurvrouw ga je in een paar zinnen beschrijven wat dit inhoudt en jullie geven van elke vorm een voorbeeld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e20031"/>
                </a:solidFill>
                <a:latin typeface="Verdana"/>
              </a:rPr>
              <a:t>4 vormen van preventie</a:t>
            </a: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144" name="Tijdelijke aanduiding voor voettekst 3"/>
          <p:cNvSpPr/>
          <p:nvPr/>
        </p:nvSpPr>
        <p:spPr>
          <a:xfrm>
            <a:off x="2500200" y="6450120"/>
            <a:ext cx="3571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ijdelijke aanduiding voor datum 4"/>
          <p:cNvSpPr/>
          <p:nvPr/>
        </p:nvSpPr>
        <p:spPr>
          <a:xfrm>
            <a:off x="6264360" y="6448320"/>
            <a:ext cx="163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ijdelijke aanduiding voor dianummer 5"/>
          <p:cNvSpPr/>
          <p:nvPr/>
        </p:nvSpPr>
        <p:spPr>
          <a:xfrm>
            <a:off x="8072280" y="6453360"/>
            <a:ext cx="67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6EBF-E90B-4CDE-9454-5F8DC9E1F257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e20031"/>
                </a:solidFill>
                <a:latin typeface="Verdana"/>
              </a:rPr>
              <a:t>Risico-beschermende factoren</a:t>
            </a: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143000"/>
            <a:ext cx="40384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De buurt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Lage sociale status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Opleiding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Ouders die gebruiken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Verslavind in de familie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1143000"/>
            <a:ext cx="40384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Ouders die grenzen stellen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Goed voorbeeld gedrag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Hogere sociale status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Hoge opleiding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Tijdelijke aanduiding voor voettekst 3"/>
          <p:cNvSpPr/>
          <p:nvPr/>
        </p:nvSpPr>
        <p:spPr>
          <a:xfrm>
            <a:off x="2500200" y="6450120"/>
            <a:ext cx="3571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ijdelijke aanduiding voor datum 4"/>
          <p:cNvSpPr/>
          <p:nvPr/>
        </p:nvSpPr>
        <p:spPr>
          <a:xfrm>
            <a:off x="6264360" y="6448320"/>
            <a:ext cx="163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jdelijke aanduiding voor dianummer 5"/>
          <p:cNvSpPr/>
          <p:nvPr/>
        </p:nvSpPr>
        <p:spPr>
          <a:xfrm>
            <a:off x="8072280" y="6453360"/>
            <a:ext cx="67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80CC-F1E7-4707-91AB-2617BB8D5B27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3164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Positieve aanpak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Aansluiting bij de doelgroep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Integrale aanpak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Zo vroeg mogelijk ingrijpen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onderzoek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e20031"/>
                </a:solidFill>
                <a:latin typeface="Verdana"/>
              </a:rPr>
              <a:t>Effectieve preventieprogramma’s</a:t>
            </a: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155" name="Tijdelijke aanduiding voor voettekst 4"/>
          <p:cNvSpPr/>
          <p:nvPr/>
        </p:nvSpPr>
        <p:spPr>
          <a:xfrm>
            <a:off x="2500200" y="6450120"/>
            <a:ext cx="3571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jdelijke aanduiding voor datum 5"/>
          <p:cNvSpPr/>
          <p:nvPr/>
        </p:nvSpPr>
        <p:spPr>
          <a:xfrm>
            <a:off x="6264360" y="6448320"/>
            <a:ext cx="163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ijdelijke aanduiding voor dianummer 6"/>
          <p:cNvSpPr/>
          <p:nvPr/>
        </p:nvSpPr>
        <p:spPr>
          <a:xfrm>
            <a:off x="8072280" y="6453360"/>
            <a:ext cx="67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F851-52C2-490A-AA07-5B161F71EBBC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3164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In groepjes van 4: jullie krijgen van docent een model toegewezen, deze lees je door en tekent dit op een a4 zodat je het aan de klas kunt uitleggen.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Transtheoretisch mod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ASE mod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Persuasieve communicatie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Sociaal cognitieve theorie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e20031"/>
                </a:solidFill>
                <a:latin typeface="Verdana"/>
              </a:rPr>
              <a:t>Modellen van gedragsverandering</a:t>
            </a: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160" name="Tijdelijke aanduiding voor voettekst 3"/>
          <p:cNvSpPr/>
          <p:nvPr/>
        </p:nvSpPr>
        <p:spPr>
          <a:xfrm>
            <a:off x="2500200" y="6450120"/>
            <a:ext cx="3571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Verdana"/>
              </a:rPr>
              <a:t>Week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ijdelijke aanduiding voor datum 4"/>
          <p:cNvSpPr/>
          <p:nvPr/>
        </p:nvSpPr>
        <p:spPr>
          <a:xfrm>
            <a:off x="6264360" y="6448320"/>
            <a:ext cx="163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Verdana"/>
              </a:rPr>
              <a:t>27-10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ijdelijke aanduiding voor dianummer 5"/>
          <p:cNvSpPr/>
          <p:nvPr/>
        </p:nvSpPr>
        <p:spPr>
          <a:xfrm>
            <a:off x="8072280" y="6453360"/>
            <a:ext cx="67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1A26-E6EB-4556-90C0-87BD4ABF1EC0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nl-NL" sz="2800" spc="-1" strike="noStrike">
                <a:solidFill>
                  <a:srgbClr val="e20031"/>
                </a:solidFill>
                <a:latin typeface="Verdana"/>
              </a:rPr>
              <a:t>Is er een probleem? </a:t>
            </a:r>
            <a:br>
              <a:rPr sz="2800"/>
            </a:br>
            <a:r>
              <a:rPr b="1" lang="nl-NL" sz="2800" spc="-1" strike="noStrike">
                <a:solidFill>
                  <a:srgbClr val="e20031"/>
                </a:solidFill>
                <a:latin typeface="Verdana"/>
              </a:rPr>
              <a:t>Aantal jongeren dat drinkt, rookt en blowt.</a:t>
            </a:r>
            <a:br>
              <a:rPr sz="2800"/>
            </a:br>
            <a:r>
              <a:rPr b="1" lang="nl-NL" sz="2000" spc="-1" strike="noStrike">
                <a:solidFill>
                  <a:srgbClr val="e20031"/>
                </a:solidFill>
                <a:latin typeface="Verdana"/>
              </a:rPr>
              <a:t>(in de afgelopen maand)</a:t>
            </a:r>
            <a:endParaRPr b="1" lang="en-US" sz="2000" spc="-1" strike="noStrike">
              <a:solidFill>
                <a:srgbClr val="e20031"/>
              </a:solidFill>
              <a:latin typeface="Verdana"/>
            </a:endParaRPr>
          </a:p>
        </p:txBody>
      </p:sp>
      <p:pic>
        <p:nvPicPr>
          <p:cNvPr id="101" name="Tijdelijke aanduiding voor inhoud 5" descr=""/>
          <p:cNvPicPr/>
          <p:nvPr/>
        </p:nvPicPr>
        <p:blipFill>
          <a:blip r:embed="rId1"/>
          <a:stretch/>
        </p:blipFill>
        <p:spPr>
          <a:xfrm>
            <a:off x="560520" y="1362240"/>
            <a:ext cx="7807320" cy="49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ijdelijke aanduiding voor voettekst 2"/>
          <p:cNvSpPr/>
          <p:nvPr/>
        </p:nvSpPr>
        <p:spPr>
          <a:xfrm>
            <a:off x="2500200" y="6450120"/>
            <a:ext cx="3571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eek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ijdelijke aanduiding voor datum 3"/>
          <p:cNvSpPr/>
          <p:nvPr/>
        </p:nvSpPr>
        <p:spPr>
          <a:xfrm>
            <a:off x="6264360" y="6448320"/>
            <a:ext cx="163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27-10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ijdelijke aanduiding voor dianummer 4"/>
          <p:cNvSpPr/>
          <p:nvPr/>
        </p:nvSpPr>
        <p:spPr>
          <a:xfrm>
            <a:off x="8072280" y="6453360"/>
            <a:ext cx="67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4FA6-A765-46C0-AE1D-FEB1E210EE1F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20031"/>
                </a:solidFill>
                <a:latin typeface="Verdana"/>
              </a:rPr>
              <a:t>Alcohol, tabak, cannabis en XTC-gebruik</a:t>
            </a:r>
            <a:endParaRPr b="1" lang="en-US" sz="3200" spc="-1" strike="noStrike">
              <a:solidFill>
                <a:srgbClr val="e20031"/>
              </a:solidFill>
              <a:latin typeface="Verdana"/>
            </a:endParaRPr>
          </a:p>
        </p:txBody>
      </p:sp>
      <p:pic>
        <p:nvPicPr>
          <p:cNvPr id="106" name="Object 5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76327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20031"/>
                </a:solidFill>
                <a:latin typeface="Verdana"/>
              </a:rPr>
              <a:t>5 of meer glazen bij één gelegenheid</a:t>
            </a:r>
            <a:endParaRPr b="1" lang="en-US" sz="3200" spc="-1" strike="noStrike">
              <a:solidFill>
                <a:srgbClr val="e20031"/>
              </a:solidFill>
              <a:latin typeface="Verdana"/>
            </a:endParaRPr>
          </a:p>
        </p:txBody>
      </p:sp>
      <p:pic>
        <p:nvPicPr>
          <p:cNvPr id="108" name="Grafiek 6" descr=""/>
          <p:cNvPicPr/>
          <p:nvPr/>
        </p:nvPicPr>
        <p:blipFill>
          <a:blip r:embed="rId1"/>
          <a:stretch/>
        </p:blipFill>
        <p:spPr>
          <a:xfrm>
            <a:off x="1116000" y="1481040"/>
            <a:ext cx="65530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20031"/>
                </a:solidFill>
                <a:latin typeface="Verdana"/>
              </a:rPr>
              <a:t>Hoe vaak blowen jongeren </a:t>
            </a:r>
            <a:br>
              <a:rPr sz="3200"/>
            </a:br>
            <a:r>
              <a:rPr b="1" lang="nl-NL" sz="3200" spc="-1" strike="noStrike">
                <a:solidFill>
                  <a:srgbClr val="e20031"/>
                </a:solidFill>
                <a:latin typeface="Verdana"/>
              </a:rPr>
              <a:t>per maand? </a:t>
            </a:r>
            <a:r>
              <a:rPr b="1" lang="nl-NL" sz="2800" spc="-1" strike="noStrike">
                <a:solidFill>
                  <a:srgbClr val="e20031"/>
                </a:solidFill>
                <a:latin typeface="Verdana"/>
              </a:rPr>
              <a:t>(15 jaar)</a:t>
            </a:r>
            <a:endParaRPr b="1" lang="en-US" sz="2800" spc="-1" strike="noStrike">
              <a:solidFill>
                <a:srgbClr val="e20031"/>
              </a:solidFill>
              <a:latin typeface="Verdana"/>
            </a:endParaRPr>
          </a:p>
        </p:txBody>
      </p:sp>
      <p:pic>
        <p:nvPicPr>
          <p:cNvPr id="110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249120" y="1554120"/>
            <a:ext cx="864576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nl-NL" sz="3200" spc="-1" strike="noStrike">
                <a:solidFill>
                  <a:srgbClr val="e20031"/>
                </a:solidFill>
                <a:latin typeface="Verdana"/>
              </a:rPr>
              <a:t>Waarom is drinken en blowen zo schadelijk voor jongeren?</a:t>
            </a:r>
            <a:br>
              <a:rPr sz="3200"/>
            </a:br>
            <a:endParaRPr b="1" lang="en-US" sz="32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3164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Verdana"/>
              </a:rPr>
              <a:t>De risico's van alcohol: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Verdana"/>
              </a:rPr>
              <a:t>Korte termijn: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Verdana"/>
              </a:rPr>
              <a:t>Alcoholvergiftiging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Verdana"/>
              </a:rPr>
              <a:t>Onveilige seks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Verdana"/>
              </a:rPr>
              <a:t>Black-out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Verdana"/>
              </a:rPr>
              <a:t>Geweld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Verdana"/>
              </a:rPr>
              <a:t>Slechte leerprestaties 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Verdana"/>
              </a:rPr>
              <a:t>Lange termijn: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Verdana"/>
              </a:rPr>
              <a:t>Schooluitva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Verdana"/>
              </a:rPr>
              <a:t>Schade aan de hersenen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Verdana"/>
              </a:rPr>
              <a:t>Kans op alcoholprobleem/verslaving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Verdana"/>
              </a:rPr>
              <a:t>Ziekten: kanker, levercirrose, hart- en vaatziekten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nl-NL" sz="3600" spc="-1" strike="noStrike">
                <a:solidFill>
                  <a:srgbClr val="e20031"/>
                </a:solidFill>
                <a:latin typeface="Verdana"/>
              </a:rPr>
              <a:t>De risico's van blowen</a:t>
            </a:r>
            <a:br>
              <a:rPr sz="3200"/>
            </a:b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3164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Korte termijn: 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Hoofdpijn, duizeligheid,verergeren slechte stemming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Lange termijn: 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Schade aan de luchtwegen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Slechte leerprestaties en schooluitval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Psychische stoornis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Verslaving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e20031"/>
                </a:solidFill>
                <a:latin typeface="Verdana"/>
              </a:rPr>
              <a:t>Problematisch gebruik</a:t>
            </a: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3164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Het gebruik krijgt een steeds grotere rol in het dagelijks leven.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Het gebruik veroorzaakt sociale problemen.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Er wordt om de verkeerde redenen gebruikt (om problemen te vergeten en wegens spanningen).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3164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Beschikbaarheid beperken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Voorlichting geven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Vroegsignalering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Bespreek met je buurvrouw bij elk onderdeel meerdere  voorbeelden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e20031"/>
                </a:solidFill>
                <a:latin typeface="Verdana"/>
              </a:rPr>
              <a:t>Preventie is dus belangrijk</a:t>
            </a: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119" name="Tijdelijke aanduiding voor voettekst 3"/>
          <p:cNvSpPr/>
          <p:nvPr/>
        </p:nvSpPr>
        <p:spPr>
          <a:xfrm>
            <a:off x="2500200" y="6450120"/>
            <a:ext cx="3571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Verdana"/>
              </a:rPr>
              <a:t>Week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jdelijke aanduiding voor datum 4"/>
          <p:cNvSpPr/>
          <p:nvPr/>
        </p:nvSpPr>
        <p:spPr>
          <a:xfrm>
            <a:off x="6264360" y="6448320"/>
            <a:ext cx="163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Verdana"/>
              </a:rPr>
              <a:t>27-10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ijdelijke aanduiding voor dianummer 5"/>
          <p:cNvSpPr/>
          <p:nvPr/>
        </p:nvSpPr>
        <p:spPr>
          <a:xfrm>
            <a:off x="8072280" y="6453360"/>
            <a:ext cx="67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774D-F082-47C0-8869-6EDCC859DEFB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0T11:00:25Z</dcterms:created>
  <dc:creator>maatma</dc:creator>
  <dc:description/>
  <dc:language>en-US</dc:language>
  <cp:lastModifiedBy>Pauline Sturm</cp:lastModifiedBy>
  <dcterms:modified xsi:type="dcterms:W3CDTF">2016-10-23T12:53:07Z</dcterms:modified>
  <cp:revision>19</cp:revision>
  <dc:subject/>
  <dc:title>Training   Risicovol middelengebruik signaleren bij jonger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ategory">
    <vt:lpwstr>Presentaties</vt:lpwstr>
  </property>
  <property fmtid="{D5CDD505-2E9C-101B-9397-08002B2CF9AE}" pid="3" name="ContentTypeId">
    <vt:lpwstr>0x010100AECE6611A7016A4FB15E6E8949C87F06</vt:lpwstr>
  </property>
  <property fmtid="{D5CDD505-2E9C-101B-9397-08002B2CF9AE}" pid="4" name="Notes0">
    <vt:lpwstr/>
  </property>
  <property fmtid="{D5CDD505-2E9C-101B-9397-08002B2CF9AE}" pid="5" name="Order">
    <vt:lpwstr>1900.00000000000</vt:lpwstr>
  </property>
  <property fmtid="{D5CDD505-2E9C-101B-9397-08002B2CF9AE}" pid="6" name="PublishingExpirationDate">
    <vt:lpwstr/>
  </property>
  <property fmtid="{D5CDD505-2E9C-101B-9397-08002B2CF9AE}" pid="7" name="PublishingStartDate">
    <vt:lpwstr/>
  </property>
  <property fmtid="{D5CDD505-2E9C-101B-9397-08002B2CF9AE}" pid="8" name="TemplateUrl">
    <vt:lpwstr/>
  </property>
  <property fmtid="{D5CDD505-2E9C-101B-9397-08002B2CF9AE}" pid="9" name="xd_ProgID">
    <vt:lpwstr/>
  </property>
  <property fmtid="{D5CDD505-2E9C-101B-9397-08002B2CF9AE}" pid="10" name="xd_Signature">
    <vt:lpwstr/>
  </property>
</Properties>
</file>