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20031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e20031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97511-99F2-45C0-8AD1-E0D365EDA48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oeveel jongeren roken drinken en blowen in de afgelopen maa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ron: Jeugd en Riskant Gedrag 2011, Utrecht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aandprevalentie: aantal jongeren dat in maand voorafgaand aan het onderzoek gerookt, gedronken of geblowd heef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C515D-9427-475E-B1D5-38AF216DC613}" type="slidenum">
              <a:rPr b="0" lang="nl-NL" sz="1200" spc="-1" strike="noStrike">
                <a:solidFill>
                  <a:srgbClr val="000000"/>
                </a:solidFill>
                <a:latin typeface="Arial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it is een overzicht van het percentage scholieren (12-18 jaar) dat ooit alcohol, tabak, cannabis of xtc heeft gebruik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ron: Jeugd en Riskant Gedrag 2011, Utrecht 201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ijdelijke aanduiding voor datum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B38C8-AA56-440A-A33B-F1CC2E131581}" type="datetime">
              <a:rPr b="0" lang="nl-NL" sz="1200" spc="-1" strike="noStrike">
                <a:solidFill>
                  <a:srgbClr val="000000"/>
                </a:solidFill>
                <a:latin typeface="Calibri"/>
              </a:rPr>
              <a:t>30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ijdelijke aanduiding voor dianumm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A038A-A051-4A90-9E4F-C085756F5C7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Jeugd en Riskant Gedrag 2011, Utrecht 201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ctuele drinkers: percentage van hen dat maandelijks 5 of meer glazen drinkt bij één gelegenhe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A19B4-8168-4508-B876-9E0009FB06A6}" type="slidenum">
              <a:rPr b="0" lang="nl-NL" sz="1200" spc="-1" strike="noStrike">
                <a:solidFill>
                  <a:srgbClr val="000000"/>
                </a:solidFill>
                <a:latin typeface="Arial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e 15- jarige jongeren die tijdens het onderzoek aangaven </a:t>
            </a: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in de afgelopen maand geblowd te hebben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, hoe vaak hebben zij in die maand geblow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ron: Jeugd en Riskant Gedrag 2011, Utrecht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EB828-8A60-48C5-A86D-E24221FCF10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4891-AD90-46F9-946A-FB646434B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20031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71720"/>
            <a:ext cx="8229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795480"/>
            <a:ext cx="8229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C53D-F913-4C0E-9DDE-336DD4BBF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20031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71720"/>
            <a:ext cx="40158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071720"/>
            <a:ext cx="40158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5480"/>
            <a:ext cx="40158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795480"/>
            <a:ext cx="40158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02AF-3496-4531-9AA0-259797E94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20031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071720"/>
            <a:ext cx="2649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071720"/>
            <a:ext cx="2649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071720"/>
            <a:ext cx="2649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795480"/>
            <a:ext cx="2649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795480"/>
            <a:ext cx="2649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795480"/>
            <a:ext cx="2649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77B5-AD98-40E1-A0E3-5E08624FB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20031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717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20031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717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20031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71720"/>
            <a:ext cx="40158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71720"/>
            <a:ext cx="40158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20031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0" y="4320"/>
            <a:ext cx="9144000" cy="42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20031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71720"/>
            <a:ext cx="40158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71720"/>
            <a:ext cx="40158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95480"/>
            <a:ext cx="40158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20031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0717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43C0-901A-486E-BC7E-8D36D5554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20031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71720"/>
            <a:ext cx="40158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71720"/>
            <a:ext cx="40158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95480"/>
            <a:ext cx="40158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20031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71720"/>
            <a:ext cx="40158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71720"/>
            <a:ext cx="40158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95480"/>
            <a:ext cx="8229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20031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71720"/>
            <a:ext cx="8229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95480"/>
            <a:ext cx="8229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20031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71720"/>
            <a:ext cx="40158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71720"/>
            <a:ext cx="40158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95480"/>
            <a:ext cx="40158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95480"/>
            <a:ext cx="40158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20031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71720"/>
            <a:ext cx="2649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71720"/>
            <a:ext cx="2649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71720"/>
            <a:ext cx="2649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95480"/>
            <a:ext cx="2649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95480"/>
            <a:ext cx="2649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95480"/>
            <a:ext cx="2649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20031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0717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97A3-D4C0-449D-BC05-30E426517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20031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71720"/>
            <a:ext cx="40158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071720"/>
            <a:ext cx="40158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0972-DC6B-47C3-96B8-8DD78D635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2003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2054-0BCA-43E0-B575-AFD7C208D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4320"/>
            <a:ext cx="9144000" cy="42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B0A8-086D-4F99-A026-6C8836B27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20031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071720"/>
            <a:ext cx="40158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071720"/>
            <a:ext cx="40158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795480"/>
            <a:ext cx="40158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C976-A95F-4338-A46F-A164F6ED8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20031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71720"/>
            <a:ext cx="40158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71720"/>
            <a:ext cx="40158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795480"/>
            <a:ext cx="40158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F4EF-CE9D-4F79-BCC6-66369FD5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20031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71720"/>
            <a:ext cx="40158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71720"/>
            <a:ext cx="40158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795480"/>
            <a:ext cx="8229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9BF3-8C64-4124-8B09-35A77EDE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Afbeelding 13" descr="test definitief.tif"/>
          <p:cNvPicPr/>
          <p:nvPr/>
        </p:nvPicPr>
        <p:blipFill>
          <a:blip r:embed="rId2"/>
          <a:srcRect l="2655" t="11211" r="25678" b="52252"/>
          <a:stretch/>
        </p:blipFill>
        <p:spPr>
          <a:xfrm>
            <a:off x="0" y="6399360"/>
            <a:ext cx="9144000" cy="46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20031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20031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0717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2003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2003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e2003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500200" y="6450120"/>
            <a:ext cx="357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6264000" y="6447960"/>
            <a:ext cx="1633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072280" y="6453360"/>
            <a:ext cx="679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DF7EF-60C8-4CA9-ACFB-E269E0F19447}" type="slidenum">
              <a:rPr b="0" lang="nl-NL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Rechte verbindingslijn 10" descr=""/>
          <p:cNvPicPr/>
          <p:nvPr/>
        </p:nvPicPr>
        <p:blipFill>
          <a:blip r:embed="rId3"/>
          <a:stretch/>
        </p:blipFill>
        <p:spPr>
          <a:xfrm>
            <a:off x="-19080" y="890640"/>
            <a:ext cx="9186840" cy="5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Afbeelding 13" descr="test definitief.tif"/>
          <p:cNvPicPr/>
          <p:nvPr/>
        </p:nvPicPr>
        <p:blipFill>
          <a:blip r:embed="rId2"/>
          <a:srcRect l="2655" t="11211" r="25678" b="52252"/>
          <a:stretch/>
        </p:blipFill>
        <p:spPr>
          <a:xfrm>
            <a:off x="0" y="6399360"/>
            <a:ext cx="9144000" cy="466560"/>
          </a:xfrm>
          <a:prstGeom prst="rect">
            <a:avLst/>
          </a:prstGeom>
          <a:ln w="0">
            <a:noFill/>
          </a:ln>
        </p:spPr>
      </p:pic>
      <p:pic>
        <p:nvPicPr>
          <p:cNvPr id="44" name="Rechte verbindingslijn 10" descr=""/>
          <p:cNvPicPr/>
          <p:nvPr/>
        </p:nvPicPr>
        <p:blipFill>
          <a:blip r:embed="rId3"/>
          <a:stretch/>
        </p:blipFill>
        <p:spPr>
          <a:xfrm>
            <a:off x="-19080" y="890640"/>
            <a:ext cx="9186840" cy="54000"/>
          </a:xfrm>
          <a:prstGeom prst="rect">
            <a:avLst/>
          </a:prstGeom>
          <a:ln w="0">
            <a:noFill/>
          </a:ln>
        </p:spPr>
      </p:pic>
      <p:sp>
        <p:nvSpPr>
          <p:cNvPr id="45" name="Rechthoek 8"/>
          <p:cNvSpPr/>
          <p:nvPr/>
        </p:nvSpPr>
        <p:spPr>
          <a:xfrm>
            <a:off x="0" y="6296040"/>
            <a:ext cx="9144000" cy="57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4"/>
          <a:stretch/>
        </p:blipFill>
        <p:spPr>
          <a:xfrm>
            <a:off x="5429160" y="466560"/>
            <a:ext cx="3714840" cy="6391440"/>
          </a:xfrm>
          <a:prstGeom prst="rect">
            <a:avLst/>
          </a:prstGeom>
          <a:ln w="0">
            <a:noFill/>
          </a:ln>
        </p:spPr>
      </p:pic>
      <p:sp>
        <p:nvSpPr>
          <p:cNvPr id="47" name="Tekstvak 11"/>
          <p:cNvSpPr/>
          <p:nvPr/>
        </p:nvSpPr>
        <p:spPr>
          <a:xfrm>
            <a:off x="142920" y="3286080"/>
            <a:ext cx="5572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kstvak 12"/>
          <p:cNvSpPr/>
          <p:nvPr/>
        </p:nvSpPr>
        <p:spPr>
          <a:xfrm>
            <a:off x="4357800" y="214200"/>
            <a:ext cx="45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400" spc="-1" strike="noStrike">
                <a:solidFill>
                  <a:srgbClr val="a6a6a6"/>
                </a:solidFill>
                <a:latin typeface="Verdana"/>
              </a:rPr>
              <a:t>Improving Mental Health by Sharing Knowled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hthoek 13"/>
          <p:cNvSpPr/>
          <p:nvPr/>
        </p:nvSpPr>
        <p:spPr>
          <a:xfrm>
            <a:off x="0" y="928800"/>
            <a:ext cx="57150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Afbeelding 14" descr="Logo Trimbos.jpg"/>
          <p:cNvPicPr/>
          <p:nvPr/>
        </p:nvPicPr>
        <p:blipFill>
          <a:blip r:embed="rId5"/>
          <a:stretch/>
        </p:blipFill>
        <p:spPr>
          <a:xfrm>
            <a:off x="1814400" y="5229360"/>
            <a:ext cx="2338560" cy="13428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20031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20031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0717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2003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2003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e2003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8200" y="317520"/>
            <a:ext cx="4468680" cy="3521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" name="Object 2"/>
          <p:cNvGraphicFramePr/>
          <p:nvPr/>
        </p:nvGraphicFramePr>
        <p:xfrm>
          <a:off x="4603680" y="3367080"/>
          <a:ext cx="4873680" cy="3443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03680" y="3367080"/>
                    <a:ext cx="4873680" cy="34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Rectangle 7"/>
          <p:cNvSpPr/>
          <p:nvPr/>
        </p:nvSpPr>
        <p:spPr>
          <a:xfrm>
            <a:off x="1057320" y="4357800"/>
            <a:ext cx="38750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Is er een proble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Landelijke cijfers en waar hebben we het over?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31640" y="10717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Verdana"/>
              </a:rPr>
              <a:t>Op blz 513-514 staan verschillende voorbeelden. 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Verdana"/>
              </a:rPr>
              <a:t>Welke had je zelf opgeschreven welke denk jij dat het best zal werken en waarom?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e20031"/>
                </a:solidFill>
                <a:latin typeface="Verdana"/>
              </a:rPr>
              <a:t>Beschikbaarheid beperken</a:t>
            </a:r>
            <a:endParaRPr b="1" lang="en-US" sz="3600" spc="-1" strike="noStrike">
              <a:solidFill>
                <a:srgbClr val="e20031"/>
              </a:solidFill>
              <a:latin typeface="Verdana"/>
            </a:endParaRPr>
          </a:p>
        </p:txBody>
      </p:sp>
      <p:sp>
        <p:nvSpPr>
          <p:cNvPr id="124" name="Tijdelijke aanduiding voor voettekst 3"/>
          <p:cNvSpPr/>
          <p:nvPr/>
        </p:nvSpPr>
        <p:spPr>
          <a:xfrm>
            <a:off x="2500200" y="6450120"/>
            <a:ext cx="3571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ijdelijke aanduiding voor datum 4"/>
          <p:cNvSpPr/>
          <p:nvPr/>
        </p:nvSpPr>
        <p:spPr>
          <a:xfrm>
            <a:off x="6264360" y="6448320"/>
            <a:ext cx="163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ijdelijke aanduiding voor dianummer 5"/>
          <p:cNvSpPr/>
          <p:nvPr/>
        </p:nvSpPr>
        <p:spPr>
          <a:xfrm>
            <a:off x="8072280" y="6453360"/>
            <a:ext cx="679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E76CE-6CD7-4C0F-828B-7EA2DF5B01C1}" type="slidenum">
              <a:rPr b="0" lang="nl-NL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31640" y="10717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Verdana"/>
              </a:rPr>
              <a:t>Welke drie benaderingswijzen zijn er? ( blz515)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Verdana"/>
              </a:rPr>
              <a:t>En geef van elk een voorbeeld of kenmerk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e20031"/>
                </a:solidFill>
                <a:latin typeface="Verdana"/>
              </a:rPr>
              <a:t>Voorlichting en educatie</a:t>
            </a:r>
            <a:endParaRPr b="1" lang="en-US" sz="3600" spc="-1" strike="noStrike">
              <a:solidFill>
                <a:srgbClr val="e20031"/>
              </a:solidFill>
              <a:latin typeface="Verdana"/>
            </a:endParaRPr>
          </a:p>
        </p:txBody>
      </p:sp>
      <p:sp>
        <p:nvSpPr>
          <p:cNvPr id="129" name="Tijdelijke aanduiding voor voettekst 3"/>
          <p:cNvSpPr/>
          <p:nvPr/>
        </p:nvSpPr>
        <p:spPr>
          <a:xfrm>
            <a:off x="2500200" y="6450120"/>
            <a:ext cx="3571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ijdelijke aanduiding voor datum 4"/>
          <p:cNvSpPr/>
          <p:nvPr/>
        </p:nvSpPr>
        <p:spPr>
          <a:xfrm>
            <a:off x="6264360" y="6448320"/>
            <a:ext cx="163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ijdelijke aanduiding voor dianummer 5"/>
          <p:cNvSpPr/>
          <p:nvPr/>
        </p:nvSpPr>
        <p:spPr>
          <a:xfrm>
            <a:off x="8072280" y="6453360"/>
            <a:ext cx="679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DB6F5-7845-4C4F-917C-5A2D0CA7B64C}" type="slidenum">
              <a:rPr b="0" lang="nl-NL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31640" y="10717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Verdana"/>
              </a:rPr>
              <a:t>18.3.3: zoek uit wat de volgende woorden betekenen: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Verdana"/>
              </a:rPr>
              <a:t>Effectieve preventie werking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Verdana"/>
              </a:rPr>
              <a:t>Zelfsignalering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Verdana"/>
              </a:rPr>
              <a:t>Problematisch gebruik 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Verdana"/>
              </a:rPr>
              <a:t>Reden van gebruik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Verdana"/>
              </a:rPr>
              <a:t>Hoeveelheid en patroon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Verdana"/>
              </a:rPr>
              <a:t>Klachten en incidenten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e20031"/>
                </a:solidFill>
                <a:latin typeface="Verdana"/>
              </a:rPr>
              <a:t>vroegsignalering</a:t>
            </a:r>
            <a:endParaRPr b="1" lang="en-US" sz="3600" spc="-1" strike="noStrike">
              <a:solidFill>
                <a:srgbClr val="e20031"/>
              </a:solidFill>
              <a:latin typeface="Verdana"/>
            </a:endParaRPr>
          </a:p>
        </p:txBody>
      </p:sp>
      <p:sp>
        <p:nvSpPr>
          <p:cNvPr id="134" name="Tijdelijke aanduiding voor voettekst 3"/>
          <p:cNvSpPr/>
          <p:nvPr/>
        </p:nvSpPr>
        <p:spPr>
          <a:xfrm>
            <a:off x="2500200" y="6450120"/>
            <a:ext cx="3571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ijdelijke aanduiding voor datum 4"/>
          <p:cNvSpPr/>
          <p:nvPr/>
        </p:nvSpPr>
        <p:spPr>
          <a:xfrm>
            <a:off x="6264360" y="6448320"/>
            <a:ext cx="163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ijdelijke aanduiding voor dianummer 5"/>
          <p:cNvSpPr/>
          <p:nvPr/>
        </p:nvSpPr>
        <p:spPr>
          <a:xfrm>
            <a:off x="8072280" y="6453360"/>
            <a:ext cx="679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48D6E-F4A2-43EA-8815-874F8F7DF144}" type="slidenum">
              <a:rPr b="0" lang="nl-NL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431640" y="10717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Verdana"/>
              </a:rPr>
              <a:t>De gezonde school en genotmiddelen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Verdana"/>
              </a:rPr>
              <a:t>homeparty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e20031"/>
                </a:solidFill>
                <a:latin typeface="Verdana"/>
              </a:rPr>
              <a:t>Evidence-based</a:t>
            </a:r>
            <a:endParaRPr b="1" lang="en-US" sz="3600" spc="-1" strike="noStrike">
              <a:solidFill>
                <a:srgbClr val="e20031"/>
              </a:solidFill>
              <a:latin typeface="Verdana"/>
            </a:endParaRPr>
          </a:p>
        </p:txBody>
      </p:sp>
      <p:sp>
        <p:nvSpPr>
          <p:cNvPr id="139" name="Tijdelijke aanduiding voor voettekst 3"/>
          <p:cNvSpPr/>
          <p:nvPr/>
        </p:nvSpPr>
        <p:spPr>
          <a:xfrm>
            <a:off x="2500200" y="6450120"/>
            <a:ext cx="3571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ijdelijke aanduiding voor datum 4"/>
          <p:cNvSpPr/>
          <p:nvPr/>
        </p:nvSpPr>
        <p:spPr>
          <a:xfrm>
            <a:off x="6264360" y="6448320"/>
            <a:ext cx="163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ijdelijke aanduiding voor dianummer 5"/>
          <p:cNvSpPr/>
          <p:nvPr/>
        </p:nvSpPr>
        <p:spPr>
          <a:xfrm>
            <a:off x="8072280" y="6453360"/>
            <a:ext cx="679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92261-894D-43E0-99EE-67419656EEE7}" type="slidenum">
              <a:rPr b="0" lang="nl-NL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31640" y="10717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Verdana"/>
              </a:rPr>
              <a:t>Universele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Verdana"/>
              </a:rPr>
              <a:t>Selectieve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Verdana"/>
              </a:rPr>
              <a:t>Geïndiceerde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Verdana"/>
              </a:rPr>
              <a:t>Zorggerichte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Verdana"/>
              </a:rPr>
              <a:t>Samen met he buurvrouw ga je in een paar zinnen beschrijven wat dit inhoudt en jullie geven van elke vorm een voorbeeld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e20031"/>
                </a:solidFill>
                <a:latin typeface="Verdana"/>
              </a:rPr>
              <a:t>4 vormen van preventie</a:t>
            </a:r>
            <a:endParaRPr b="1" lang="en-US" sz="3600" spc="-1" strike="noStrike">
              <a:solidFill>
                <a:srgbClr val="e20031"/>
              </a:solidFill>
              <a:latin typeface="Verdana"/>
            </a:endParaRPr>
          </a:p>
        </p:txBody>
      </p:sp>
      <p:sp>
        <p:nvSpPr>
          <p:cNvPr id="144" name="Tijdelijke aanduiding voor voettekst 3"/>
          <p:cNvSpPr/>
          <p:nvPr/>
        </p:nvSpPr>
        <p:spPr>
          <a:xfrm>
            <a:off x="2500200" y="6450120"/>
            <a:ext cx="3571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ijdelijke aanduiding voor datum 4"/>
          <p:cNvSpPr/>
          <p:nvPr/>
        </p:nvSpPr>
        <p:spPr>
          <a:xfrm>
            <a:off x="6264360" y="6448320"/>
            <a:ext cx="163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ijdelijke aanduiding voor dianummer 5"/>
          <p:cNvSpPr/>
          <p:nvPr/>
        </p:nvSpPr>
        <p:spPr>
          <a:xfrm>
            <a:off x="8072280" y="6453360"/>
            <a:ext cx="679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3BFDC-071E-462D-8BFF-A85D2C689CCE}" type="slidenum">
              <a:rPr b="0" lang="nl-NL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e20031"/>
                </a:solidFill>
                <a:latin typeface="Verdana"/>
              </a:rPr>
              <a:t>Risico-beschermende factoren</a:t>
            </a:r>
            <a:endParaRPr b="1" lang="en-US" sz="3600" spc="-1" strike="noStrike">
              <a:solidFill>
                <a:srgbClr val="e20031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143000"/>
            <a:ext cx="403848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Verdana"/>
              </a:rPr>
              <a:t>De buurt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Verdana"/>
              </a:rPr>
              <a:t>Lage sociale status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Verdana"/>
              </a:rPr>
              <a:t>Opleiding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Verdana"/>
              </a:rPr>
              <a:t>Ouders die gebruiken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Verdana"/>
              </a:rPr>
              <a:t>Verslavind in de familie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648320" y="1143000"/>
            <a:ext cx="403848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Verdana"/>
              </a:rPr>
              <a:t>Ouders die grenzen stellen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Verdana"/>
              </a:rPr>
              <a:t>Goed voorbeeld gedrag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Verdana"/>
              </a:rPr>
              <a:t>Hogere sociale status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Verdana"/>
              </a:rPr>
              <a:t>Hoge opleiding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0" name="Tijdelijke aanduiding voor voettekst 3"/>
          <p:cNvSpPr/>
          <p:nvPr/>
        </p:nvSpPr>
        <p:spPr>
          <a:xfrm>
            <a:off x="2500200" y="6450120"/>
            <a:ext cx="3571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ijdelijke aanduiding voor datum 4"/>
          <p:cNvSpPr/>
          <p:nvPr/>
        </p:nvSpPr>
        <p:spPr>
          <a:xfrm>
            <a:off x="6264360" y="6448320"/>
            <a:ext cx="163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ijdelijke aanduiding voor dianummer 5"/>
          <p:cNvSpPr/>
          <p:nvPr/>
        </p:nvSpPr>
        <p:spPr>
          <a:xfrm>
            <a:off x="8072280" y="6453360"/>
            <a:ext cx="679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72B01-4BD6-461B-AE28-55DBCC6E1152}" type="slidenum">
              <a:rPr b="0" lang="nl-NL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31640" y="10717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Verdana"/>
              </a:rPr>
              <a:t>Positieve aanpak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Verdana"/>
              </a:rPr>
              <a:t>Aansluiting bij de doelgroep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Verdana"/>
              </a:rPr>
              <a:t>Integrale aanpak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Verdana"/>
              </a:rPr>
              <a:t>Zo vroeg mogelijk ingrijpen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Verdana"/>
              </a:rPr>
              <a:t>onderzoek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e20031"/>
                </a:solidFill>
                <a:latin typeface="Verdana"/>
              </a:rPr>
              <a:t>Effectieve preventieprogramma’s</a:t>
            </a:r>
            <a:endParaRPr b="1" lang="en-US" sz="3600" spc="-1" strike="noStrike">
              <a:solidFill>
                <a:srgbClr val="e20031"/>
              </a:solidFill>
              <a:latin typeface="Verdana"/>
            </a:endParaRPr>
          </a:p>
        </p:txBody>
      </p:sp>
      <p:sp>
        <p:nvSpPr>
          <p:cNvPr id="155" name="Tijdelijke aanduiding voor voettekst 4"/>
          <p:cNvSpPr/>
          <p:nvPr/>
        </p:nvSpPr>
        <p:spPr>
          <a:xfrm>
            <a:off x="2500200" y="6450120"/>
            <a:ext cx="3571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ijdelijke aanduiding voor datum 5"/>
          <p:cNvSpPr/>
          <p:nvPr/>
        </p:nvSpPr>
        <p:spPr>
          <a:xfrm>
            <a:off x="6264360" y="6448320"/>
            <a:ext cx="163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ijdelijke aanduiding voor dianummer 6"/>
          <p:cNvSpPr/>
          <p:nvPr/>
        </p:nvSpPr>
        <p:spPr>
          <a:xfrm>
            <a:off x="8072280" y="6453360"/>
            <a:ext cx="679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A47D9-FC77-4820-803B-1897CB7AF32A}" type="slidenum">
              <a:rPr b="0" lang="nl-NL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431640" y="10717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Verdana"/>
              </a:rPr>
              <a:t>In groepjes van 4: jullie krijgen van docent een model toegewezen, deze lees je door en tekent dit op een a4 zodat je het aan de klas kunt uitleggen. 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Verdana"/>
              </a:rPr>
              <a:t>Transtheoretisch mod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Verdana"/>
              </a:rPr>
              <a:t>ASE mod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Verdana"/>
              </a:rPr>
              <a:t>Persuasieve communicatie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Verdana"/>
              </a:rPr>
              <a:t>Sociaal cognitieve theorie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e20031"/>
                </a:solidFill>
                <a:latin typeface="Verdana"/>
              </a:rPr>
              <a:t>Modellen van gedragsverandering</a:t>
            </a:r>
            <a:endParaRPr b="1" lang="en-US" sz="3600" spc="-1" strike="noStrike">
              <a:solidFill>
                <a:srgbClr val="e20031"/>
              </a:solidFill>
              <a:latin typeface="Verdana"/>
            </a:endParaRPr>
          </a:p>
        </p:txBody>
      </p:sp>
      <p:sp>
        <p:nvSpPr>
          <p:cNvPr id="160" name="Tijdelijke aanduiding voor voettekst 3"/>
          <p:cNvSpPr/>
          <p:nvPr/>
        </p:nvSpPr>
        <p:spPr>
          <a:xfrm>
            <a:off x="2500200" y="6450120"/>
            <a:ext cx="3571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Verdana"/>
              </a:rPr>
              <a:t>Week 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ijdelijke aanduiding voor datum 4"/>
          <p:cNvSpPr/>
          <p:nvPr/>
        </p:nvSpPr>
        <p:spPr>
          <a:xfrm>
            <a:off x="6264360" y="6448320"/>
            <a:ext cx="163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Verdana"/>
              </a:rPr>
              <a:t>27-10-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ijdelijke aanduiding voor dianummer 5"/>
          <p:cNvSpPr/>
          <p:nvPr/>
        </p:nvSpPr>
        <p:spPr>
          <a:xfrm>
            <a:off x="8072280" y="6453360"/>
            <a:ext cx="679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097EE-9D59-49C6-A599-A69267D47A43}" type="slidenum">
              <a:rPr b="0" lang="nl-NL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nl-NL" sz="2800" spc="-1" strike="noStrike">
                <a:solidFill>
                  <a:srgbClr val="e20031"/>
                </a:solidFill>
                <a:latin typeface="Verdana"/>
              </a:rPr>
              <a:t>Is er een probleem? </a:t>
            </a:r>
            <a:br>
              <a:rPr sz="2800"/>
            </a:br>
            <a:r>
              <a:rPr b="1" lang="nl-NL" sz="2800" spc="-1" strike="noStrike">
                <a:solidFill>
                  <a:srgbClr val="e20031"/>
                </a:solidFill>
                <a:latin typeface="Verdana"/>
              </a:rPr>
              <a:t>Aantal jongeren dat drinkt, rookt en blowt.</a:t>
            </a:r>
            <a:br>
              <a:rPr sz="2800"/>
            </a:br>
            <a:r>
              <a:rPr b="1" lang="nl-NL" sz="2000" spc="-1" strike="noStrike">
                <a:solidFill>
                  <a:srgbClr val="e20031"/>
                </a:solidFill>
                <a:latin typeface="Verdana"/>
              </a:rPr>
              <a:t>(in de afgelopen maand)</a:t>
            </a:r>
            <a:endParaRPr b="1" lang="en-US" sz="2000" spc="-1" strike="noStrike">
              <a:solidFill>
                <a:srgbClr val="e20031"/>
              </a:solidFill>
              <a:latin typeface="Verdana"/>
            </a:endParaRPr>
          </a:p>
        </p:txBody>
      </p:sp>
      <p:pic>
        <p:nvPicPr>
          <p:cNvPr id="101" name="Tijdelijke aanduiding voor inhoud 5" descr=""/>
          <p:cNvPicPr/>
          <p:nvPr/>
        </p:nvPicPr>
        <p:blipFill>
          <a:blip r:embed="rId1"/>
          <a:stretch/>
        </p:blipFill>
        <p:spPr>
          <a:xfrm>
            <a:off x="560520" y="1362240"/>
            <a:ext cx="7807320" cy="49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ijdelijke aanduiding voor voettekst 2"/>
          <p:cNvSpPr/>
          <p:nvPr/>
        </p:nvSpPr>
        <p:spPr>
          <a:xfrm>
            <a:off x="2500200" y="6450120"/>
            <a:ext cx="3571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eek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ijdelijke aanduiding voor datum 3"/>
          <p:cNvSpPr/>
          <p:nvPr/>
        </p:nvSpPr>
        <p:spPr>
          <a:xfrm>
            <a:off x="6264360" y="6448320"/>
            <a:ext cx="163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27-10-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ijdelijke aanduiding voor dianummer 4"/>
          <p:cNvSpPr/>
          <p:nvPr/>
        </p:nvSpPr>
        <p:spPr>
          <a:xfrm>
            <a:off x="8072280" y="6453360"/>
            <a:ext cx="679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F65B6-7FFB-40D1-8C4C-379EE7F06659}" type="slidenum">
              <a:rPr b="0" lang="nl-NL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20031"/>
                </a:solidFill>
                <a:latin typeface="Verdana"/>
              </a:rPr>
              <a:t>Alcohol, tabak, cannabis en XTC-gebruik</a:t>
            </a:r>
            <a:endParaRPr b="1" lang="en-US" sz="3200" spc="-1" strike="noStrike">
              <a:solidFill>
                <a:srgbClr val="e20031"/>
              </a:solidFill>
              <a:latin typeface="Verdana"/>
            </a:endParaRPr>
          </a:p>
        </p:txBody>
      </p:sp>
      <p:pic>
        <p:nvPicPr>
          <p:cNvPr id="106" name="Object 5" descr=""/>
          <p:cNvPicPr/>
          <p:nvPr/>
        </p:nvPicPr>
        <p:blipFill>
          <a:blip r:embed="rId1"/>
          <a:stretch/>
        </p:blipFill>
        <p:spPr>
          <a:xfrm>
            <a:off x="539640" y="981000"/>
            <a:ext cx="763272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20031"/>
                </a:solidFill>
                <a:latin typeface="Verdana"/>
              </a:rPr>
              <a:t>5 of meer glazen bij één gelegenheid</a:t>
            </a:r>
            <a:endParaRPr b="1" lang="en-US" sz="3200" spc="-1" strike="noStrike">
              <a:solidFill>
                <a:srgbClr val="e20031"/>
              </a:solidFill>
              <a:latin typeface="Verdana"/>
            </a:endParaRPr>
          </a:p>
        </p:txBody>
      </p:sp>
      <p:pic>
        <p:nvPicPr>
          <p:cNvPr id="108" name="Grafiek 6" descr=""/>
          <p:cNvPicPr/>
          <p:nvPr/>
        </p:nvPicPr>
        <p:blipFill>
          <a:blip r:embed="rId1"/>
          <a:stretch/>
        </p:blipFill>
        <p:spPr>
          <a:xfrm>
            <a:off x="1116000" y="1481040"/>
            <a:ext cx="655308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20031"/>
                </a:solidFill>
                <a:latin typeface="Verdana"/>
              </a:rPr>
              <a:t>Hoe vaak blowen jongeren </a:t>
            </a:r>
            <a:br>
              <a:rPr sz="3200"/>
            </a:br>
            <a:r>
              <a:rPr b="1" lang="nl-NL" sz="3200" spc="-1" strike="noStrike">
                <a:solidFill>
                  <a:srgbClr val="e20031"/>
                </a:solidFill>
                <a:latin typeface="Verdana"/>
              </a:rPr>
              <a:t>per maand? </a:t>
            </a:r>
            <a:r>
              <a:rPr b="1" lang="nl-NL" sz="2800" spc="-1" strike="noStrike">
                <a:solidFill>
                  <a:srgbClr val="e20031"/>
                </a:solidFill>
                <a:latin typeface="Verdana"/>
              </a:rPr>
              <a:t>(15 jaar)</a:t>
            </a:r>
            <a:endParaRPr b="1" lang="en-US" sz="2800" spc="-1" strike="noStrike">
              <a:solidFill>
                <a:srgbClr val="e20031"/>
              </a:solidFill>
              <a:latin typeface="Verdana"/>
            </a:endParaRPr>
          </a:p>
        </p:txBody>
      </p:sp>
      <p:pic>
        <p:nvPicPr>
          <p:cNvPr id="110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249120" y="1554120"/>
            <a:ext cx="864576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nl-NL" sz="3200" spc="-1" strike="noStrike">
                <a:solidFill>
                  <a:srgbClr val="e20031"/>
                </a:solidFill>
                <a:latin typeface="Verdana"/>
              </a:rPr>
              <a:t>Waarom is drinken en blowen zo schadelijk voor jongeren?</a:t>
            </a:r>
            <a:br>
              <a:rPr sz="3200"/>
            </a:br>
            <a:endParaRPr b="1" lang="en-US" sz="3200" spc="-1" strike="noStrike">
              <a:solidFill>
                <a:srgbClr val="e20031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31640" y="10717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Verdana"/>
              </a:rPr>
              <a:t>De risico's van alcohol: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Verdana"/>
              </a:rPr>
              <a:t>Korte termijn: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Verdana"/>
              </a:rPr>
              <a:t>Alcoholvergiftiging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Verdana"/>
              </a:rPr>
              <a:t>Onveilige seks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Verdana"/>
              </a:rPr>
              <a:t>Black-out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Verdana"/>
              </a:rPr>
              <a:t>Geweld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Verdana"/>
              </a:rPr>
              <a:t>Slechte leerprestaties 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Verdana"/>
              </a:rPr>
              <a:t>Lange termijn: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Verdana"/>
              </a:rPr>
              <a:t>Schooluitval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Verdana"/>
              </a:rPr>
              <a:t>Schade aan de hersenen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Verdana"/>
              </a:rPr>
              <a:t>Kans op alcoholprobleem/verslaving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Verdana"/>
              </a:rPr>
              <a:t>Ziekten: kanker, levercirrose, hart- en vaatziekten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nl-NL" sz="3600" spc="-1" strike="noStrike">
                <a:solidFill>
                  <a:srgbClr val="e20031"/>
                </a:solidFill>
                <a:latin typeface="Verdana"/>
              </a:rPr>
              <a:t>De risico's van blowen</a:t>
            </a:r>
            <a:br>
              <a:rPr sz="3200"/>
            </a:br>
            <a:endParaRPr b="1" lang="en-US" sz="3600" spc="-1" strike="noStrike">
              <a:solidFill>
                <a:srgbClr val="e20031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31640" y="10717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Verdana"/>
              </a:rPr>
              <a:t>Korte termijn: 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Verdana"/>
              </a:rPr>
              <a:t>Hoofdpijn, duizeligheid,verergeren slechte stemming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Verdana"/>
              </a:rPr>
              <a:t>Lange termijn: 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Verdana"/>
              </a:rPr>
              <a:t>Schade aan de luchtwegen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Verdana"/>
              </a:rPr>
              <a:t>Slechte leerprestaties en schooluitval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Verdana"/>
              </a:rPr>
              <a:t>Psychische stoornis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Verdana"/>
              </a:rPr>
              <a:t>Verslaving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e20031"/>
                </a:solidFill>
                <a:latin typeface="Verdana"/>
              </a:rPr>
              <a:t>Problematisch gebruik</a:t>
            </a:r>
            <a:endParaRPr b="1" lang="en-US" sz="3600" spc="-1" strike="noStrike">
              <a:solidFill>
                <a:srgbClr val="e20031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31640" y="10717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Verdana"/>
              </a:rPr>
              <a:t>Het gebruik krijgt een steeds grotere rol in het dagelijks leven.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Verdana"/>
              </a:rPr>
              <a:t>Het gebruik veroorzaakt sociale problemen.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Verdana"/>
              </a:rPr>
              <a:t>Er wordt om de verkeerde redenen gebruikt (om problemen te vergeten en wegens spanningen).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31640" y="10717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Verdana"/>
              </a:rPr>
              <a:t>Beschikbaarheid beperken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Verdana"/>
              </a:rPr>
              <a:t>Voorlichting geven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Verdana"/>
              </a:rPr>
              <a:t>Vroegsignalering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Verdana"/>
              </a:rPr>
              <a:t>Bespreek met je buurvrouw bij elk onderdeel meerdere  voorbeelden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e20031"/>
                </a:solidFill>
                <a:latin typeface="Verdana"/>
              </a:rPr>
              <a:t>Preventie is dus belangrijk</a:t>
            </a:r>
            <a:endParaRPr b="1" lang="en-US" sz="3600" spc="-1" strike="noStrike">
              <a:solidFill>
                <a:srgbClr val="e20031"/>
              </a:solidFill>
              <a:latin typeface="Verdana"/>
            </a:endParaRPr>
          </a:p>
        </p:txBody>
      </p:sp>
      <p:sp>
        <p:nvSpPr>
          <p:cNvPr id="119" name="Tijdelijke aanduiding voor voettekst 3"/>
          <p:cNvSpPr/>
          <p:nvPr/>
        </p:nvSpPr>
        <p:spPr>
          <a:xfrm>
            <a:off x="2500200" y="6450120"/>
            <a:ext cx="3571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Verdana"/>
              </a:rPr>
              <a:t>Week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ijdelijke aanduiding voor datum 4"/>
          <p:cNvSpPr/>
          <p:nvPr/>
        </p:nvSpPr>
        <p:spPr>
          <a:xfrm>
            <a:off x="6264360" y="6448320"/>
            <a:ext cx="163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Verdana"/>
              </a:rPr>
              <a:t>27-10-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ijdelijke aanduiding voor dianummer 5"/>
          <p:cNvSpPr/>
          <p:nvPr/>
        </p:nvSpPr>
        <p:spPr>
          <a:xfrm>
            <a:off x="8072280" y="6453360"/>
            <a:ext cx="679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545F7-60C0-4844-853A-DB1FE25D4152}" type="slidenum">
              <a:rPr b="0" lang="nl-NL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30T11:00:25Z</dcterms:created>
  <dc:creator>maatma</dc:creator>
  <dc:description/>
  <dc:language>en-US</dc:language>
  <cp:lastModifiedBy>Pauline Sturm</cp:lastModifiedBy>
  <dcterms:modified xsi:type="dcterms:W3CDTF">2016-10-23T12:53:07Z</dcterms:modified>
  <cp:revision>19</cp:revision>
  <dc:subject/>
  <dc:title>Training   Risicovol middelengebruik signaleren bij jongere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ategory">
    <vt:lpwstr>Presentaties</vt:lpwstr>
  </property>
  <property fmtid="{D5CDD505-2E9C-101B-9397-08002B2CF9AE}" pid="3" name="ContentTypeId">
    <vt:lpwstr>0x010100AECE6611A7016A4FB15E6E8949C87F06</vt:lpwstr>
  </property>
  <property fmtid="{D5CDD505-2E9C-101B-9397-08002B2CF9AE}" pid="4" name="Notes0">
    <vt:lpwstr/>
  </property>
  <property fmtid="{D5CDD505-2E9C-101B-9397-08002B2CF9AE}" pid="5" name="Order">
    <vt:lpwstr>1900.00000000000</vt:lpwstr>
  </property>
  <property fmtid="{D5CDD505-2E9C-101B-9397-08002B2CF9AE}" pid="6" name="PublishingExpirationDate">
    <vt:lpwstr/>
  </property>
  <property fmtid="{D5CDD505-2E9C-101B-9397-08002B2CF9AE}" pid="7" name="PublishingStartDate">
    <vt:lpwstr/>
  </property>
  <property fmtid="{D5CDD505-2E9C-101B-9397-08002B2CF9AE}" pid="8" name="TemplateUrl">
    <vt:lpwstr/>
  </property>
  <property fmtid="{D5CDD505-2E9C-101B-9397-08002B2CF9AE}" pid="9" name="xd_ProgID">
    <vt:lpwstr/>
  </property>
  <property fmtid="{D5CDD505-2E9C-101B-9397-08002B2CF9AE}" pid="10" name="xd_Signature">
    <vt:lpwstr/>
  </property>
</Properties>
</file>