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31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96FD-2F7C-4B09-AE86-F5055D3BD5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eveel jongeren roken drinken en blowen in de afgelopen ma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on: Jeugd en Riskant Gedrag 2011, Utrecht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andprevalentie: aantal jongeren dat in maand voorafgaand aan het onderzoek gerookt, gedronken of geblowd he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C250-10F3-44D0-93E4-7AD671E6AC6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is een overzicht van het percentage scholieren (12-18 jaar) dat ooit alcohol, tabak, cannabis of xtc heeft gebruik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on: Jeugd en Riskant Gedrag 2011, Utrecht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ijdelijke aanduiding voor datum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1F5A-E67F-480C-9363-BF85855C132D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dianumm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7F05-9114-402D-B503-EE90F8E04C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ugd en Riskant Gedrag 2011, Utrecht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ctuele drinkers: percentage van hen dat maandelijks 5 of meer glazen drinkt bij één gelegenhe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4E04-A647-4753-A219-C87E6F6CA50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15- jarige jongeren die tijdens het onderzoek aangaven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in de afgelopen maand geblowd te hebben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, hoe vaak hebben zij in die maand geblow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on: Jeugd en Riskant Gedrag 2011, Utrecht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4C30-9F43-46F4-9316-9F286CF0E6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140-1AF3-4C13-AB52-D03F4AD7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9548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EA1-E2F4-4DE4-8578-7FFD5E94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128-A9BD-446E-9035-A4C7531F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7172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7172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954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954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954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AE7-4864-47F8-AAB4-A8B8374E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0" y="4320"/>
            <a:ext cx="914400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D8A-2E64-4719-AB15-042D23AA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9548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9548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7172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7172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954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954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954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76A-20A9-4721-8489-791843A8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057-A28B-4EC9-8933-6AE5E9B5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5B9-E899-471D-8F07-CE35D041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320"/>
            <a:ext cx="914400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4F3-A6E6-4500-9A69-8DC08198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B06-C1BA-4265-B903-0E58AF7A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954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383-90DA-4204-8245-49164EBC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7172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9548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FF9-2E8C-4908-9C88-3221AC17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13" descr="test definitief.tif"/>
          <p:cNvPicPr/>
          <p:nvPr/>
        </p:nvPicPr>
        <p:blipFill>
          <a:blip r:embed="rId2"/>
          <a:srcRect l="2655" t="11211" r="25678" b="52252"/>
          <a:stretch/>
        </p:blipFill>
        <p:spPr>
          <a:xfrm>
            <a:off x="0" y="639936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31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200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200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2003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264000" y="6447960"/>
            <a:ext cx="1633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3339-DC58-40B8-880A-B12CD3AB141D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Rechte verbindingslijn 10" descr=""/>
          <p:cNvPicPr/>
          <p:nvPr/>
        </p:nvPicPr>
        <p:blipFill>
          <a:blip r:embed="rId3"/>
          <a:stretch/>
        </p:blipFill>
        <p:spPr>
          <a:xfrm>
            <a:off x="-19080" y="890640"/>
            <a:ext cx="9186840" cy="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beelding 13" descr="test definitief.tif"/>
          <p:cNvPicPr/>
          <p:nvPr/>
        </p:nvPicPr>
        <p:blipFill>
          <a:blip r:embed="rId2"/>
          <a:srcRect l="2655" t="11211" r="25678" b="52252"/>
          <a:stretch/>
        </p:blipFill>
        <p:spPr>
          <a:xfrm>
            <a:off x="0" y="6399360"/>
            <a:ext cx="9144000" cy="466560"/>
          </a:xfrm>
          <a:prstGeom prst="rect">
            <a:avLst/>
          </a:prstGeom>
          <a:ln w="0">
            <a:noFill/>
          </a:ln>
        </p:spPr>
      </p:pic>
      <p:pic>
        <p:nvPicPr>
          <p:cNvPr id="44" name="Rechte verbindingslijn 10" descr=""/>
          <p:cNvPicPr/>
          <p:nvPr/>
        </p:nvPicPr>
        <p:blipFill>
          <a:blip r:embed="rId3"/>
          <a:stretch/>
        </p:blipFill>
        <p:spPr>
          <a:xfrm>
            <a:off x="-19080" y="890640"/>
            <a:ext cx="9186840" cy="54000"/>
          </a:xfrm>
          <a:prstGeom prst="rect">
            <a:avLst/>
          </a:prstGeom>
          <a:ln w="0">
            <a:noFill/>
          </a:ln>
        </p:spPr>
      </p:pic>
      <p:sp>
        <p:nvSpPr>
          <p:cNvPr id="45" name="Rechthoek 8"/>
          <p:cNvSpPr/>
          <p:nvPr/>
        </p:nvSpPr>
        <p:spPr>
          <a:xfrm>
            <a:off x="0" y="6296040"/>
            <a:ext cx="914400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5429160" y="466560"/>
            <a:ext cx="3714840" cy="6391440"/>
          </a:xfrm>
          <a:prstGeom prst="rect">
            <a:avLst/>
          </a:prstGeom>
          <a:ln w="0">
            <a:noFill/>
          </a:ln>
        </p:spPr>
      </p:pic>
      <p:sp>
        <p:nvSpPr>
          <p:cNvPr id="47" name="Tekstvak 11"/>
          <p:cNvSpPr/>
          <p:nvPr/>
        </p:nvSpPr>
        <p:spPr>
          <a:xfrm>
            <a:off x="142920" y="3286080"/>
            <a:ext cx="5572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12"/>
          <p:cNvSpPr/>
          <p:nvPr/>
        </p:nvSpPr>
        <p:spPr>
          <a:xfrm>
            <a:off x="4357800" y="214200"/>
            <a:ext cx="45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a6a6a6"/>
                </a:solidFill>
                <a:latin typeface="Verdana"/>
              </a:rPr>
              <a:t>Improving Mental Health by Sharing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hthoek 13"/>
          <p:cNvSpPr/>
          <p:nvPr/>
        </p:nvSpPr>
        <p:spPr>
          <a:xfrm>
            <a:off x="0" y="928800"/>
            <a:ext cx="57150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Afbeelding 14" descr="Logo Trimbos.jpg"/>
          <p:cNvPicPr/>
          <p:nvPr/>
        </p:nvPicPr>
        <p:blipFill>
          <a:blip r:embed="rId5"/>
          <a:stretch/>
        </p:blipFill>
        <p:spPr>
          <a:xfrm>
            <a:off x="1814400" y="5229360"/>
            <a:ext cx="2338560" cy="1342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31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200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200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2003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8200" y="317520"/>
            <a:ext cx="4468680" cy="352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Object 2"/>
          <p:cNvGraphicFramePr/>
          <p:nvPr/>
        </p:nvGraphicFramePr>
        <p:xfrm>
          <a:off x="4603680" y="3367080"/>
          <a:ext cx="487368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03680" y="3367080"/>
                    <a:ext cx="48736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7"/>
          <p:cNvSpPr/>
          <p:nvPr/>
        </p:nvSpPr>
        <p:spPr>
          <a:xfrm>
            <a:off x="1057320" y="4357800"/>
            <a:ext cx="387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s er een proble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andelijke cijfers en waar hebben we het ov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Op blz 513-514 staan verschillende voorbeelden.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Welke had je zelf opgeschreven welke denk jij dat het best zal werken en waarom?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Beschikbaarheid beperken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24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AF84-CCC4-40EC-986F-71E15268C5E5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Welke drie benaderingswijzen zijn er? ( blz515)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En geef van elk een voorbeeld of kenmerk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Voorlichting en educatie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29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FB56-4D2D-498A-997E-A7DA04B24B5F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18.3.3: zoek uit wat de volgende woorden betekenen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Effectieve preventie werking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Zelfsignalering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Problematisch gebruik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Reden van gebruik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Hoeveelheid en patroo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Klachten en incidente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vroegsignalering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A351-6D03-4C6A-A7BB-23240CDE5DBF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De gezonde school en genotmiddele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homeparty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Evidence-based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39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33C4-0216-4D38-97E9-59B515B2D1FE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Universel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Selectiev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Geïndiceerd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Zorggericht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Samen met he buurvrouw ga je in een paar zinnen beschrijven wat dit inhoudt en jullie geven van elke vorm een voorbeeld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4 vormen van preventie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44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3668-19A7-47F7-BC2B-D5C19CF2E6E1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Risico-beschermende factoren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43000"/>
            <a:ext cx="4038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De buurt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Lage sociale statu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Opleidin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Ouders die gebruiken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Verslavind in de familie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143000"/>
            <a:ext cx="4038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Ouders die grenzen stellen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Goed voorbeeld gedra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Hogere sociale statu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Hoge opleidin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C78B-6F69-4152-ABF6-989C02F25A24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Positieve aanpak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Aansluiting bij de doelgroep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Integrale aanpak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Zo vroeg mogelijk ingrijpe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onderzoek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Effectieve preventieprogramma’s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55" name="Tijdelijke aanduiding voor voettekst 4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atum 5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dianummer 6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BFAF-BDAA-49AD-9BE1-6F1B755758E7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In groepjes van 4: jullie krijgen van docent een model toegewezen, deze lees je door en tekent dit op een a4 zodat je het aan de klas kunt uitleggen.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Transtheoretisch mod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ASE mod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Persuasieve communicati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Sociaal cognitieve theori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Modellen van gedragsverandering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60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Verdana"/>
              </a:rPr>
              <a:t>Week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Verdana"/>
              </a:rPr>
              <a:t>27-10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B5CC-414F-44C8-86B2-A42BDF339342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nl-NL" sz="2800" spc="-1" strike="noStrike">
                <a:solidFill>
                  <a:srgbClr val="e20031"/>
                </a:solidFill>
                <a:latin typeface="Verdana"/>
              </a:rPr>
              <a:t>Is er een probleem? </a:t>
            </a:r>
            <a:br>
              <a:rPr sz="2800"/>
            </a:br>
            <a:r>
              <a:rPr b="1" lang="nl-NL" sz="2800" spc="-1" strike="noStrike">
                <a:solidFill>
                  <a:srgbClr val="e20031"/>
                </a:solidFill>
                <a:latin typeface="Verdana"/>
              </a:rPr>
              <a:t>Aantal jongeren dat drinkt, rookt en blowt.</a:t>
            </a:r>
            <a:br>
              <a:rPr sz="2800"/>
            </a:br>
            <a:r>
              <a:rPr b="1" lang="nl-NL" sz="2000" spc="-1" strike="noStrike">
                <a:solidFill>
                  <a:srgbClr val="e20031"/>
                </a:solidFill>
                <a:latin typeface="Verdana"/>
              </a:rPr>
              <a:t>(in de afgelopen maand)</a:t>
            </a:r>
            <a:endParaRPr b="1" lang="en-US" sz="2000" spc="-1" strike="noStrike">
              <a:solidFill>
                <a:srgbClr val="e20031"/>
              </a:solidFill>
              <a:latin typeface="Verdana"/>
            </a:endParaRPr>
          </a:p>
        </p:txBody>
      </p:sp>
      <p:pic>
        <p:nvPicPr>
          <p:cNvPr id="101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560520" y="1362240"/>
            <a:ext cx="780732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jdelijke aanduiding voor voettekst 2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eek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jdelijke aanduiding voor datum 3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7-10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jdelijke aanduiding voor dianummer 4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C728-6811-4B11-AD3D-6BC7DC5FE4E7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20031"/>
                </a:solidFill>
                <a:latin typeface="Verdana"/>
              </a:rPr>
              <a:t>Alcohol, tabak, cannabis en XTC-gebruik</a:t>
            </a:r>
            <a:endParaRPr b="1" lang="en-US" sz="3200" spc="-1" strike="noStrike">
              <a:solidFill>
                <a:srgbClr val="e20031"/>
              </a:solidFill>
              <a:latin typeface="Verdana"/>
            </a:endParaRPr>
          </a:p>
        </p:txBody>
      </p:sp>
      <p:pic>
        <p:nvPicPr>
          <p:cNvPr id="106" name="Object 5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632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20031"/>
                </a:solidFill>
                <a:latin typeface="Verdana"/>
              </a:rPr>
              <a:t>5 of meer glazen bij één gelegenheid</a:t>
            </a:r>
            <a:endParaRPr b="1" lang="en-US" sz="3200" spc="-1" strike="noStrike">
              <a:solidFill>
                <a:srgbClr val="e20031"/>
              </a:solidFill>
              <a:latin typeface="Verdana"/>
            </a:endParaRPr>
          </a:p>
        </p:txBody>
      </p:sp>
      <p:pic>
        <p:nvPicPr>
          <p:cNvPr id="108" name="Grafiek 6" descr=""/>
          <p:cNvPicPr/>
          <p:nvPr/>
        </p:nvPicPr>
        <p:blipFill>
          <a:blip r:embed="rId1"/>
          <a:stretch/>
        </p:blipFill>
        <p:spPr>
          <a:xfrm>
            <a:off x="1116000" y="1481040"/>
            <a:ext cx="65530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20031"/>
                </a:solidFill>
                <a:latin typeface="Verdana"/>
              </a:rPr>
              <a:t>Hoe vaak blowen jongeren </a:t>
            </a:r>
            <a:br>
              <a:rPr sz="3200"/>
            </a:br>
            <a:r>
              <a:rPr b="1" lang="nl-NL" sz="3200" spc="-1" strike="noStrike">
                <a:solidFill>
                  <a:srgbClr val="e20031"/>
                </a:solidFill>
                <a:latin typeface="Verdana"/>
              </a:rPr>
              <a:t>per maand? </a:t>
            </a:r>
            <a:r>
              <a:rPr b="1" lang="nl-NL" sz="2800" spc="-1" strike="noStrike">
                <a:solidFill>
                  <a:srgbClr val="e20031"/>
                </a:solidFill>
                <a:latin typeface="Verdana"/>
              </a:rPr>
              <a:t>(15 jaar)</a:t>
            </a:r>
            <a:endParaRPr b="1" lang="en-US" sz="2800" spc="-1" strike="noStrike">
              <a:solidFill>
                <a:srgbClr val="e20031"/>
              </a:solidFill>
              <a:latin typeface="Verdana"/>
            </a:endParaRPr>
          </a:p>
        </p:txBody>
      </p:sp>
      <p:pic>
        <p:nvPicPr>
          <p:cNvPr id="11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249120" y="1554120"/>
            <a:ext cx="86457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nl-NL" sz="3200" spc="-1" strike="noStrike">
                <a:solidFill>
                  <a:srgbClr val="e20031"/>
                </a:solidFill>
                <a:latin typeface="Verdana"/>
              </a:rPr>
              <a:t>Waarom is drinken en blowen zo schadelijk voor jongeren?</a:t>
            </a:r>
            <a:br>
              <a:rPr sz="3200"/>
            </a:br>
            <a:endParaRPr b="1" lang="en-US" sz="32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De risico's van alcohol: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Korte termijn: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Alcoholvergiftiging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Onveilige seks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Black-out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Geweld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Slechte leerprestaties 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Lange termijn: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Schooluitva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Schade aan de hersenen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Kans op alcoholprobleem/verslaving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Verdana"/>
              </a:rPr>
              <a:t>Ziekten: kanker, levercirrose, hart- en vaatziekten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De risico's van blowen</a:t>
            </a:r>
            <a:br>
              <a:rPr sz="3200"/>
            </a:b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Korte termijn: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Hoofdpijn, duizeligheid,verergeren slechte stemmin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Lange termijn: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Schade aan de luchtwegen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Slechte leerprestaties en schooluitval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Psychische stoorni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Verdana"/>
              </a:rPr>
              <a:t>Verslavin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Problematisch gebruik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Het gebruik krijgt een steeds grotere rol in het dagelijks leven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Het gebruik veroorzaakt sociale problemen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Er wordt om de verkeerde redenen gebruikt (om problemen te vergeten en wegens spanningen)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3164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Beschikbaarheid beperke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Voorlichting geve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Vroegsignalering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Verdana"/>
              </a:rPr>
              <a:t>Bespreek met je buurvrouw bij elk onderdeel meerdere  voorbeelden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200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e20031"/>
                </a:solidFill>
                <a:latin typeface="Verdana"/>
              </a:rPr>
              <a:t>Preventie is dus belangrijk</a:t>
            </a:r>
            <a:endParaRPr b="1" lang="en-US" sz="3600" spc="-1" strike="noStrike">
              <a:solidFill>
                <a:srgbClr val="e20031"/>
              </a:solidFill>
              <a:latin typeface="Verdana"/>
            </a:endParaRPr>
          </a:p>
        </p:txBody>
      </p:sp>
      <p:sp>
        <p:nvSpPr>
          <p:cNvPr id="119" name="Tijdelijke aanduiding voor voettekst 3"/>
          <p:cNvSpPr/>
          <p:nvPr/>
        </p:nvSpPr>
        <p:spPr>
          <a:xfrm>
            <a:off x="2500200" y="6450120"/>
            <a:ext cx="35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Verdana"/>
              </a:rPr>
              <a:t>Week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atum 4"/>
          <p:cNvSpPr/>
          <p:nvPr/>
        </p:nvSpPr>
        <p:spPr>
          <a:xfrm>
            <a:off x="6264360" y="6448320"/>
            <a:ext cx="163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Verdana"/>
              </a:rPr>
              <a:t>27-10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8072280" y="6453360"/>
            <a:ext cx="67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7456-1498-4D89-BE2D-6A7BBA77C7E8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1:00:25Z</dcterms:created>
  <dc:creator>maatma</dc:creator>
  <dc:description/>
  <dc:language>en-US</dc:language>
  <cp:lastModifiedBy>Pauline Sturm</cp:lastModifiedBy>
  <dcterms:modified xsi:type="dcterms:W3CDTF">2016-10-23T12:53:07Z</dcterms:modified>
  <cp:revision>19</cp:revision>
  <dc:subject/>
  <dc:title>Training   Risicovol middelengebruik signaleren bij jonge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">
    <vt:lpwstr>Presentaties</vt:lpwstr>
  </property>
  <property fmtid="{D5CDD505-2E9C-101B-9397-08002B2CF9AE}" pid="3" name="ContentTypeId">
    <vt:lpwstr>0x010100AECE6611A7016A4FB15E6E8949C87F06</vt:lpwstr>
  </property>
  <property fmtid="{D5CDD505-2E9C-101B-9397-08002B2CF9AE}" pid="4" name="Notes0">
    <vt:lpwstr/>
  </property>
  <property fmtid="{D5CDD505-2E9C-101B-9397-08002B2CF9AE}" pid="5" name="Order">
    <vt:lpwstr>1900.00000000000</vt:lpwstr>
  </property>
  <property fmtid="{D5CDD505-2E9C-101B-9397-08002B2CF9AE}" pid="6" name="PublishingExpirationDate">
    <vt:lpwstr/>
  </property>
  <property fmtid="{D5CDD505-2E9C-101B-9397-08002B2CF9AE}" pid="7" name="PublishingStartDate">
    <vt:lpwstr/>
  </property>
  <property fmtid="{D5CDD505-2E9C-101B-9397-08002B2CF9AE}" pid="8" name="TemplateUrl">
    <vt:lpwstr/>
  </property>
  <property fmtid="{D5CDD505-2E9C-101B-9397-08002B2CF9AE}" pid="9" name="xd_ProgID">
    <vt:lpwstr/>
  </property>
  <property fmtid="{D5CDD505-2E9C-101B-9397-08002B2CF9AE}" pid="10" name="xd_Signature">
    <vt:lpwstr/>
  </property>
</Properties>
</file>