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4CFF-0DC4-4949-BE46-2F4C7859C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7D8C-BFA0-4E66-84D6-3E7D4522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AA7D-1D17-4A3D-A2A6-68328520F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7E37-CD8A-4E06-A495-012E215D9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3DAB-2D31-45E5-B80C-C674DCC3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4C0D-7351-4421-9DD3-F260045E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6107-9A9A-4E6E-B611-DFE9616B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30C2-0466-41B8-BECE-6AC979B6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10DA-9AC4-49C2-9548-2981D340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F0C8-F074-4BBB-AFCB-A40964A0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8E5B-8195-4CDD-AB6C-8849BBFF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7841-FDFC-4357-A4CA-5029AFA1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89D6-C85B-4DAF-814E-F26BC376D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2743200" y="380880"/>
            <a:ext cx="3733920" cy="6019920"/>
          </a:xfrm>
          <a:custGeom>
            <a:avLst/>
            <a:gdLst>
              <a:gd name="textAreaLeft" fmla="*/ 182160 w 3733920"/>
              <a:gd name="textAreaRight" fmla="*/ 3551760 w 3733920"/>
              <a:gd name="textAreaTop" fmla="*/ 182160 h 6019920"/>
              <a:gd name="textAreaBottom" fmla="*/ 5837760 h 6019920"/>
            </a:gdLst>
            <a:ahLst/>
            <a:rect l="textAreaLeft" t="textAreaTop" r="textAreaRight" b="textAreaBottom"/>
            <a:pathLst>
              <a:path w="21600" h="34823">
                <a:moveTo>
                  <a:pt x="3600" y="0"/>
                </a:moveTo>
                <a:arcTo wR="3600" hR="3600" stAng="16200000" swAng="-5400000"/>
                <a:lnTo>
                  <a:pt x="0" y="31223"/>
                </a:lnTo>
                <a:arcTo wR="3600" hR="3600" stAng="10800000" swAng="-5400000"/>
                <a:lnTo>
                  <a:pt x="18000" y="348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>
              <a:alphaModFix amt="47000"/>
            </a:blip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124080" y="1219320"/>
            <a:ext cx="2971800" cy="41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9"/>
          <p:cNvGrpSpPr/>
          <p:nvPr/>
        </p:nvGrpSpPr>
        <p:grpSpPr>
          <a:xfrm>
            <a:off x="4114800" y="5486400"/>
            <a:ext cx="990720" cy="838080"/>
            <a:chOff x="4114800" y="5486400"/>
            <a:chExt cx="990720" cy="838080"/>
          </a:xfrm>
        </p:grpSpPr>
        <p:sp>
          <p:nvSpPr>
            <p:cNvPr id="44" name="AutoShape 7"/>
            <p:cNvSpPr/>
            <p:nvPr/>
          </p:nvSpPr>
          <p:spPr>
            <a:xfrm>
              <a:off x="4114800" y="5486400"/>
              <a:ext cx="990720" cy="838080"/>
            </a:xfrm>
            <a:prstGeom prst="plus">
              <a:avLst>
                <a:gd name="adj" fmla="val 25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3">
              <a:hlinkClick r:id="" action="ppaction://hlinkshowjump?jump=previousslide"/>
            </p:cNvPr>
            <p:cNvSpPr/>
            <p:nvPr/>
          </p:nvSpPr>
          <p:spPr>
            <a:xfrm rot="5400000">
              <a:off x="4419000" y="5638680"/>
              <a:ext cx="380880" cy="228600"/>
            </a:xfrm>
            <a:custGeom>
              <a:avLst/>
              <a:gdLst>
                <a:gd name="textAreaLeft" fmla="*/ 14760 w 380880"/>
                <a:gd name="textAreaRight" fmla="*/ 366120 w 38088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35966" h="21600">
                  <a:moveTo>
                    <a:pt x="0" y="0"/>
                  </a:moveTo>
                  <a:lnTo>
                    <a:pt x="35966" y="0"/>
                  </a:lnTo>
                  <a:lnTo>
                    <a:pt x="35966" y="21600"/>
                  </a:lnTo>
                  <a:lnTo>
                    <a:pt x="0" y="21600"/>
                  </a:lnTo>
                  <a:close/>
                </a:path>
                <a:path fill="lightenLess" w="35966" h="21600">
                  <a:moveTo>
                    <a:pt x="0" y="0"/>
                  </a:moveTo>
                  <a:lnTo>
                    <a:pt x="35966" y="0"/>
                  </a:lnTo>
                  <a:lnTo>
                    <a:pt x="34566" y="1400"/>
                  </a:lnTo>
                  <a:lnTo>
                    <a:pt x="1400" y="1400"/>
                  </a:lnTo>
                  <a:close/>
                </a:path>
                <a:path fill="darken" w="35966" h="21600">
                  <a:moveTo>
                    <a:pt x="35966" y="0"/>
                  </a:moveTo>
                  <a:lnTo>
                    <a:pt x="35966" y="21600"/>
                  </a:lnTo>
                  <a:lnTo>
                    <a:pt x="34566" y="20200"/>
                  </a:lnTo>
                  <a:lnTo>
                    <a:pt x="34566" y="1400"/>
                  </a:lnTo>
                  <a:close/>
                </a:path>
                <a:path fill="darkenLess" w="35966" h="21600">
                  <a:moveTo>
                    <a:pt x="359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4566" y="20200"/>
                  </a:lnTo>
                  <a:close/>
                </a:path>
                <a:path fill="lighten" w="359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5966" h="21600">
                  <a:moveTo>
                    <a:pt x="10977" y="10800"/>
                  </a:moveTo>
                  <a:lnTo>
                    <a:pt x="24990" y="3794"/>
                  </a:lnTo>
                  <a:lnTo>
                    <a:pt x="249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4">
              <a:hlinkClick r:id="" action="ppaction://hlinkshowjump?jump=previousslide"/>
            </p:cNvPr>
            <p:cNvSpPr/>
            <p:nvPr/>
          </p:nvSpPr>
          <p:spPr>
            <a:xfrm rot="10800000">
              <a:off x="4723920" y="579096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>
              <a:hlinkClick r:id="" action="ppaction://hlinkshowjump?jump=previousslide"/>
            </p:cNvPr>
            <p:cNvSpPr/>
            <p:nvPr/>
          </p:nvSpPr>
          <p:spPr>
            <a:xfrm rot="16200000">
              <a:off x="4457520" y="590508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6">
              <a:hlinkClick r:id="" action="ppaction://hlinkshowjump?jump=previousslide"/>
            </p:cNvPr>
            <p:cNvSpPr/>
            <p:nvPr/>
          </p:nvSpPr>
          <p:spPr>
            <a:xfrm>
              <a:off x="4191120" y="5791320"/>
              <a:ext cx="304560" cy="228600"/>
            </a:xfrm>
            <a:custGeom>
              <a:avLst/>
              <a:gdLst>
                <a:gd name="textAreaLeft" fmla="*/ 14760 w 304560"/>
                <a:gd name="textAreaRight" fmla="*/ 289800 w 30456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766" h="21600">
                  <a:moveTo>
                    <a:pt x="0" y="0"/>
                  </a:moveTo>
                  <a:lnTo>
                    <a:pt x="28766" y="0"/>
                  </a:lnTo>
                  <a:lnTo>
                    <a:pt x="28766" y="21600"/>
                  </a:lnTo>
                  <a:lnTo>
                    <a:pt x="0" y="21600"/>
                  </a:lnTo>
                  <a:close/>
                </a:path>
                <a:path fill="lightenLess" w="28766" h="21600">
                  <a:moveTo>
                    <a:pt x="0" y="0"/>
                  </a:moveTo>
                  <a:lnTo>
                    <a:pt x="28766" y="0"/>
                  </a:lnTo>
                  <a:lnTo>
                    <a:pt x="27366" y="1400"/>
                  </a:lnTo>
                  <a:lnTo>
                    <a:pt x="1400" y="1400"/>
                  </a:lnTo>
                  <a:close/>
                </a:path>
                <a:path fill="darken" w="28766" h="21600">
                  <a:moveTo>
                    <a:pt x="28766" y="0"/>
                  </a:moveTo>
                  <a:lnTo>
                    <a:pt x="28766" y="21600"/>
                  </a:lnTo>
                  <a:lnTo>
                    <a:pt x="27366" y="20200"/>
                  </a:lnTo>
                  <a:lnTo>
                    <a:pt x="27366" y="1400"/>
                  </a:lnTo>
                  <a:close/>
                </a:path>
                <a:path fill="darkenLess" w="28766" h="21600">
                  <a:moveTo>
                    <a:pt x="287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66" y="20200"/>
                  </a:lnTo>
                  <a:close/>
                </a:path>
                <a:path fill="lighten" w="287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66" h="21600">
                  <a:moveTo>
                    <a:pt x="7377" y="10800"/>
                  </a:moveTo>
                  <a:lnTo>
                    <a:pt x="21390" y="3794"/>
                  </a:lnTo>
                  <a:lnTo>
                    <a:pt x="213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10:24:02Z</dcterms:created>
  <dc:creator>leijtens</dc:creator>
  <dc:description/>
  <dc:language>en-US</dc:language>
  <cp:lastModifiedBy>Rianne</cp:lastModifiedBy>
  <dcterms:modified xsi:type="dcterms:W3CDTF">2013-08-18T14:45:18Z</dcterms:modified>
  <cp:revision>5</cp:revision>
  <dc:subject/>
  <dc:title>Slide 1</dc:title>
</cp:coreProperties>
</file>