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D4BFF-23A7-4BB8-98E8-1FC338BDBCE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4EF57-1F65-481D-BD27-9BBBEF36527C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602F-B43C-4C7C-BC4C-EC27202A8385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F13B-7E23-4F11-BAE8-B27C3955C91E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D6669-C2AB-4B8E-9ACB-358472A2315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FAA5-BFE6-4290-A8CB-5E70E49F173D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0B81-9660-4FBD-B0B5-0343DCF5B28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819F0-AE39-41E7-81C0-D589DCF5902B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0C6F-66D9-4A43-9260-B53C2C5B3D49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B332-609A-4C46-9E55-FEF0E7617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437F-84C4-4AD4-9248-124E63E2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5A3-AC83-4631-AEB0-49D6E8AF9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F88-0AA1-4F81-A391-8A98ACCDD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00C9-9539-48DD-A640-DB33F8671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A009-5FA7-4BE8-BE7D-35635577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07E-A585-4545-9CA6-C6EE33BDD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799-699D-4552-BEB3-48C0EB57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3141-4F15-40D1-9C69-24A2E6B17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ACFCD-45F9-469A-B9A5-6310FD04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73AC-B031-4E01-B5EB-F2441A4C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E915-3BC0-4B94-ADCF-37040EDA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8506-CA22-47E1-8243-FC1317AD71EA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loemen, vruchten, za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1: Bloem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212760" y="1571760"/>
            <a:ext cx="8508960" cy="42861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6715080" y="2143080"/>
            <a:ext cx="78588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7786800" y="3000240"/>
            <a:ext cx="785880" cy="214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6715080" y="2786040"/>
            <a:ext cx="5000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6072120" y="4071960"/>
            <a:ext cx="142884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6143760" y="4857840"/>
            <a:ext cx="107136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"/>
          <p:cNvSpPr/>
          <p:nvPr/>
        </p:nvSpPr>
        <p:spPr>
          <a:xfrm>
            <a:off x="1571760" y="2143080"/>
            <a:ext cx="10000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1571760" y="2571840"/>
            <a:ext cx="928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1500120" y="30718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3"/>
          <p:cNvSpPr/>
          <p:nvPr/>
        </p:nvSpPr>
        <p:spPr>
          <a:xfrm>
            <a:off x="1785960" y="4357800"/>
            <a:ext cx="78588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214200" y="2857680"/>
            <a:ext cx="1071720" cy="214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433760" y="3305160"/>
            <a:ext cx="274680" cy="2476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857160" y="1736640"/>
            <a:ext cx="748044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50004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4786200" y="2000160"/>
            <a:ext cx="3254400" cy="3000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"/>
          <p:cNvPicPr/>
          <p:nvPr/>
        </p:nvPicPr>
        <p:blipFill>
          <a:blip r:embed="rId2"/>
          <a:stretch/>
        </p:blipFill>
        <p:spPr>
          <a:xfrm>
            <a:off x="214200" y="2000160"/>
            <a:ext cx="44611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535788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wind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928800" y="5429160"/>
            <a:ext cx="30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alibri"/>
                <a:ea typeface="Arial"/>
              </a:rPr>
              <a:t>insectenblo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4500720" y="2000160"/>
            <a:ext cx="382716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785880" y="2214720"/>
            <a:ext cx="312588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alibri"/>
              </a:rPr>
              <a:t>B2: Bestuiv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Content Placeholder 7" descr=""/>
          <p:cNvPicPr/>
          <p:nvPr/>
        </p:nvPicPr>
        <p:blipFill>
          <a:blip r:embed="rId1"/>
          <a:stretch/>
        </p:blipFill>
        <p:spPr>
          <a:xfrm>
            <a:off x="378000" y="1322280"/>
            <a:ext cx="8339040" cy="4170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3286080" y="1785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6000840" y="1785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3286080" y="2143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6000840" y="2143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3286080" y="2500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6000840" y="2500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3286080" y="292896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6000840" y="292896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3286080" y="328608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6000840" y="328608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3286080" y="364320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6000840" y="364320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1"/>
          <p:cNvSpPr/>
          <p:nvPr/>
        </p:nvSpPr>
        <p:spPr>
          <a:xfrm>
            <a:off x="3286080" y="400068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2"/>
          <p:cNvSpPr/>
          <p:nvPr/>
        </p:nvSpPr>
        <p:spPr>
          <a:xfrm>
            <a:off x="6000840" y="400068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3286080" y="4357800"/>
            <a:ext cx="207180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4"/>
          <p:cNvSpPr/>
          <p:nvPr/>
        </p:nvSpPr>
        <p:spPr>
          <a:xfrm>
            <a:off x="6000840" y="4357800"/>
            <a:ext cx="2071440" cy="285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5"/>
          <p:cNvSpPr/>
          <p:nvPr/>
        </p:nvSpPr>
        <p:spPr>
          <a:xfrm>
            <a:off x="3286080" y="4714920"/>
            <a:ext cx="207180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6"/>
          <p:cNvSpPr/>
          <p:nvPr/>
        </p:nvSpPr>
        <p:spPr>
          <a:xfrm>
            <a:off x="6000840" y="4714920"/>
            <a:ext cx="2071440" cy="2858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71680" y="1928880"/>
            <a:ext cx="5783040" cy="3286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2"/>
          <a:stretch/>
        </p:blipFill>
        <p:spPr>
          <a:xfrm>
            <a:off x="6929280" y="1154160"/>
            <a:ext cx="181296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B7: kruisbestuiving en zelfbestuiv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0" y="1600200"/>
            <a:ext cx="9144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Zelfbestuiving: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zelfd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Kruisbestuivin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estuiving van bloem op andere plan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slachtig: 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bloemen met stampers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meeldrad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Eenhuizig:   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of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Tweehuizig:  planten met mannelijke </a:t>
            </a:r>
            <a:r>
              <a:rPr b="1" lang="nl-NL" sz="2700" spc="-1" strike="noStrike">
                <a:solidFill>
                  <a:srgbClr val="000000"/>
                </a:solidFill>
                <a:latin typeface="Calibri"/>
              </a:rPr>
              <a:t>en</a:t>
            </a:r>
            <a:r>
              <a:rPr b="0" lang="nl-NL" sz="2700" spc="-1" strike="noStrike">
                <a:solidFill>
                  <a:srgbClr val="000000"/>
                </a:solidFill>
                <a:latin typeface="Calibri"/>
              </a:rPr>
              <a:t> vrouwelijke bloeme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20:27:31Z</dcterms:created>
  <dc:creator>David van Diepen</dc:creator>
  <dc:description/>
  <dc:language>en-US</dc:language>
  <cp:lastModifiedBy>Windows-gebruiker</cp:lastModifiedBy>
  <dcterms:modified xsi:type="dcterms:W3CDTF">2016-05-06T09:39:43Z</dcterms:modified>
  <cp:revision>17</cp:revision>
  <dc:subject/>
  <dc:title>Bloemen, vruchten, zaden</dc:title>
</cp:coreProperties>
</file>