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20F3-24A7-4DA7-AE02-9D60ACE598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889C-C4C3-4DB0-8E2E-1836FA699EF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4E49-C875-476A-96C0-257C5FCD2D75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457B-D4F1-436D-B0F8-496C4A53B55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2222-EF66-4A09-A679-218C3EE710B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0B6F-B1E9-4AB2-99B6-9F88C5342D6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BDF5-7A1E-40BA-8A92-B9BC1B8D75D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CDFF-53FD-44EA-B3F7-13C3519E147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EBBF-2CD9-4AE3-AA36-03D6AFA669B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39F-69E2-423E-8F50-9BF86B04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B5B-CA8B-47F3-B40E-D4973D21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65D-560B-4442-906B-6A0872E4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7E9-5F61-4F0E-B890-6ACF9751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9F4-C3F1-4656-9DFE-213BEF18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311-76FB-4B6C-BA6A-8BF5BB1A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BF1-FD87-4769-915A-BB2381A0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855-9924-4917-8030-B932DD10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366-C314-49A6-91E8-219D5AA8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5BA-B0BE-4B58-9F6B-0113BD04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4A6-2F7C-49C7-8F74-92571785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977-89C6-40E5-9259-10F83BDC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BCB4-8F75-4D3A-9368-48F9A9CD170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men, vruchten, za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1: Bloe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12760" y="1571760"/>
            <a:ext cx="8508960" cy="4286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6715080" y="2143080"/>
            <a:ext cx="78588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7786800" y="3000240"/>
            <a:ext cx="7858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715080" y="2786040"/>
            <a:ext cx="5000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072120" y="4071960"/>
            <a:ext cx="142884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143760" y="4857840"/>
            <a:ext cx="107136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71760" y="2143080"/>
            <a:ext cx="10000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571760" y="2571840"/>
            <a:ext cx="928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500120" y="30718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785960" y="4357800"/>
            <a:ext cx="7858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214200" y="28576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433760" y="3305160"/>
            <a:ext cx="274680" cy="24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857160" y="1736640"/>
            <a:ext cx="748044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0004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786200" y="2000160"/>
            <a:ext cx="3254400" cy="3000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446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2880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500720" y="2000160"/>
            <a:ext cx="382716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125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7" descr=""/>
          <p:cNvPicPr/>
          <p:nvPr/>
        </p:nvPicPr>
        <p:blipFill>
          <a:blip r:embed="rId1"/>
          <a:stretch/>
        </p:blipFill>
        <p:spPr>
          <a:xfrm>
            <a:off x="378000" y="1322280"/>
            <a:ext cx="8339040" cy="4170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3286080" y="1785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000840" y="1785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286080" y="2143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00840" y="2143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286080" y="2500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00840" y="2500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3286080" y="2928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000840" y="2928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3286080" y="3286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6000840" y="3286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3286080" y="3643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6000840" y="3643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3286080" y="400068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6000840" y="400068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3286080" y="435780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6000840" y="435780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3286080" y="471492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6000840" y="471492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5783040" cy="328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6929280" y="1154160"/>
            <a:ext cx="181296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600200"/>
            <a:ext cx="91440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Zelfbestuiving: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zelfd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Kruisbestuivin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ander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huizig:   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huizig: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20:27:31Z</dcterms:created>
  <dc:creator>David van Diepen</dc:creator>
  <dc:description/>
  <dc:language>en-US</dc:language>
  <cp:lastModifiedBy>Windows-gebruiker</cp:lastModifiedBy>
  <dcterms:modified xsi:type="dcterms:W3CDTF">2016-05-06T09:39:43Z</dcterms:modified>
  <cp:revision>17</cp:revision>
  <dc:subject/>
  <dc:title>Bloemen, vruchten, zaden</dc:title>
</cp:coreProperties>
</file>