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79F-81DC-4089-B558-00EAB60153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3DF5-D5AA-45EF-AAAE-374889E03E2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150D-7E50-4839-8886-65467FCF87F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1E1-D615-4442-A91A-8AEA697EC1F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71A8-9C55-4D86-9DC0-509FF29982F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2E8E-7364-4AAB-9C7A-A2886234ACB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CF37-F482-47C3-B087-196E07E9073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2B27-5DB9-4316-9BD4-95EC83A28D4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525A-4545-4C21-B2C7-215190707CF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DF7-E065-4A63-BD3A-870072B6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287-BB38-4FA7-89EA-D407737A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086-17AD-42B4-9DB9-EBF0F242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372-2F6A-4617-B19C-2BF6C3C4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2B0-30BF-4F2A-87C2-30B7CCAF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AB2-41ED-4C66-A32B-5B72EC06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E9B-28A9-46E5-8C80-F9070838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BEB-0DA3-45C0-B7FA-9E1043DA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058-48F4-4463-A0B9-BBAA932F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3FB-19D9-45F2-9506-561318C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0CF-A430-41F4-AF11-DD0E2DE2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8AE-10FA-49B1-B3D6-370F2804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0950-30BF-4F95-B663-5361B8D2B5E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men, vruchten, za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1: Blo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760" y="1571760"/>
            <a:ext cx="85089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15080" y="214308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86800" y="3000240"/>
            <a:ext cx="7858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715080" y="2786040"/>
            <a:ext cx="5000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72120" y="4071960"/>
            <a:ext cx="142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43760" y="4857840"/>
            <a:ext cx="10713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2143080"/>
            <a:ext cx="10000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571760" y="2571840"/>
            <a:ext cx="928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00120" y="30718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85960" y="4357800"/>
            <a:ext cx="7858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14200" y="28576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433760" y="3305160"/>
            <a:ext cx="274680" cy="2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57160" y="1736640"/>
            <a:ext cx="748044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0004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25440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446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2880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382716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125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8339040" cy="417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86080" y="1785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00840" y="1785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286080" y="2143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00840" y="2143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86080" y="2500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00840" y="2500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86080" y="2928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000840" y="2928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286080" y="3286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000840" y="3286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286080" y="3643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00840" y="3643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86080" y="400068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000840" y="400068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3286080" y="435780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000840" y="435780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286080" y="471492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000840" y="471492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78304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929280" y="1154160"/>
            <a:ext cx="181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600200"/>
            <a:ext cx="9144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lfbestuiving: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zelfd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ruisbestuivin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ander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huizig:   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huizig: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20:27:31Z</dcterms:created>
  <dc:creator>David van Diepen</dc:creator>
  <dc:description/>
  <dc:language>en-US</dc:language>
  <cp:lastModifiedBy>Windows-gebruiker</cp:lastModifiedBy>
  <dcterms:modified xsi:type="dcterms:W3CDTF">2016-05-06T09:39:43Z</dcterms:modified>
  <cp:revision>17</cp:revision>
  <dc:subject/>
  <dc:title>Bloemen, vruchten, zaden</dc:title>
</cp:coreProperties>
</file>