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3F42-3265-4B1C-9406-B08F36430C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78D9-D239-4F1F-9D62-6DC2ED270B16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C898-9980-411F-936C-609B20081AF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7075-48E6-4010-BC38-874DC344EC83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7385-C6A4-460D-8B7C-11C0A89999A4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3F74-42FB-40EF-87BA-48F123F9AA0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8CF3-38F8-4D6E-83FE-E0DA2CEE64D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3EE2-A9D7-4DFE-B48D-9E4049D4DEE8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4D15-753A-4778-B52E-561040F5B71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05D-19EC-4243-8871-B04E9AE6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7BC-5B4D-4049-983A-2CCCF534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9EC-335B-40CA-B1D3-836FAB4D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A03-C8F4-4761-B348-F10C5B32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EFD-5603-4053-AA78-BD8DE448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958-2941-459F-B7E8-F41EF78E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619F-2F54-46E7-A91E-E5B86494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02D2-814C-47FD-A77E-D5599F0E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1B6-B69E-4964-9560-5E711483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B895-7908-482C-A049-7FFC244B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242-1A1D-4570-9316-5C04FAD5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732-3FA7-4B91-977A-64C42BFF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5A8D-8844-4C3F-9902-3803436EF9B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men, vruchten, za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1: Bloe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12760" y="1571760"/>
            <a:ext cx="8508960" cy="4286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6715080" y="2143080"/>
            <a:ext cx="78588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7786800" y="3000240"/>
            <a:ext cx="7858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715080" y="2786040"/>
            <a:ext cx="5000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072120" y="4071960"/>
            <a:ext cx="142884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143760" y="4857840"/>
            <a:ext cx="107136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71760" y="2143080"/>
            <a:ext cx="10000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571760" y="2571840"/>
            <a:ext cx="928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500120" y="30718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785960" y="4357800"/>
            <a:ext cx="7858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214200" y="28576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433760" y="3305160"/>
            <a:ext cx="274680" cy="24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857160" y="1736640"/>
            <a:ext cx="748044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0004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786200" y="2000160"/>
            <a:ext cx="3254400" cy="3000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446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2880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500720" y="2000160"/>
            <a:ext cx="382716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125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7" descr=""/>
          <p:cNvPicPr/>
          <p:nvPr/>
        </p:nvPicPr>
        <p:blipFill>
          <a:blip r:embed="rId1"/>
          <a:stretch/>
        </p:blipFill>
        <p:spPr>
          <a:xfrm>
            <a:off x="378000" y="1322280"/>
            <a:ext cx="8339040" cy="4170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3286080" y="1785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000840" y="1785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286080" y="2143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00840" y="2143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286080" y="2500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00840" y="2500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3286080" y="2928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000840" y="2928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3286080" y="3286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6000840" y="3286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3286080" y="3643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6000840" y="3643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3286080" y="400068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6000840" y="400068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3286080" y="435780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6000840" y="435780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3286080" y="471492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6000840" y="471492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5783040" cy="328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6929280" y="1154160"/>
            <a:ext cx="181296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600200"/>
            <a:ext cx="91440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Zelfbestuiving: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zelfd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Kruisbestuivin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ander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huizig:   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huizig: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20:27:31Z</dcterms:created>
  <dc:creator>David van Diepen</dc:creator>
  <dc:description/>
  <dc:language>en-US</dc:language>
  <cp:lastModifiedBy>Windows-gebruiker</cp:lastModifiedBy>
  <dcterms:modified xsi:type="dcterms:W3CDTF">2016-05-06T09:39:43Z</dcterms:modified>
  <cp:revision>17</cp:revision>
  <dc:subject/>
  <dc:title>Bloemen, vruchten, zaden</dc:title>
</cp:coreProperties>
</file>