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7046F-C013-4E16-B4B3-75F42C86155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BF959-8DCD-410D-93A0-F2E86DF1F2E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EDC83-997E-4C28-AA1C-9066E95D231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77FB-25A7-438B-8030-F704AD0471C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4AEC7-BC04-43E4-B21F-07947B4E60B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B4464-63BD-4B8F-99E5-2D280404514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FF4CF-0AB3-4527-AA0B-9B98D308A5B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E213-B409-42B7-A0D3-8F00EAB26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2B86-D6FD-4F70-B3F5-A879BC535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2797-22F2-416A-92BD-44FAE6000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66CC-90CF-40EB-AF0C-EC35C35A5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7780A-7DE8-40E8-B3F1-828D53411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E8244-9224-4A55-B45D-DD06B93BA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68CB9-7F3E-42B1-BDB1-B1587E8C9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6FD67-A5DB-4AB6-9683-BFAA51A64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E132E-DE1B-48DD-A769-79B604EDF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B537B-18C0-47C4-81F5-1237B2E90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EF29E-1177-40BF-8955-E52DA8CC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5D06-1716-4678-B068-A12E469A1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16C79-156E-4BF0-8E4D-05FC66B3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12F8F-2D6D-44F3-9ADD-8EB5212A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A473C-2CAA-48D1-AE20-4E55CE4F4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64FC0-7D98-44E8-A576-F77C6B2B8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DFF29-CA68-4842-9765-89293986C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FDD69-1F4E-4B83-8749-DDAD8A760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3A712-7363-4F4B-BD4B-8A07C04D2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35773-9C4B-4659-AF1B-F616238BE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F31B2-4985-4BBA-90C0-F48FC988A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14C8D-35A4-4992-AA82-6E7EF133C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77A3-FB6E-4B14-B676-58C3F5A18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8436F-D29D-44AB-9D7B-05CB07806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6F98C-E0BA-459E-9EB0-DE061EFB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55146-70D3-4C11-A70C-1E124475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697A8-6449-4E96-8844-4375352D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24FB1-9FE3-423C-AED9-5D75CF9CC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83C32-BDE3-4ECF-BEE4-97924A920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5F349-1973-4549-AA16-CC00740C1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A85E9-E5E0-4E72-B412-8BE0A6831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69DAA-F231-4FFD-A463-67F4ED41B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1345F-CF8F-498E-8209-759DB00DF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3C2C-17D6-41E8-9339-9CF2FE3B8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E5624-BCB5-453A-8DA1-69933BC40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161C5-E022-42DE-9796-889E5F094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8257D-6ACC-48EB-B297-0C9FCA727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F4DB1-A1B1-45EC-AD46-613EDF9C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5BF57-048D-46CB-9507-CDFBC0EF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88F72-987A-418F-A5C6-AED0BF11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881F9-9834-4DBA-B399-A63907D30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31318-6981-4EF0-977C-362CB3B3D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FF958-FC6C-4AC9-ACD7-C6360E41B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7C5E3-C47A-4CD3-8718-0409EA228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E2A4-8E56-4229-86CD-0BB941CA6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D8D7B-52C9-4715-B697-AC9D27C72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A43E7-0A4E-4626-8ACB-D9E33C4F8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FA89E-163E-4BA3-8B4B-0384C2127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470CD-4493-4F0A-8DFA-53775CE47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F81BE-ED2E-4832-994C-BC075001A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A4D5A-F605-4D48-A59F-7FCADBFB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A991F-A3F1-4604-B64F-1B06249E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D4C09-C64F-45FF-9D67-DA9CC75E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E5AB0-523B-4D84-B2BA-A1AA703C9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85C63-698D-4614-A5F3-CC8138F91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98C8-E366-4495-A927-7439F42EF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763EC-7243-4629-8883-0C198D2AD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31687-A651-40A3-B4F9-133EB2727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C7D11-A931-4522-B78E-89B486A05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045A5-5F7B-4E51-8960-3D95909A5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1DDE40-1A52-41DF-B6A6-416ABB183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EC9157-95F6-4075-85C4-C52AF6113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A44EE-0E54-407E-8E29-D803C41DB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77313-F806-40DC-8E83-10838E7F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AB52B-90AD-47B1-89DE-6171EAAB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1B07EC-D60D-46B4-A052-B987B7F4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4D5B-88F8-49C2-B7F3-41FB3B75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EA248-139E-41DA-8EC4-C89C6AF7D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3732E6-0BA1-4B67-B2DC-21F7467E5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7F925-EBA0-41C2-860B-81A0C29AF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FCC1BC-3A20-4046-9CBA-3A4C2E69B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C1E8A-D200-4AB7-8967-E2002B9A7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104FF-DA68-402B-9C2B-13E887872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E35C5-32C1-4CF2-B806-897016AA6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DB4023-6A91-4973-9F26-D13FB516B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D2EDD-F77F-4167-AD9D-3102C076C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DAEECC-B34E-4BFF-BB3E-04F4B2AC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E20C-6EB1-4612-8E2D-52AACA2D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EE7EE-1A36-4450-9618-83DB8593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9033A-0473-4210-B4F1-6AF3FE69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59BA9-A8A9-4E53-827A-918B27C60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66680-590C-4FB0-A9DA-44D7A4ABA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A975D-6619-4ABF-8119-71C989FDC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39B767-EDB3-4039-8A69-C94E0DFD8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82632-0DD8-46C6-BBD3-D4FBD30FC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1A1B0-25AD-43A8-8978-3EE434FB6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F835F-8F6F-4C96-9AD9-46E76FA8E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7E7CEB-A734-481F-A93E-82F463DCC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B1CD-A793-41B9-B6DC-B9C8E7C4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31BCA3-4E50-4B67-90CE-61EB0EF0A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DA282-8EB4-4776-A38A-B92AF4DA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9D1F2-C8E5-46C3-BB7B-7E3F7131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7E718D-C787-40DF-88FC-49A4461A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E9E907-300D-4FE2-AE8F-909BEC6D8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D6CE04-37B0-4184-A249-F47385E5F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39F34B-BC0E-440B-9141-DEF37F063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3CC92-2837-40CB-A695-0B54DFEE7C04}" type="datetime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B485-8847-4B0B-A1C6-74184C03134B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6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0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2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11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E6B59-1EDA-4F0D-A04E-5D0C7CEE0F7A}" type="datetime"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2BD05-F31C-4CAB-AFEC-0AFBAF364B08}" type="slidenum"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7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0804A-3EB1-4149-9431-EDE08C3F1275}" type="datetime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76BD4-3F8B-43B5-9A3C-1F9A9B4D6A70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53911-0D40-4EFE-B21C-EA161B1E491C}" type="datetime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0A9B7-46B6-4002-9F2B-68295F5D63B2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72C25-9F01-488E-BDE9-965531CC47C1}" type="datetime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E0767-8523-48BA-9F0E-DE59D36E703E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05710-E03A-466D-9CD9-A970BBD6D631}" type="datetime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17259-5A4A-4512-ACFB-9FC2ABCB5F5A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BF312-9394-4708-B57A-B3F2778F5784}" type="datetime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01D6C-8BCB-4ECA-A093-51276A5C7EFD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7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8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9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9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0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86CAE-CFF3-4C6C-B364-F6FB2D14A43C}" type="datetime"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5D83A-6FBF-42BD-A5B2-5EFF38C3F5E0}" type="slidenum"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B1361-8565-4A75-90D5-579560B20818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el 4" descr=""/>
          <p:cNvPicPr/>
          <p:nvPr/>
        </p:nvPicPr>
        <p:blipFill>
          <a:blip r:embed="rId1"/>
          <a:stretch/>
        </p:blipFill>
        <p:spPr>
          <a:xfrm>
            <a:off x="689040" y="762120"/>
            <a:ext cx="7772400" cy="1805040"/>
          </a:xfrm>
          <a:prstGeom prst="rect">
            <a:avLst/>
          </a:prstGeom>
          <a:ln w="0">
            <a:noFill/>
          </a:ln>
        </p:spPr>
      </p:pic>
      <p:sp>
        <p:nvSpPr>
          <p:cNvPr id="379" name="Ondertitel 2"/>
          <p:cNvSpPr/>
          <p:nvPr/>
        </p:nvSpPr>
        <p:spPr>
          <a:xfrm>
            <a:off x="684360" y="3213000"/>
            <a:ext cx="77724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Hoofdstuk 7</a:t>
            </a:r>
            <a:br>
              <a:rPr sz="4100"/>
            </a:br>
            <a:r>
              <a:rPr b="1" lang="nl-NL" sz="4100" spc="-1" strike="noStrike">
                <a:solidFill>
                  <a:srgbClr val="464646"/>
                </a:solidFill>
                <a:latin typeface="Lucida Sans Unicode"/>
              </a:rPr>
              <a:t>Samenvatten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C2B4F-A06A-492D-A678-A16D466BB1DC}" type="slidenum">
              <a:rPr b="0" lang="nl-NL" sz="1000" spc="-1" strike="noStrike">
                <a:solidFill>
                  <a:srgbClr val="ffffff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Picture 2" descr="C:\Users\Jorrit\Pictures\Deviant\deviant_logo.png"/>
          <p:cNvPicPr/>
          <p:nvPr/>
        </p:nvPicPr>
        <p:blipFill>
          <a:blip r:embed="rId2"/>
          <a:stretch/>
        </p:blipFill>
        <p:spPr>
          <a:xfrm>
            <a:off x="7236000" y="404640"/>
            <a:ext cx="1428480" cy="514440"/>
          </a:xfrm>
          <a:prstGeom prst="rect">
            <a:avLst/>
          </a:prstGeom>
          <a:ln w="0">
            <a:noFill/>
          </a:ln>
        </p:spPr>
      </p:pic>
      <p:pic>
        <p:nvPicPr>
          <p:cNvPr id="382" name="Afbeelding 2" descr=""/>
          <p:cNvPicPr/>
          <p:nvPr/>
        </p:nvPicPr>
        <p:blipFill>
          <a:blip r:embed="rId3"/>
          <a:stretch/>
        </p:blipFill>
        <p:spPr>
          <a:xfrm>
            <a:off x="611280" y="836640"/>
            <a:ext cx="518472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amenvatting: een verkorte versie van een tekst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Je behandelt alleen de hoofdzak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el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85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180C9-D4BA-4877-960A-BFC99391D07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Kernzin: de belangrijkste zin van een alinea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aak de eerste of de laatste zi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Kernzinnen geven de hoofdzaken van de tekst aa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88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2C50D-549A-4970-BD47-5D80B3BA2E3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orten samenvatting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(hoofd)onderwerp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oofdgedachte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globale samenvatting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ekstvervangende samenvatting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91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4D23C-294A-4A08-A0F2-B71ED6741EE8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aar de tekst over gaat in één of enkele woord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at vaak in de titel of in de lea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94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61154-6CC1-4A0D-AD66-FA0C0C9AD6D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boodschap die de schrijver met de tekst wil overbrengen, in één zi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97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06DC1-DE48-4B0A-997A-894D47F7711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hoofdlijnen van de tekst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estaat meestal uit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de titel van de tekst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de kernzin van elke alinea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Je zet alle kernzinnen achter elkaar en maakt daar in je eigen woorden een begrijpelijke tekst va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00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A0161-6EA0-45BE-82ED-317A0DF0C41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en uitgebreide samenvatting die de originele tekst vervangt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estaat meestal uit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de titel van de tekst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andere informatie die bekend is (auteur en de bron)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een samenvatting van elke alinea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03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7B59B-55FF-4B05-B78D-D0A3E0EDE0A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6T10:11:29Z</dcterms:created>
  <dc:creator>Jan</dc:creator>
  <dc:description/>
  <dc:language>en-US</dc:language>
  <cp:lastModifiedBy>Veen, Joke van der</cp:lastModifiedBy>
  <dcterms:modified xsi:type="dcterms:W3CDTF">2015-09-18T06:12:30Z</dcterms:modified>
  <cp:revision>118</cp:revision>
  <dc:subject/>
  <dc:title>Sociaal-culturele dimensie Thema 1: Cultuur en identiteit</dc:title>
</cp:coreProperties>
</file>