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B60B-108E-4A8C-BF6B-E3010DF412B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52E5-AC96-4561-B8B4-BA6EB7F13D4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62D6-B5C0-4763-9060-6DD5FE3A4A8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058E-0CB9-4FE3-BC1F-8AFEC63AB2E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7AAE-2B29-4905-8052-97A061DB3BB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A4AC-BF59-49E8-B389-38879C53695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98A4-20B8-46C2-865F-68497BB0539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A756-30A6-4EF7-BD7D-42EC3125207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656-C202-48D1-938F-5C538FA5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673-FBB8-4446-A0A7-F1D96CDB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346-BD67-44EC-B10D-53A1E880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C54-5392-4890-91A1-C7C1E0BE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96E3-323F-4AC1-9AA2-8B4A9954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4D4A-6C6B-45E0-A553-1CB7917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8BEC-FBC8-4725-94A1-C76B4722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C849-3995-4C8B-BF11-6E9CD11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4A01-0333-48E2-B6A9-22B1CDAF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62DC-20FE-4A60-BC8B-ED9236A0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8D0F-1453-4C65-9586-D495DDE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D4E-B640-4405-B4BB-624E173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F51E-891E-47D5-81C4-97AC8FDA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6777-F5B3-4F94-8F3F-2607A42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1C07-0678-47C8-BDD0-B9F5035F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85BB-0AFD-4376-83BA-DFAF8B3E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7A0D-DE73-4D89-9A75-FB93E000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D865-F1DE-4D99-B0A5-70AD655E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3A89-86F2-4BE8-9EB0-F8AB780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8A51-E1F1-42D8-9126-83CAA396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C5B5-4696-4EDA-937D-2C3460FB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E79E-5397-487F-B2BB-705FAE46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CE2-F8F0-4E0C-869A-F5985F3B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2FA4-F4A9-4F76-8BA1-FC0E0BC1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F1117-31CD-45E2-86FE-DD59C48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7F7F-C37E-4F2A-8CCC-FBB5F1C3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6EE4-CBA0-4F1C-9CA7-552799D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F684-922A-4343-AF92-48AD5384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C81B-9C6F-45EF-8713-55440074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1A78-0887-41D3-A010-5F42405B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BF27-86E2-49B8-96B3-00D0C647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C856-AF6A-4327-A021-E5F04EDA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A78A1-B037-4595-9617-9675720A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8AF-081E-4A2F-92F9-661A18B9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79351-2F9F-4E17-9E6F-C8857853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933C-BAB3-4E74-82FD-CD30B1FD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66173-11F2-4262-A5CC-970D9562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A48FA-D186-4E43-9ADB-9713D9E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D138D-6468-410C-8A4A-B616A720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E58A-1ECA-44EE-9B1C-02F0E5D6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C855-1472-4BEE-875A-E3BDA519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0281-7AE8-4583-9283-FC480458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0526-3E4A-44BC-AECF-D2F97BA1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0B70-4483-4730-9539-04187351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C43-AEE5-48F0-B12F-B5CDD056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AE871-D8E8-4F29-90CC-6DAA0AE5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63227-4E69-4996-B10A-880B6C21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50EF6-3A9A-4F94-AD1D-1615E05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5EAC-E0D5-4FB9-9967-FCC88FE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5AB9-4383-4CD7-B0FA-B91473CE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BA03D-14A9-4860-BA06-7B792092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29E0-7931-46C2-9CE8-939E8A6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EC867-9D6C-4872-936C-AF2A765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5338-EF69-4177-8F93-872A1C4D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C8040-7825-4A7C-BE8A-E54D6DB1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A23-4905-4B7E-AEC6-309C17D5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3C15B-62A8-4D1A-9F47-49B788E7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754EB-91C7-411F-8BC9-124EC272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E6D61-9C76-4602-A2B0-EA62468D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479E3-1B36-41FF-80E4-36D0240D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1E08A-5903-4634-A214-8B9BB8AC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05CF-7851-420C-8F80-10F49DC8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D863A-2320-4F0B-8A1E-B4EBEDF1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23A2-D5B1-4370-874E-B00BDF7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199F4-88E3-4CEF-8814-27460FF8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9306E-394F-4EB4-922B-F8E4A9A4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ACD-486F-4F38-B53A-20FB1FEC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1EE07-A39C-471A-A015-167A44EC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77CD-B2FE-4220-984F-A111DD3B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8C5EC-F01B-449C-B516-DCD925D4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F2550-71E5-4C82-B2E1-58A09B26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9ED98-87B4-45AD-BE0F-46DF88AA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A5D56-95E2-4423-9C38-349996A7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199D-ED06-4E03-8986-00F22D5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9F8E-6812-4C3C-B993-51B468E2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1C826-73E9-400F-A2EA-7498A376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D6D62-AB54-462B-A851-4FD441B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854-92B7-4CFC-9BC5-9C73372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8D29A-EEE9-4001-9131-DE5EA8D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F02FA-8FF1-443A-9776-567FCE36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02D8-C578-49CC-AA4D-077DE27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5EB8B-C377-41FA-999B-4D417A0A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AD5B2-CF5D-42B6-8660-729FE295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C323-651F-4FEC-B0E6-8841A63B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33C97-4246-4A00-865D-6D9E54E2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65A4-AE42-484C-881C-FF33F265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93554-42D2-4F7A-B43D-DC5691D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25C0-390E-42EF-BC6F-29154A9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AEF-D01E-445D-AB97-CF1806EB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613F4-0AA2-47B1-A657-3FA59782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C682F-424E-444A-8112-CE69C00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45C77-970C-46CB-8EAF-16521450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72A1-CD77-4D98-A6D1-8C4ADAE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4F07D-D953-4163-A414-A87E5A00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0AC54-997D-4098-8448-1378FACB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65ECD-1A18-49E2-BE74-D3B570D9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BC40-7AF9-4110-BDBC-39ECF6438871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8A5C-2865-41AB-8EFB-62EA6C828677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350C-FE1D-4CFF-8147-7D24051B3419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CB60-F261-482E-88B5-A4AA333EA5CC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0D6B-5555-4362-B45E-24129735A953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78AD-E086-4F09-9293-AF16C376B361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8D9B-CD38-4B7C-BC2B-BCCB5485BD09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DB2C-3871-4F4C-82D3-A39AF72973F4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FE9-7993-4D0E-A923-93FF49C64DCA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0B0E-C666-44C4-B718-189CDA147475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7360-BA11-466E-9728-4AFD7ABCCFBB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4E0-08F0-4860-A3C4-86C4E031E903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7B7-7D3C-45F2-BD3F-A2952B2938DD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BD79-1C90-4D90-AE17-8EF225B9379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B595-8D7F-4102-9272-F6B7E68FA921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AD58-05B5-4D19-A94A-CA74A69FA85B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D25E-0B49-4CB9-8BDD-BB9142FB539C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8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Brieven en e-mail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1D95-DCB3-44F0-B206-7C43040A49F7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stscriptum (PS): naschrif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s je een laatste opmerking wilt benadru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S Zie mijn website voor meer informati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B34E-B528-453C-87C9-0B4D727AE3D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 meer dan één bijlage: numm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lagen: 1 spellingsreg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2 gemaakte fo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0AF5-9F82-4480-A9EB-548E2CFCE93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1328760" y="1700280"/>
            <a:ext cx="64864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akelijke to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de toon beleefd en rusti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ldere en ondubbelzinnige inhou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bruik zo min mogelijk woor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andel alleen hoofdzak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voudig taalgebrui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mijd moeilijke woorden en lange zinn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z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rekening met voorkennis lez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DA42-8D49-43EF-BAE8-24C81A120CA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dresser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ul de e-mailadressen van geadresseerden in bij ‘aan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een kopie via ‘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onzichtbaar een kopie via ‘b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zend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rg voor een serieus e-mailadr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hef, inhoud en onderteken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ijn hetzelfde als bij een zakelijk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l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bestanden een duidelijke naa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135-827F-4F17-AB0B-E05506BF6C87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3F2B-FC3F-4CD5-ADD8-0D680D22991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5" name="Groep 1"/>
          <p:cNvGrpSpPr/>
          <p:nvPr/>
        </p:nvGrpSpPr>
        <p:grpSpPr>
          <a:xfrm>
            <a:off x="2411280" y="1341360"/>
            <a:ext cx="4327560" cy="4900320"/>
            <a:chOff x="2411280" y="1341360"/>
            <a:chExt cx="4327560" cy="4900320"/>
          </a:xfrm>
        </p:grpSpPr>
        <p:sp>
          <p:nvSpPr>
            <p:cNvPr id="386" name="Tekstvak 2"/>
            <p:cNvSpPr/>
            <p:nvPr/>
          </p:nvSpPr>
          <p:spPr>
            <a:xfrm>
              <a:off x="2411280" y="134136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1. Afzender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7" name="Tekstvak 8"/>
            <p:cNvSpPr/>
            <p:nvPr/>
          </p:nvSpPr>
          <p:spPr>
            <a:xfrm>
              <a:off x="2411280" y="1917360"/>
              <a:ext cx="270792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2. Dat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8" name="Tekstvak 9"/>
            <p:cNvSpPr/>
            <p:nvPr/>
          </p:nvSpPr>
          <p:spPr>
            <a:xfrm>
              <a:off x="2411280" y="227772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3. Adress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9" name="Tekstvak 10"/>
            <p:cNvSpPr/>
            <p:nvPr/>
          </p:nvSpPr>
          <p:spPr>
            <a:xfrm>
              <a:off x="2411280" y="283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4. Onderwerp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0" name="Tekstvak 11"/>
            <p:cNvSpPr/>
            <p:nvPr/>
          </p:nvSpPr>
          <p:spPr>
            <a:xfrm>
              <a:off x="2411280" y="319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5. Aanhef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Tekstvak 12"/>
            <p:cNvSpPr/>
            <p:nvPr/>
          </p:nvSpPr>
          <p:spPr>
            <a:xfrm>
              <a:off x="2411280" y="3557520"/>
              <a:ext cx="4327560" cy="158580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6. Briefinhoud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2" name="Tekstvak 13"/>
            <p:cNvSpPr/>
            <p:nvPr/>
          </p:nvSpPr>
          <p:spPr>
            <a:xfrm>
              <a:off x="2411280" y="520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7. Onderteken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3" name="Tekstvak 14"/>
            <p:cNvSpPr/>
            <p:nvPr/>
          </p:nvSpPr>
          <p:spPr>
            <a:xfrm>
              <a:off x="2411280" y="556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8. PS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Tekstvak 15"/>
            <p:cNvSpPr/>
            <p:nvPr/>
          </p:nvSpPr>
          <p:spPr>
            <a:xfrm>
              <a:off x="2411280" y="593460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9. Bijlage(n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DCCA-91F1-4194-8B95-18AE7629CB6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ciel Groenewoud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laverpas 156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EN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groenewoud@gmail.com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06-9371047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xi Actie BV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ogistiek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9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294 AA Vij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naa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t hoofdlet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atu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ag en jaar in cijfers, maand in lett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tussen plaats en datum een kom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de datering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ruten, 16 september 201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A83D-DB65-4FCB-A7F0-89046D4F095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hr. S.P. van Hols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indelaan 8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282 XP Loosdrech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meente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urgerzak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.a.v. mw. L.J.A. Zwar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8224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KL Dr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7E5E-0FFE-449D-A67A-FFE81A8E2AE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houd van de brief in ee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‘Betreft:’ of ‘Onderwerp:’ erv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het onderwerp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Onderwerp: spelfouten in documen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B40B-4F72-46C4-8F17-696A6E001BA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egroeting in een brie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indig met een komm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achte heer Zwart,/Geachte mevrouw Zwar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1850-89F1-49A0-B38A-6D0128A46F4F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leid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de reden voor het schrijven van d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ddenstu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meer informatie over het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spreek één deelonderwerp per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aan wat je van de lezer verwacht of vat de boodschap sam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6B21-FF9F-4BDC-B4CD-CBA69AB23797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inhoud 8"/>
          <p:cNvSpPr/>
          <p:nvPr/>
        </p:nvSpPr>
        <p:spPr>
          <a:xfrm>
            <a:off x="4427640" y="1484280"/>
            <a:ext cx="4403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iebedrijf Schrij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e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481040"/>
            <a:ext cx="41860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10F0-132E-4678-97D8-BFB6331311E7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2"/>
          <a:stretch/>
        </p:blipFill>
        <p:spPr>
          <a:xfrm>
            <a:off x="826920" y="3192480"/>
            <a:ext cx="2592720" cy="1173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"/>
          <a:stretch/>
        </p:blipFill>
        <p:spPr>
          <a:xfrm>
            <a:off x="4859280" y="3625920"/>
            <a:ext cx="25923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4-09T11:10:18Z</dcterms:modified>
  <cp:revision>145</cp:revision>
  <dc:subject/>
  <dc:title>Sociaal-culturele dimensie Thema 1: Cultuur en identiteit</dc:title>
</cp:coreProperties>
</file>