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128F-52B8-4C40-B295-966CC68B0C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BE09-43DF-4B7C-AEF8-BFB0A75B84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D348-75C7-49A3-BB54-FA2DBE0E8A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6EE9-D613-42BC-98D3-B10B5D2A74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1B62-4423-4985-9C5F-E0F68B14AF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BA30-8301-477D-AC5A-1B6AA215A3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C640-2C72-467E-B4C2-F7F130D57F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0DC-45E9-4F9A-9181-C5F03163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193-881A-4DDD-B421-76C6638D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1FC-CD11-4A76-BA88-383DD0BF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C73-0E02-41AD-B529-E1651BC9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22B2-C674-4377-A49B-E55D64CD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13E9-2EE8-4BE2-860C-22A1EA9A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836C-FCF1-4B47-B794-81E2AE1C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34DE-BDE0-4C11-BE21-D42F3C23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1726-62A1-4568-9375-AD114965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0375-5CF0-4F05-94FF-7A3214DA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F4B7-1326-411B-B526-B5DA430B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765-01C9-4EF4-A13A-540A146A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EDB0-DA68-4595-8CF3-C61B805C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5E58-BF5C-451D-8DCA-22E4331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E6B1-3020-4261-ACFC-B872E93B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AAC2-2D6B-4C3D-B6CF-20F12517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E98F-A2DE-42A2-BCAB-ECDA1D1E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D018-3A70-4AB4-8C11-9845ECDF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7C6F-66BF-44D1-A685-7D48645F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8076-2CF2-4483-B66A-C799F6A7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E9EC-056A-41D5-8169-F2134E52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DCF18-E7A7-4F88-B051-FA0EBE19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88E-B48E-40C8-AD5A-A48C8DF4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A440-3CF1-48A0-89A5-C906457D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0286-9651-4F3B-BF83-B938EDAD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E2F07-1415-40D9-AD46-6F95F3E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1A91-F28D-4E5D-AD5F-ED073AC9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75F33-060C-4263-AAA5-D119E272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360D-629B-4BC5-B386-6148EEBE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30B3-F6B8-4841-B0AD-0CED0FA5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C1B2A-76BE-4FA9-9568-BA72F2B7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61451-693F-4E9B-B40F-00489687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9CEC-ED9B-49F7-91B2-47701FBE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A46-BC7C-445C-897B-81144AF6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C01A-BD73-490F-BEDE-AD4171B0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37525-4A1D-4AA7-9267-A88A88DD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B7337-0D4A-49ED-8B37-56C776AC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7D40-1FFA-4DAF-B186-9282A811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A4300-7D23-4247-AF7A-8EF08D12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761F2-7695-415E-B014-581395D2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B70D2-C2A9-4C1E-B8BF-1B402864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E10CF-C812-43FE-854C-EECF8845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0D30-4976-4CC0-97C8-56C56630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03178-C9BC-4E29-B863-2A4535AB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619-EBCE-484D-9377-F8678311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F5D2-EE60-4553-A5E3-0530EB75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F0EE-56BD-4003-B92B-0ED6EC05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A907-50FC-4D80-AE78-2CD12DAC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06362-B68D-4A14-8674-BEC3B2F8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C6E17-C9B9-41B6-8649-79C2FC7B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F1206-FEC9-4BF1-8CEB-00F5BFD3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BB5B-D2CA-4E6B-A7E6-3B7BD122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3BD5D-BD6C-43EF-A3D9-CE6E3AF2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EE02B-2B30-421C-9432-259DA0CE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AC56-CF89-4156-B6EF-D208B9E5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A36-C675-4E40-82FB-B69BB724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DA287-937C-4E26-B3A3-29D573F8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CDF23-03C2-4E18-8455-C4FC01D0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EAF26-E915-48C1-8865-F7A0918F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FD058-0B89-47A5-A6AC-B86EA3A1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5C674-A2D4-424D-A4D5-52AA7BF3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6DDB6-A15D-4307-BE3F-9B7F9F1D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A1E92-45BA-456C-B36A-B424A797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B9B34-783F-49B3-AA7D-48568B58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997D1-4075-4CFD-A781-E574F489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574D6-4B47-49B0-8102-BF181A0D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8F0-272E-4333-9F9E-B8416FAA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C3BD6-DD2A-4B7E-A0CD-059A6A89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08E2B-A9DB-4E1C-A4DB-2BD34FE6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3BCCA-8792-425D-B0E5-163A312F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AD0E6-1F49-4DAB-A484-D97C3E74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782F9-E03C-4083-94D8-14AAD156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1CCBC-9533-4506-B0C3-A46ABE8D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45B8E-1208-4674-BE71-D68B64BD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F7263-38D3-4ECA-AA9E-0622F236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1AB72-50BA-49F5-BA6F-5F2E1AEA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AB09D-7D36-46A1-8E3D-6812BD09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C3D-95DB-4321-885E-2A8F6BF4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997A7-764D-4F8D-9E11-687C73D9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9DFFB-4C23-4950-B748-D67903C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6929B-8E09-43C2-A0EE-475D77CB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FAC57-10C8-427C-963F-87FF2F16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FA82A-7004-4D23-A47B-F26783C1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1DAF8-1DB4-42FE-8BEF-0425B30E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4C915-EE03-4B34-9E21-5974C284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C1C23-09A6-45F6-A762-FF48EFE3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976D5-0A96-4858-8302-F1A44E8E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0D173-A78E-4F45-838F-7D9C63E7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D0C-E4B9-41F4-A70F-8A9A665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EEAC1-FF07-4475-910B-ADD80E2C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76F1E-3EFC-4610-9132-0A2EFD3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8625E-BA66-4D84-BB61-88540601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826C0-B6D6-439D-AFF8-5CA835C1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438B2-EA15-414C-A1B3-EAD846AD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ECC14-1ECB-4D02-BC13-EBB18839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0FD4C-FC8B-40C3-879A-76DD5724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8CF5-CE0B-4FF6-8A7D-CBA3A6206FA0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713C-C674-4E5A-90EC-D3CA87AC4AF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387F-2A6A-4839-B41D-0C995610247F}" type="datetime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1EDF-E8B9-46D1-A56E-BBBC15779D9B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8D1A-FB35-425C-B7D2-6C642F5BD1F7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BAD2-CB32-4A35-B873-ADB26464F96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6AB5-68DD-4E25-B257-AE0BF40DA61E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267D-9120-4CEE-AF49-876CF4631A4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1EC4-D975-4393-B590-1B3EEEC8B8DC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074E-5D74-4CF9-88AB-89EBB1EE172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07EF-FCE2-467B-9150-126FDDA6D855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E742-4D30-4F0D-9427-02E750DD23F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E69B-8118-4087-8C7C-3EA0536B4914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C7FC-9370-4FA4-85DE-1113DA55C39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14A-07D8-4ECA-921B-4E2F22047DC6}" type="datetime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1ADD-1EF3-4E44-8A8D-158942354606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3992-7A1C-40BA-9ED6-D3503EEC643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9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7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Samenvatte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54A2-5941-4FCA-A674-A44924FA7B29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menvatting: een verkorte versie van een teks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handelt alleen de hoofdz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C547-D05A-4037-9630-ACB73056087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rnzin: de belangrijkste zin van een aline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ak de eerste of de laatste z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rnzinnen geven de hoofdzaken van de tekst a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4710-DD59-4D0A-AD59-F1E794DD85A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orten samenvattin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hoofd)onderwerp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ofdgedach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lobale samenvat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kstvervangende samenvat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9D31-8394-41AF-BC8F-3E4045943E9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 de tekst over gaat in één of enkele woor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at vaak in de titel of in de le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DC66-DF67-4137-8BCE-B9F72223683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oodschap die de schrijver met de tekst wil overbrengen, in één z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B4EF-E801-43D0-9BD4-0BE57C7082C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oofdlijnen van de teks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meestal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titel van de tekst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kernzin van elke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zet alle kernzinnen achter elkaar en maakt daar in je eigen woorden een begrijpelijke tekst v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81EA-B000-44A4-A30B-DC17E4AEFB1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uitgebreide samenvatting die de originele tekst vervang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meestal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titel van de tekst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dere informatie die bekend is (auteur en de bron)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en samenvatting van elke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301F-3A97-43D6-9521-CFD68FCD168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5-09-18T06:12:30Z</dcterms:modified>
  <cp:revision>118</cp:revision>
  <dc:subject/>
  <dc:title>Sociaal-culturele dimensie Thema 1: Cultuur en identiteit</dc:title>
</cp:coreProperties>
</file>