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3012-4820-4F6A-8ACB-E214F614974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E23E-63F3-4FDA-8649-6A0323935C2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21DE-FE67-4C72-AFD9-AA93DCF64F8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ACC0-CF87-40A2-A293-0E6F671F21C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74EB-1ABE-41FB-AFDA-CF92C71776B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80BD-F1E4-4FD7-A734-C8195FDBBE4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2549-21AD-48C4-A280-6425A4C9288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4B62-1FA3-4464-A6FB-30A021E5DAC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771-9834-4908-98AF-FA11DBDA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5BB-5546-4979-B7A3-28A60724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074-546A-4571-A4A3-571BA0E5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BA8-1F4A-4F76-8CF7-C931876C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331A-C68B-4E52-9C9C-AA453B83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C20E-5AD8-4480-89E9-FC9768C7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1A68-F24A-4BFB-8B69-1821B13F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2290-E93F-4A0C-8C9F-93439F34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75B0-5886-4617-891A-C1AF4AC0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FDFF-780D-4331-830D-6C10DE5F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D28D-2EBA-4416-B96C-72C128FB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D09-8977-479E-956D-E8F2908B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AA25-3DA7-40B3-BE81-D896A055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CDEB-781B-475B-B4B5-85146CE4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F96F-A637-4D3E-8105-F3D8A770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0796-A82F-423C-918A-149BB966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2FE2-03AF-4F47-9299-8BC02060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55427-1EEF-4FFA-A72D-10D95FEA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41D0-9070-4812-9A03-982C3570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36CC-63F4-4D50-A4A5-952E7F92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FE0C-0460-4BE0-9CCB-7E837AD8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3A887-D864-430E-9FEF-5418CD30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6C3-AE33-4CF1-81F3-14441EA3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7118-4572-463D-9287-0100FED6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D2BB-61A5-4DB2-8635-A95A2FC0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6002-D98E-4E34-83D2-C7B6A00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DAF7-E2E3-4E44-B299-C205CF0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F0D5-3C79-4CF7-A090-8E92E8BF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05090-709A-4D41-8ECB-868471E3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ACC7-7425-444E-8C1E-241FB825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609B3-E742-486A-8F64-904A942B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2090-F63E-4B93-A6A4-03C97C7C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F36D-76E1-464F-AB4A-23B6DADA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654-6106-49F3-9581-9645DD8E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2055-7C85-4BCB-8781-8C673301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9368-7E9D-4A60-990C-9C40DF2D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3FD40-7025-4353-9E15-759EE295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5FF64-62EA-4AEC-8C19-B4F02D60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01F84-C907-4570-AFB6-2DED324D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FDA8-D266-4D7B-86BC-3A1C88B5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59B03-7445-4584-96CD-2D08CC3E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C690-5F96-4575-B6DD-900462FE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CB20-118E-4433-A737-880E555C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F2627-32A1-4CF3-B22C-37959056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F54-8632-4E3B-8B94-6A41D177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FB9AC-AD17-43D4-A194-44B98343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D5710-2EAA-48CB-BAC4-7D349321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8B2BE-DD38-4B08-BC05-8B97E997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2F58-2E8E-46F6-BC10-BC1009BC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C45FA-6404-4851-BBC1-16202FDA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C3248-D945-448B-B88B-6B6DACC7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761D5-93C8-4C18-8E1B-27A8E71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37207-E0ED-4C75-A80C-5716E60C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84C5B-211F-4048-BBCC-8FDDD03F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292F-28EF-4DE2-8CF6-C89D351B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E13-915B-4934-90DB-2D833112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D98D0-D5B3-4C2E-8C07-EBF6A3EC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CEB72-EEA8-4007-A127-5C775E34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32B1D-69E2-45ED-83C5-015CD23B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37974-FBE2-4731-BA10-B72B455C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17619-74D9-420C-9040-43838EBA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AB258-6F84-49C3-B6D1-7C32D59F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E8C59-9135-43D7-A3C8-A3D50D60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ABC4-5B69-4EE5-B43F-4DE978E6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4B281-6892-4DB1-948A-1D9797D9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8905F-AE10-4017-A9C0-E920432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EF0-A35A-4653-AD14-2F093AA3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64DBA-DEFD-4BEB-9C03-DBAAEFAD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AB158-E3A3-484B-A667-11694C2B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04E3-381F-495A-9F1F-F8CDBB54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08E89-FF8F-4C48-B1A6-FC993053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C75CE-2762-49C6-B7ED-A107E93F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E6C74-6521-4CAB-807C-5F2EBD8B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1DDCE-0CB1-4235-9DEE-510B4A71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D010D-7AC9-4CC8-91D0-1F2DF6EC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1BC0D-59DC-462C-B4C4-01DE7978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B21C-CED7-4269-A565-055493E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FBA-BB48-4454-A635-B9A66140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2914-2145-4A65-BB1A-2436621D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549E5-ED7E-456C-AC3F-7616BE8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B4B27-EC35-4EC7-A86A-924F8B9D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C3E48-D13D-42EB-9C67-C99FC10E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8CD0D-78C6-4E05-A098-538B903D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D0A3-DA6A-4E7D-8F52-BD759F48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873B4-64AD-4E28-BA40-8633DAFB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C48D1-7063-4D53-B0F3-068C08C5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36D7A-1971-49EE-998A-B0F6AD89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34446-7D18-48F9-909F-233634B1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C0E-7F21-4D8C-A0E2-FD50B9DD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825EC-D056-43FD-BA47-5DEE91C7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1D48E-494E-423F-B80C-252F039B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5AA67-55F2-4E54-AE29-2B522C66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A52C1-97D7-4693-88B1-B79C5A01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471BE-6CCF-4D37-B714-C9963257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2E12F-70D5-4531-9063-FEFEACC0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A28F4-6D4B-42F2-864A-71AB6668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A50A-C12D-472C-8F71-92B0267946AE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A449-9CAA-4FFB-8560-B9247300021F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BD6A-557A-4936-ACF0-9ED2AED8CCDE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5805-0169-4577-93BD-532806619DD6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CFD5-B05F-4A56-95A9-CA6303F0CEA2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B196-345E-429F-98FD-C7671BBD092F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263B-7FEB-411E-A68B-83D55EC6CAD5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E8EC-3B4E-468D-AC0C-EE869C1D6EB8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C7B1-3FA1-4E49-9988-85BDA3C8B465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BA2D-9EC7-4AA4-A8C6-533D1E169B16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BA1E-C387-4C5E-A872-9D977567F74F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7AFD-E6A9-4226-A776-84E74EA61D90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BC53-740F-4316-99D6-025F4723DBFD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75BC-8D05-41E5-BC28-FBDD54DE3926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00CA-04B6-42C5-AC5C-69655447F3F0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474-56E5-4F21-B853-79A468DBAEF7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0781-4DE7-422D-BC15-CA07C8E431E8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9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8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Brieven en e-mail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5D5A-6F06-4D82-B11A-03740A92F67A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stscriptum (PS): naschrif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s je een laatste opmerking wilt benadru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S Zie mijn website voor meer informati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1BF5-3DC5-4C28-9EDA-0BA554C6635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 meer dan één bijlage: numm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lagen: 1 spellingsrege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2 gemaakte fou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B10B-446B-466F-B52C-BD976E1B89D4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1328760" y="1700280"/>
            <a:ext cx="64864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akelijke to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ud de toon beleefd en rusti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ldere en ondubbelzinnige inhou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bruik zo min mogelijk woor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andel alleen hoofdzak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voudig taalgebrui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mijd moeilijke woorden en lange zinn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z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ud rekening met voorkennis lez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41A9-B146-4F23-AB0D-37AD7B05C57D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dresser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ul de e-mailadressen van geadresseerden in bij ‘aan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tuur iemand een kopie via ‘cc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tuur iemand onzichtbaar een kopie via ‘bcc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zend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rg voor een serieus e-mailadr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hef, inhoud en onderteken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ijn hetzelfde als bij een zakelijke brie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l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bestanden een duidelijke naa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B3AE-43E7-4A68-8326-AC67DA52F83E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AD6F-11D5-402F-8ECE-7F04CC41CBAE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85" name="Groep 1"/>
          <p:cNvGrpSpPr/>
          <p:nvPr/>
        </p:nvGrpSpPr>
        <p:grpSpPr>
          <a:xfrm>
            <a:off x="2411280" y="1341360"/>
            <a:ext cx="4327560" cy="4900320"/>
            <a:chOff x="2411280" y="1341360"/>
            <a:chExt cx="4327560" cy="4900320"/>
          </a:xfrm>
        </p:grpSpPr>
        <p:sp>
          <p:nvSpPr>
            <p:cNvPr id="386" name="Tekstvak 2"/>
            <p:cNvSpPr/>
            <p:nvPr/>
          </p:nvSpPr>
          <p:spPr>
            <a:xfrm>
              <a:off x="2411280" y="1341360"/>
              <a:ext cx="2173320" cy="54936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1. Afzender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7" name="Tekstvak 8"/>
            <p:cNvSpPr/>
            <p:nvPr/>
          </p:nvSpPr>
          <p:spPr>
            <a:xfrm>
              <a:off x="2411280" y="1917360"/>
              <a:ext cx="270792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2. Dater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8" name="Tekstvak 9"/>
            <p:cNvSpPr/>
            <p:nvPr/>
          </p:nvSpPr>
          <p:spPr>
            <a:xfrm>
              <a:off x="2411280" y="2277720"/>
              <a:ext cx="2173320" cy="54936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3. Adresser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9" name="Tekstvak 10"/>
            <p:cNvSpPr/>
            <p:nvPr/>
          </p:nvSpPr>
          <p:spPr>
            <a:xfrm>
              <a:off x="2411280" y="2833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4. Onderwerp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0" name="Tekstvak 11"/>
            <p:cNvSpPr/>
            <p:nvPr/>
          </p:nvSpPr>
          <p:spPr>
            <a:xfrm>
              <a:off x="2411280" y="3193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5. Aanhef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1" name="Tekstvak 12"/>
            <p:cNvSpPr/>
            <p:nvPr/>
          </p:nvSpPr>
          <p:spPr>
            <a:xfrm>
              <a:off x="2411280" y="3557520"/>
              <a:ext cx="4327560" cy="158580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6. Briefinhoud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2" name="Tekstvak 13"/>
            <p:cNvSpPr/>
            <p:nvPr/>
          </p:nvSpPr>
          <p:spPr>
            <a:xfrm>
              <a:off x="2411280" y="5209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7. Onderteken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3" name="Tekstvak 14"/>
            <p:cNvSpPr/>
            <p:nvPr/>
          </p:nvSpPr>
          <p:spPr>
            <a:xfrm>
              <a:off x="2411280" y="5569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8. PS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4" name="Tekstvak 15"/>
            <p:cNvSpPr/>
            <p:nvPr/>
          </p:nvSpPr>
          <p:spPr>
            <a:xfrm>
              <a:off x="2411280" y="593460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9. Bijlage(n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B59F-43C1-4F08-8981-ABCD8C9F070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ciel Groenewoud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laverpas 156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652 EN Drut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groenewoud@gmail.com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06-9371047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xi Actie BV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ogistiek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stbus 392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294 AA Vij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naa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t hoofdlet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atu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ag en jaar in cijfers, maand in lett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et tussen plaats en datum een komm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 het eind van de datering komt </a:t>
            </a: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p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ruten, 16 september 201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B3A4-9618-47BA-941B-FD407F9336AF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hr. S.P. van Holst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indelaan 82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282 XP Loosdrech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meente Drut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urgerzak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.a.v. mw. L.J.A. Zwart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stbus 38224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652 KL Dru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02B6-6CC9-432C-ACF0-B9F6AA25255B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inhoud van de brief in een of enkele woor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et ‘Betreft:’ of ‘Onderwerp:’ erv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 het eind van het onderwerp komt </a:t>
            </a: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ge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Onderwerp: spelfouten in documen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85B1-2723-4A7A-B41E-0EE2E5CE7D7E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egroeting in een brie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gin met een hoofdlet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indig met een komm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achte heer Zwart,/Geachte mevrouw Zwar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9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05EE-6CEB-47FE-B862-C97C2430921F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inleid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de reden voor het schrijven van de brie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gin met een hoofdlet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ddenstu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meer informatie over het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spreek één deelonderwerp per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aan wat je van de lezer verwacht of vat de boodschap sam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1675-6D83-4237-AE1F-F5B18C9999F5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inhoud 8"/>
          <p:cNvSpPr/>
          <p:nvPr/>
        </p:nvSpPr>
        <p:spPr>
          <a:xfrm>
            <a:off x="4427640" y="1484280"/>
            <a:ext cx="440352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Met vriendelijke groe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Redactiebedrijf Schrij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Gerard Groen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redacte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481040"/>
            <a:ext cx="41860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Met vriendelijke groe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Gerard Groen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7282-BEEB-4217-BCA9-913DF2B01E40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2"/>
          <a:stretch/>
        </p:blipFill>
        <p:spPr>
          <a:xfrm>
            <a:off x="826920" y="3192480"/>
            <a:ext cx="2592720" cy="1173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"/>
          <a:stretch/>
        </p:blipFill>
        <p:spPr>
          <a:xfrm>
            <a:off x="4859280" y="3625920"/>
            <a:ext cx="25923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5-04-09T11:10:18Z</dcterms:modified>
  <cp:revision>145</cp:revision>
  <dc:subject/>
  <dc:title>Sociaal-culturele dimensie Thema 1: Cultuur en identiteit</dc:title>
</cp:coreProperties>
</file>