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E84E-AD77-43FA-9B55-8F27394B3693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A535-0B6B-46EA-9BE7-68839CC27869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6693-4B6D-40F3-8A8C-7BBC88CFD8EA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41EE-AF63-4BED-B398-C11CEB13A712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AFD7-731E-462C-B6D8-12715376D22A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8A53-8DA1-4576-ABDF-5C710D0DECD8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C064-37C7-4C90-B53B-0D484E7EE05A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CBD4-C401-43E5-A903-EC8828573E59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B496-D51B-4ED9-BA0F-1869BC8EF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91FB-1CD0-4BBA-8FC1-7A31C038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333C-3F66-489C-BD39-74E7A25B3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BB51-774B-4E81-9D92-ABDCEF125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B5CD-0FAA-4DCE-B912-B3B62BB4E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BFAE-F97E-4171-9BE5-C35B880E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7C68-5E71-4684-82CA-F69094C2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4EDD-0A02-4B1C-9174-B3BF85F5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E88F-B2E0-49CE-809F-4D9FFE16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17FA-CC08-4494-A42F-72A1304C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3A05-D42B-408C-BB80-6ECE83D2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A7B0-2C9A-4CAB-A488-66A96907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38FF-6D92-4FDA-B454-D189118D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22DC-32E8-46AB-85CA-BA220197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B83F-4E84-467B-9F16-EEF7EACB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FB17D-1C15-40F6-8293-C55F4A7D4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0D33-812D-41DB-B6F8-24FF5B875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983D8-DC84-492E-B671-B04BEE1C2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390E8-D6EB-48FB-BBD2-376F7550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29529-40E6-4174-A243-BAC03C9D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16EC7-D9AF-403B-A018-B55C7698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E096F-B5C5-4373-88FB-EDB21B73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6201-9BD0-458D-8EF8-05547312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928DF-D796-43A9-8757-B41F4486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48652-B860-400A-9AAB-3BB2C45E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9D569-73A9-4A6E-9E5F-1F1A3CB5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F9BD0-3C1D-4F4A-B68D-D350FA0F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0D33D-A5ED-4B52-80F4-AC16D3CA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202A8-ECB5-4D43-B356-6174054E1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F9DDB-1A8A-4304-A1FB-4616614B6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665CF-DF2D-4604-9F6F-BBA6363E4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69184-0AF0-4E1E-9BD6-6A74A0F3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7F52E-1161-4DF3-AB49-F859CC7B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72EE-EBEE-417F-9A8D-A1EEF10E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1F3D9-0AD4-4444-B442-0A510FF0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335B2-EE77-4993-959A-C9A56C42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54E79-EC30-45E1-B0C7-58269C0E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6C3BB-B5DC-4F33-840E-48FF3C1F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5BCE6-A61A-4699-817C-FE7E994B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C9EE8-CAB7-4D67-B76D-AD93A7A8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71902-C861-48C4-8F67-C45AC9FC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65AE9-CC86-4902-9846-99EBE4129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9D6AF-A923-4B3D-9952-02DD829D4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EFFA3-10C3-4ED2-A0AE-CF4C662D0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47EA-9099-49A9-89C3-C6E9AA6B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F2A7B-006B-4E35-8EC6-DBF6AC1E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9B73B-F59C-414B-A7C0-8FF05717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B4449-A019-4E97-A537-1997941C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B4BBA-9C58-4D52-8BC4-97407751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ED282-AAC7-415F-9B3B-8E6670EF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97629-3DE6-4743-B4F2-B7418A30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EECEE-6135-471A-8404-95C0E2E5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28214-8B64-4D9E-99D2-456AAA8F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174DB-8676-4F00-B2A5-37421AFC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5ED9C-160C-4B9E-A3A5-695967CEA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17D3-4C49-4501-81DE-E8152CB5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D4346-6716-48A2-9E09-185711FFE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976E3-F602-4C5C-8F8C-A21A51036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71F39-B68F-4C72-8ECC-6F670AAE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35539-9967-48EE-84B3-B9AEC40D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84ED4-1BA3-40D5-B115-B406E212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06542-B789-4117-9372-92D48DA0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E92DA-B8E2-44A0-9BD5-A553D5B8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1741A-3C97-458F-95BF-42F59E7D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9B810-07D5-4350-93B8-8AA8CD22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ADC90-BB86-4DC0-A22A-AE3C79E4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4A0D-8D89-4FE4-AAC9-E77E02B5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462E5-CD85-4A42-97B2-5D6E2EBD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49670-180A-453B-BE96-685E21A5A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3F253-1312-4526-A7AA-F0E458027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4E7CB-738D-494C-8946-ED1E3DA31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F89A0-ACB8-4153-8AF9-1C1D9698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E869B-D38B-40E8-B62F-8F6164D9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70975-6696-4C3F-A42D-B144591A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55E72-C8EE-4BB5-995E-DBB72EEC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22285-EA80-4C11-ABE6-DE5262AC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5F6C3-32EE-4ED4-8C29-A60A6E5E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EC9F-E418-4BA4-AC4B-4D5342D9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19272-8759-4886-99D1-EFBF39CB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68107-0110-4F6B-97EE-1031BCB4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E8E5D-6F93-4ADA-AF39-61A18B17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8DEE9-1A52-42AC-A216-1ABEF66A1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4268C-771B-4D39-85CC-BAA43F59A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F8F64-4CEF-42C0-8BB5-A61C1E92D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DE4BD-F289-435A-A70A-B590C5AA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33585-31D6-47C6-BA99-EB62E552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9CEAD-8B06-46AB-8B80-073A44A3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99EB1-FF1E-4913-99C0-003DA583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9BBB-4D57-4F3C-94AB-50E95714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7B5C4-9D3F-4E5B-8480-49EFF35B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DAFE2-FA0E-4C02-B27E-F8C7CA3B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868EA-7D09-4089-B6B9-F91D6A9F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2C86D-8CB4-4C72-BE5C-75C199BF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FB85E-EF5C-41D2-A66A-09389CB2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854AC-93E6-466D-8EE6-F52531303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3D36E-CAA1-4524-998A-CF299AF07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C71E-E495-4839-A852-049FC607CAED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F28E-1FD7-4F28-912E-7AD7B6B3CE15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6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0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1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8F44-E6A9-4C7C-929D-66880B2E4A75}" type="datetime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9EE4-4257-4CB1-BEFF-6B35045BBFFE}" type="slidenum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FDE5-BE24-4D6A-B1F6-6F61D8831FA5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B1F3-3897-4A4D-A0DB-25213571F342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4D8C-A3DC-4FF7-8C89-DC6AC4F62291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7F14-C8A5-4424-9254-BD04E0BF3351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B160-55C6-4DE6-8F4F-045073D2B3DA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0556-F4A2-4CBD-AD17-10BEE9020423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5648-0245-4F64-9DFB-DD3D986A3B14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59A7-C97A-4017-8552-73D3774AC63C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EB9C-3AFA-42C6-B304-6F15B481C38E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31B9-177B-4326-9306-67D566BC2C6B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0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7D90-1432-4F58-8EF3-0A5C3FE725F1}" type="datetime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91B1-0D7C-47F2-817E-C10B2B5580CE}" type="slidenum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CF7B-AEB1-4A46-BBC4-970A346AB937}" type="slidenum">
              <a:rPr b="0" lang="nl-NL" sz="1000" spc="-1" strike="noStrike">
                <a:solidFill>
                  <a:srgbClr val="ffffff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4" descr=""/>
          <p:cNvPicPr/>
          <p:nvPr/>
        </p:nvPicPr>
        <p:blipFill>
          <a:blip r:embed="rId1"/>
          <a:stretch/>
        </p:blipFill>
        <p:spPr>
          <a:xfrm>
            <a:off x="689040" y="762120"/>
            <a:ext cx="7772400" cy="1805040"/>
          </a:xfrm>
          <a:prstGeom prst="rect">
            <a:avLst/>
          </a:prstGeom>
          <a:ln w="0">
            <a:noFill/>
          </a:ln>
        </p:spPr>
      </p:pic>
      <p:sp>
        <p:nvSpPr>
          <p:cNvPr id="379" name="Ondertitel 2"/>
          <p:cNvSpPr/>
          <p:nvPr/>
        </p:nvSpPr>
        <p:spPr>
          <a:xfrm>
            <a:off x="684360" y="3213000"/>
            <a:ext cx="7772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Hoofdstuk 8</a:t>
            </a:r>
            <a:br>
              <a:rPr sz="4100"/>
            </a:br>
            <a:r>
              <a:rPr b="1" lang="nl-NL" sz="4100" spc="-1" strike="noStrike">
                <a:solidFill>
                  <a:srgbClr val="464646"/>
                </a:solidFill>
                <a:latin typeface="Lucida Sans Unicode"/>
              </a:rPr>
              <a:t>Brieven en e-mails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B921-E39F-40B9-A087-88ADAB3AF26C}" type="slidenum">
              <a:rPr b="0" lang="nl-NL" sz="1000" spc="-1" strike="noStrike">
                <a:solidFill>
                  <a:srgbClr val="ffffff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Picture 2" descr="C:\Users\Jorrit\Pictures\Deviant\deviant_logo.png"/>
          <p:cNvPicPr/>
          <p:nvPr/>
        </p:nvPicPr>
        <p:blipFill>
          <a:blip r:embed="rId2"/>
          <a:stretch/>
        </p:blipFill>
        <p:spPr>
          <a:xfrm>
            <a:off x="7236000" y="404640"/>
            <a:ext cx="1428480" cy="514440"/>
          </a:xfrm>
          <a:prstGeom prst="rect">
            <a:avLst/>
          </a:prstGeom>
          <a:ln w="0">
            <a:noFill/>
          </a:ln>
        </p:spPr>
      </p:pic>
      <p:pic>
        <p:nvPicPr>
          <p:cNvPr id="382" name="Afbeelding 2" descr=""/>
          <p:cNvPicPr/>
          <p:nvPr/>
        </p:nvPicPr>
        <p:blipFill>
          <a:blip r:embed="rId3"/>
          <a:stretch/>
        </p:blipFill>
        <p:spPr>
          <a:xfrm>
            <a:off x="611280" y="836640"/>
            <a:ext cx="51847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ostscriptum (PS): naschrif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ls je een laatste opmerking wilt benadrukk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PS Zie mijn website voor meer informati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1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5147-74D3-489F-B48C-EC2DCDE64FF4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ij meer dan één bijlage: nummer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ijlagen: 1 spellingsregel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2 gemaakte fout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3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4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CD1A-9BD3-4141-8735-BE24688B48E9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6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Picture 9" descr=""/>
          <p:cNvPicPr/>
          <p:nvPr/>
        </p:nvPicPr>
        <p:blipFill>
          <a:blip r:embed="rId2"/>
          <a:stretch/>
        </p:blipFill>
        <p:spPr>
          <a:xfrm>
            <a:off x="1328760" y="1700280"/>
            <a:ext cx="648648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akelijke too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Houd de toon beleefd en rustig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eldere en ondubbelzinnige inhou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Gebruik zo min mogelijk woord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ehandel alleen hoofdzak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voudig taalgebruik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ermijd moeilijke woorden en lange zinn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leze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Houd rekening met voorkennis leze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9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0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88C6-0075-467F-9F52-0BFADA415D61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dressering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ul de e-mailadressen van geadresseerden in bij ‘aan’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Stuur iemand een kopie via ‘cc’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Stuur iemand onzichtbaar een kopie via ‘bcc’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fzende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org voor een serieus e-mailadre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anhef, inhoud en ondertekening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ijn hetzelfde als bij een zakelijke brief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ijlag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Geef bestanden een duidelijke naam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3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E556-E8DB-4898-9CAB-E0ED24F85D42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4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DA4E-C285-485C-87A3-761B6BDD9816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85" name="Groep 1"/>
          <p:cNvGrpSpPr/>
          <p:nvPr/>
        </p:nvGrpSpPr>
        <p:grpSpPr>
          <a:xfrm>
            <a:off x="2411280" y="1341360"/>
            <a:ext cx="4327560" cy="4900320"/>
            <a:chOff x="2411280" y="1341360"/>
            <a:chExt cx="4327560" cy="4900320"/>
          </a:xfrm>
        </p:grpSpPr>
        <p:sp>
          <p:nvSpPr>
            <p:cNvPr id="386" name="Tekstvak 2"/>
            <p:cNvSpPr/>
            <p:nvPr/>
          </p:nvSpPr>
          <p:spPr>
            <a:xfrm>
              <a:off x="2411280" y="1341360"/>
              <a:ext cx="2173320" cy="549360"/>
            </a:xfrm>
            <a:prstGeom prst="rect">
              <a:avLst/>
            </a:prstGeom>
            <a:noFill/>
            <a:ln w="936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Lucida Sans Unicode"/>
                </a:rPr>
                <a:t>1. Afzender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87" name="Tekstvak 8"/>
            <p:cNvSpPr/>
            <p:nvPr/>
          </p:nvSpPr>
          <p:spPr>
            <a:xfrm>
              <a:off x="2411280" y="1917360"/>
              <a:ext cx="2707920" cy="307080"/>
            </a:xfrm>
            <a:prstGeom prst="rect">
              <a:avLst/>
            </a:prstGeom>
            <a:noFill/>
            <a:ln w="936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Lucida Sans Unicode"/>
                </a:rPr>
                <a:t>2. Datering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88" name="Tekstvak 9"/>
            <p:cNvSpPr/>
            <p:nvPr/>
          </p:nvSpPr>
          <p:spPr>
            <a:xfrm>
              <a:off x="2411280" y="2277720"/>
              <a:ext cx="2173320" cy="549360"/>
            </a:xfrm>
            <a:prstGeom prst="rect">
              <a:avLst/>
            </a:prstGeom>
            <a:noFill/>
            <a:ln w="936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Lucida Sans Unicode"/>
                </a:rPr>
                <a:t>3. Adressering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89" name="Tekstvak 10"/>
            <p:cNvSpPr/>
            <p:nvPr/>
          </p:nvSpPr>
          <p:spPr>
            <a:xfrm>
              <a:off x="2411280" y="2833560"/>
              <a:ext cx="2728440" cy="307080"/>
            </a:xfrm>
            <a:prstGeom prst="rect">
              <a:avLst/>
            </a:prstGeom>
            <a:noFill/>
            <a:ln w="936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Lucida Sans Unicode"/>
                </a:rPr>
                <a:t>4. Onderwerp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90" name="Tekstvak 11"/>
            <p:cNvSpPr/>
            <p:nvPr/>
          </p:nvSpPr>
          <p:spPr>
            <a:xfrm>
              <a:off x="2411280" y="3193560"/>
              <a:ext cx="2728440" cy="307080"/>
            </a:xfrm>
            <a:prstGeom prst="rect">
              <a:avLst/>
            </a:prstGeom>
            <a:noFill/>
            <a:ln w="936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Lucida Sans Unicode"/>
                </a:rPr>
                <a:t>5. Aanhef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91" name="Tekstvak 12"/>
            <p:cNvSpPr/>
            <p:nvPr/>
          </p:nvSpPr>
          <p:spPr>
            <a:xfrm>
              <a:off x="2411280" y="3557520"/>
              <a:ext cx="4327560" cy="1585800"/>
            </a:xfrm>
            <a:prstGeom prst="rect">
              <a:avLst/>
            </a:prstGeom>
            <a:noFill/>
            <a:ln w="936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Lucida Sans Unicode"/>
                </a:rPr>
                <a:t>6. Briefinhoud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92" name="Tekstvak 13"/>
            <p:cNvSpPr/>
            <p:nvPr/>
          </p:nvSpPr>
          <p:spPr>
            <a:xfrm>
              <a:off x="2411280" y="5209560"/>
              <a:ext cx="2728440" cy="307080"/>
            </a:xfrm>
            <a:prstGeom prst="rect">
              <a:avLst/>
            </a:prstGeom>
            <a:noFill/>
            <a:ln w="936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Lucida Sans Unicode"/>
                </a:rPr>
                <a:t>7. Ondertekening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93" name="Tekstvak 14"/>
            <p:cNvSpPr/>
            <p:nvPr/>
          </p:nvSpPr>
          <p:spPr>
            <a:xfrm>
              <a:off x="2411280" y="5569560"/>
              <a:ext cx="2728440" cy="307080"/>
            </a:xfrm>
            <a:prstGeom prst="rect">
              <a:avLst/>
            </a:prstGeom>
            <a:noFill/>
            <a:ln w="936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Lucida Sans Unicode"/>
                </a:rPr>
                <a:t>8. PS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94" name="Tekstvak 15"/>
            <p:cNvSpPr/>
            <p:nvPr/>
          </p:nvSpPr>
          <p:spPr>
            <a:xfrm>
              <a:off x="2411280" y="5934600"/>
              <a:ext cx="2728440" cy="307080"/>
            </a:xfrm>
            <a:prstGeom prst="rect">
              <a:avLst/>
            </a:prstGeom>
            <a:noFill/>
            <a:ln w="936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Lucida Sans Unicode"/>
                </a:rPr>
                <a:t>9. Bijlage(n)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6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2D54-C2CE-4DA3-B347-4D04F9EA3177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 privé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Ceciel Groenewoud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Klaverpas 156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6652 EN Druten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cgroenewoud@gmail.com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06-93710472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 organisati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Taxi Actie BV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Logistiek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Postbus 392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6294 AA Vijl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laatsnaam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met hoofdlett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atum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ag en jaar in cijfers, maand in letter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et tussen plaats en datum een komm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an het eind van de datering komt </a:t>
            </a: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ge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pu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ruten, 16 september 2013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0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BB40-6B55-4091-9A42-4D6875B594DC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 privé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hr. S.P. van Holst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Lindelaan 82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1282 XP Loosdrech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 organisati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Gemeente Druten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urgerzaken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T.a.v. mw. L.J.A. Zwart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Postbus 38224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6652 KL Drut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3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E229-4967-458A-8630-33F09AB01F5C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inhoud van de brief in een of enkele woord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et ‘Betreft:’ of ‘Onderwerp:’ ervoo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an het eind van het onderwerp komt </a:t>
            </a: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geen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u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Onderwerp: spelfouten in document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6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F14F-7880-4CA1-81A1-4EFFFAABF838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begroeting in een brief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egin met een hoofdlette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indig met een komma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eachte heer Zwart,/Geachte mevrouw Zwart,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9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760F-9539-4BBD-8666-19D9BAE0BD34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inleid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Geef de reden voor het schrijven van de brief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egin met een hoofdlette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iddenstuk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Geef meer informatie over het onderwerp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espreek één deelonderwerp per alinea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lo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Geef aan wat je van de lezer verwacht of vat de boodschap sam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2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F005-2671-4031-A828-FDC56FDD61A1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ijdelijke aanduiding voor inhoud 8"/>
          <p:cNvSpPr/>
          <p:nvPr/>
        </p:nvSpPr>
        <p:spPr>
          <a:xfrm>
            <a:off x="4427640" y="1484280"/>
            <a:ext cx="4403520" cy="45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 organisati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Calibri"/>
                <a:ea typeface="Calibri"/>
              </a:rPr>
              <a:t>Met vriendelijke groet,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Calibri"/>
                <a:ea typeface="Calibri"/>
              </a:rPr>
              <a:t>Redactiebedrijf Schrijf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Calibri"/>
                <a:ea typeface="Calibri"/>
              </a:rPr>
              <a:t>Gerard Groen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Calibri"/>
                <a:ea typeface="Calibri"/>
              </a:rPr>
              <a:t>redacteu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481040"/>
            <a:ext cx="418608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 privé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Calibri"/>
                <a:ea typeface="Calibri"/>
              </a:rPr>
              <a:t>Met vriendelijke groet,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Calibri"/>
                <a:ea typeface="Calibri"/>
              </a:rPr>
              <a:t>Gerard Groen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5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6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90DF-A792-4E99-B770-7E887BA8721C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Picture 7" descr=""/>
          <p:cNvPicPr/>
          <p:nvPr/>
        </p:nvPicPr>
        <p:blipFill>
          <a:blip r:embed="rId2"/>
          <a:stretch/>
        </p:blipFill>
        <p:spPr>
          <a:xfrm>
            <a:off x="826920" y="3192480"/>
            <a:ext cx="2592720" cy="11732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7" descr=""/>
          <p:cNvPicPr/>
          <p:nvPr/>
        </p:nvPicPr>
        <p:blipFill>
          <a:blip r:embed="rId3"/>
          <a:stretch/>
        </p:blipFill>
        <p:spPr>
          <a:xfrm>
            <a:off x="4859280" y="3625920"/>
            <a:ext cx="259236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6T10:11:29Z</dcterms:created>
  <dc:creator>Jan</dc:creator>
  <dc:description/>
  <dc:language>en-US</dc:language>
  <cp:lastModifiedBy>Veen, Joke van der</cp:lastModifiedBy>
  <dcterms:modified xsi:type="dcterms:W3CDTF">2015-04-09T11:10:18Z</dcterms:modified>
  <cp:revision>145</cp:revision>
  <dc:subject/>
  <dc:title>Sociaal-culturele dimensie Thema 1: Cultuur en identiteit</dc:title>
</cp:coreProperties>
</file>