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63D5-2178-488A-967C-860D51EC96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7FC1-F08E-44AD-B5AA-AE3292805D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69F4-7894-47EA-B394-CAF7115807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071A-047A-450E-922B-808A5820E2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34ED-C832-4432-9BB3-C5D0C38D54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478B-BABB-4AD6-AAE2-03EE57DED4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5B21-22A2-48CA-830A-E4826F639F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BE5-E3C5-4DD2-820F-768A5366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781-A6A4-4024-A99C-234D054C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AE4-560A-455C-A0B6-4A173A29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F7C-C47B-4663-8443-F8B8CB09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589C-0042-4EB1-BB06-F6B9CD61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1ECA-EC02-4424-AE8B-ECA4B52D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B808-3101-40A4-A0FD-0D03E98C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DE2C-BF28-4752-B8DC-C41A9067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1FE7-CC88-47DD-9C3A-C4F7B354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54CB-DD86-42F0-84EF-E7A46C5D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40A9-964C-43CA-99FF-96F4E4C2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BE6-D46D-4D8D-80BD-BD29C3C0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6970-5582-4F8D-8F9B-AC44FD31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2B85-26A7-4D10-9E37-9BD06F6D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4FA9-AEEF-44A3-9B91-DEC57A57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FCC7-E3D5-4705-8AA4-50F57F43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FFB8-A131-4443-B95C-BAA9D559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94D89-E99F-4F91-A7F0-EE23173C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E241-7B71-4D19-932A-3E30AFDF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25008-019E-4438-8627-8D77F3FD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A5F1D-C5D1-4A9B-9EA5-DFFC7E13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FDAB-87C3-459F-B0C2-98D83AD4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8D2-8E25-4C97-AF09-C79BA0C4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03AB-5B5B-44F7-862A-75EE65B6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9610-B839-4097-9763-16C9EBCD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3AF53-27FF-4B81-9281-875E315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7B3C-7752-48CD-85E3-E389556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CA7B-621A-4541-9559-56EC8A49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1CDFF-D864-4637-A2B9-190D7689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06A6F-D538-4420-9CEA-5CD99A04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EC80F-998D-4D2C-84A7-4703615A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9D365-92A3-4E6A-BF5F-6716A97B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4AB3E-CBF2-4D81-A58A-DB406F48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8B5-49A2-4FBB-B526-55ECE167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10377-0874-41A6-B97C-435FE4C7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850B8-C87C-4CA2-9D9C-30B8258C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3005E-47FA-4192-A2A6-32213149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18AF7-E492-4521-BF63-46723DEF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58C6C-EC45-4AE0-9382-AC1A1A34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D9B62-B161-4C8A-A364-D56085CD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7D629-8863-46F6-ADDF-C1030412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2805D-64C0-4CC8-9FD0-B1C10EE7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DB213-CF87-4A2A-8673-5D3EB264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101C9-535E-40B0-92EA-92F0A168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C82-E8D8-44AF-85AF-5C7B71E3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436B7-D997-4931-BEC2-F7F0E546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9D659-B814-441C-B21D-90C50197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EB1BA-EB26-4D31-A009-14204895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A5B43-1282-43C0-B6F5-3DCFA395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4C9A1-7A56-42BA-AD34-72B97CA3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C5391-B266-49E5-8FEC-5313AF0A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C8D71-C841-4468-9FF9-E5736B71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DF160-3C25-4F22-98FD-6B6E3444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85509-8AA4-4F3A-B480-8BDF4DC5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0EBB3-95A8-40CA-BF56-3D246F69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FDE-5CEA-45B9-96BE-72C81C5D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B991-9F4C-425A-BE1E-599BB579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B6CB-F4BF-48ED-818B-8C7D326F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E9538-4336-4BDA-AA10-8E9565A1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376B3-E687-4830-BD1B-EB14406B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969E0-C9F0-4F62-9495-A025A04A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1A9C7-6556-4EFC-B541-4D6B5C3F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F33A3-92D1-441F-8BD9-BA94BF5B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B63D5-17C2-4AB3-A58E-EA8516D4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12751-E05E-40E3-A9C1-9E55FC76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E6057-E248-49ED-A1EF-468A65FB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6CE-DE58-47F1-A80C-0BD01777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2DA8E-E3E9-4DF2-928B-D04DE60D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5DDEF-6910-48D4-9DE4-5C02E27D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3F071-B0D5-48A7-BB16-40ECB9EE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003CC-DECD-4186-8964-F78AC623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BD467-76D9-41EA-A91A-CB352FA1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9A16F-4C09-4EB9-93FA-72979F43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CB0C3-3F64-4B5E-8FB8-6BB50CA9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FFF37-C68D-47A3-A069-4661931D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070D9-F76F-4172-8276-FB87628F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65CEC-0A8F-4737-B604-ABEAA5D2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49D-5AAF-48C6-924B-B51C299A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61664-0265-46A8-A6F3-AB5253B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C5B85-73F6-4449-8BC4-3FAC5022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534FB-1719-4092-9E5E-07BA9FD6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3FC73-83BF-42E6-B4C9-15112CFE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DCDA8-078A-44ED-8AB7-DC3E0DC6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B39C4-CC88-427A-9658-3EC74FF2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330EB-48F0-4982-B8AA-2108D58A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47C56-3BEB-4F87-B056-A79107CD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B87B0-976A-4527-8194-9A42E0F9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0BD59-6783-4437-9870-CC4EC51C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11F-FCFD-4B5C-AD20-609B4A6A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4FFDA-09D7-42B2-A2DE-991B143E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4BD65-5C78-4F43-ACBF-FA2C56D1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4BC5D-DD6C-4602-831E-4C27DCD1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1D0FC-7058-4FCF-BABF-B6FDE9E4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083E4-C7DE-465F-BCF2-185FEE17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1DEAB-E3C7-426A-903F-6F1B362A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78F0E-C520-4046-B290-2F061CF5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A186-4162-4CBE-8034-7240CB6E618C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48AC-5137-4620-8875-57ED0742083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6F6B-8CAA-45C7-8CD6-0DA0F20EE28E}" type="datetime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3748-E1A8-4EDA-8D40-965B1D6DD75B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FF3F-7DC0-48E0-A2EA-6A84B327D783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C4FD-EA01-478F-BF19-066D2591B5E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7669-C92B-416F-B754-8B8A7C4CD5F4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6B4A-4834-4C22-9106-25A5F3AABA0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E58D-D53B-49DF-878D-4192402DF491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46C7-BB0C-4BE4-95C1-DDAB7B095A9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E4F1-5E42-4FFB-9141-DD728CA81041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B197-79AC-432B-8CA7-679B07F96BD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4912-6C43-480B-9A14-9B8C43C0137C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40FC-8B23-4519-9954-0EBC14BF360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410A-5A06-447B-8EC5-4628F6A8E6A0}" type="datetime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9F53-811F-4026-BFC6-DBF669545CA1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8EA3-A0E6-4298-B966-9A78F558BBF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9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7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Samenvatte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2011-342E-4582-82F7-406BAE374006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82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menvatting: een verkorte versie van een teks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behandelt alleen de hoofdz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EB0C-31AC-4F29-835C-BCAA614B554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rnzin: de belangrijkste zin van een aline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ak de eerste of de laatste z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rnzinnen geven de hoofdzaken van de tekst a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EC87-44EA-4F93-84E9-ACD5DA52B90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orten samenvattin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hoofd)onderwerp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ofdgedach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lobale samenvatt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ekstvervangende samenvatt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8685-B1CC-4524-A2DE-BC5F81F134D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 de tekst over gaat in één of enkele woor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at vaak in de titel of in de le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55D7-2487-4452-959F-E8E87246183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oodschap die de schrijver met de tekst wil overbrengen, in één z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5512-4B39-4922-88ED-2CF47185734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oofdlijnen van de teks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meestal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titel van de tekst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kernzin van elke aline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zet alle kernzinnen achter elkaar en maakt daar in je eigen woorden een begrijpelijke tekst v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18DA-64EF-44A2-A142-2136796AA04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uitgebreide samenvatting die de originele tekst vervang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meestal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titel van de tekst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ndere informatie die bekend is (auteur en de bron)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een samenvatting van elke aline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402F-9D70-43BD-A600-CE07A3E17E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5-09-18T06:12:30Z</dcterms:modified>
  <cp:revision>118</cp:revision>
  <dc:subject/>
  <dc:title>Sociaal-culturele dimensie Thema 1: Cultuur en identiteit</dc:title>
</cp:coreProperties>
</file>