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D524-E50E-4D37-BD6D-FF2828CA6C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02D1-D8C3-4C17-A04B-28FC2601F5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492B-C8C3-4665-94B1-C64C373D69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A3C2-C2C3-4AC5-A68E-066491464F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111D-EA70-4A2D-AA28-1564928646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826A-B9D9-465E-BDFA-EBAC4E949F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DA96-C6FB-486B-857B-173B5C16AE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8CC-1BCC-4102-AC18-371F97F2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22F-1A40-4CD4-A0FC-6B6D4115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CEB-D737-4665-958A-8576F925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ECC-5361-4B4E-849C-2A648E1E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9946-DA1E-43B5-AEF1-BF90391F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EC61-990C-4D24-ACEE-7DD45A43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E8CB-963A-424F-95CB-E3350DDA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0962-C9A7-41F6-BA77-6EAC9838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98C9-F76A-44FA-AA19-EA6A9FA9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B047-BF3B-414D-AF76-2F8FB436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5A5C-75F7-4A7E-B71D-C935FC60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A7C-18DB-45FC-9833-BCF72379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2A6B-DA41-4126-9788-8AAEA9F8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7B1F-8314-4D60-BB09-2FF0C21A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AC33-E951-4E39-A066-D9E92595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5B38-9924-4A4C-B2FB-0231A177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324A-E620-4D34-8F8D-56165557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BD6AC-2F0A-48B0-83A6-A36BB23C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1C92C-E4E5-438F-9780-D498C703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C5535-15B3-42FB-A233-C8697F32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D24D3-4E29-4D74-84FE-E3045DA5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BD24D-BAE3-454E-8F3B-711ED8F1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B24-1AF4-41BB-87E8-FB399196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FA99-924C-434F-926E-CEF1CC00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F24CD-AFD1-4398-9050-B3AA3705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AF20-D34A-4BA7-B16A-B5BCFC0F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CF597-68F4-40D4-B6CA-1EE434B5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6BB9E-9936-4C2F-BA8E-9F3215C3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6C70-DB06-44CF-97D7-EF3D6EC1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943D1-6CCF-422D-8C9B-AAA23CA8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CE3B4-D66D-48D5-A8A0-44511DDF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EF240-30E9-46E7-A1E0-BE051115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AEBB4-15E8-4241-BBA6-34D72B16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BCB-B0DB-4F83-9422-C840D647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4591C-FE28-4F97-8EB5-36DC0427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22570-901B-493E-8D9E-4872F258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EEB14-05F6-48E5-9B78-70286BDD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D9DCE-00B8-4424-9C13-B82602EE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39D9C-1A58-4E74-970F-446ED9C3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EA961-AD5A-4FE6-BD84-B85F84FF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AD800-7A09-4105-A3DB-6838C157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A6BD0-34C6-4A43-8B18-28B32901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6DAF8-1A3C-400C-980C-31B6C22D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F6F42-8CEF-44F1-9EC8-54950A88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973-36B7-48A7-AE73-BBD77746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E36D1-CB55-48B4-8046-4F6CA2B6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DD27A-4439-4CE1-A6F1-37303DA7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DF4AD-394E-4DEF-97F0-E1BE3968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E4061-88BE-4B2B-8F38-4C4AE356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8EF94-28E1-46FD-B579-4C4ABB66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06D88-9E7C-41AF-9D6B-53300BAF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CCF58-22B0-4555-A90C-1B429187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677EB-183D-473C-8953-816A6409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A9EF1-397D-4497-A9A0-560717C5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1BDBC-AFDE-47C1-AD60-57C238CE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57C-70B4-464A-9120-9240919C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37044-C0AA-4455-8CC5-43C0A773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39722-8C7C-4090-8D83-E6BBE8AA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832DB-6E53-45AD-B813-B351D085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CBD59-BEF5-446D-B02A-ACCDE5A7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EFE09-D733-4122-8EB8-BAF2DD16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7BE63-49FC-4933-BA5F-E9533CAF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A4928-F33F-48FC-A4EA-ECD4BD7F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FD81F-4D0A-445D-89D4-1116C8C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9E862-EE31-47C7-9DEC-9434673C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4D21A-4AB9-4D9D-AE47-B63C3569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332-43C5-419A-9C06-D3C9F1D2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293FA-1424-44CF-80E7-57D496F8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8508D-47F4-4AE4-9A11-D8D76924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46BC8-1954-4538-A5BF-412F3B89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D35E1-CAD6-4FE0-B222-0A5B21E3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0A979-1914-44FA-B169-F5CFF2FA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02E4C-56B8-4328-A5AF-D277D362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FE1ED-078F-4E56-87F8-49F49C92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936BA-A2DF-4616-A6B3-DDB56167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86414-9871-4361-A5D2-530CDDC1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0C42E-3531-41A8-9F66-86A83277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981-5B25-489E-8461-CD14118A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FA099-D317-480E-8FD4-3941D1EC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972A7-A6C1-49AE-A115-5A40AEBE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A2C75-C0A7-42DE-A72C-5946EE2C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6846D-BAD4-4C2C-B505-C6E2A343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C89BD-9882-40D8-A73F-66DF895A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7E2C1-6543-4569-B438-2DD0F727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AAD1B-5701-4A43-AABE-B7FC60C1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3AD57-2CD0-42FB-B186-125DD9AF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D7D32-37CA-47B2-A3CD-6F9A2E26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E9248-016F-4F50-BD45-DDB534C3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0C6-6D3E-4DC6-831F-D1127D05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B5A2C-6FC6-4C82-93A3-2BD7DC14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3A5D4-42FF-4184-B581-DAB6BD34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9E466-C9A8-44F5-86EC-EF185B9B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DFD96-D959-4B64-B8A3-8621A9BB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2F0DC-3AC4-49C4-A66A-3EEF93BC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7B2AA-0F0F-4284-AC6D-E2119786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01D37-44A4-453F-9886-EED7CA78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0CEB-BD47-42E1-B65A-6E26408C8A2D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A771-B6CD-4E66-A15F-57A17B3C4FC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B3CC-5ADE-4EC5-96A6-259FF29150D6}" type="datetime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25E5-8168-46B2-886C-C41C8764BD65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A41A-FBC2-43EB-94A7-E754212D88E7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5C53-86FE-46FA-917E-9AE6EE320CA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CDF4-8D09-4841-AFE8-C48A7042D9C2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988E-D515-42F7-9AFA-5B034E7D6E8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718A-F4F1-4078-B5F9-657AE34BAD47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FBA0-35AC-4835-A339-B887F7D4791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59DE-9820-4360-9FBA-2BF7F7EB0CC2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1A4E-9388-40EF-AFB9-FBFFDCC57C8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B16F-12F2-4EC4-BB24-C1679E44742C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B13F-7BB5-4523-B9A4-AEED6C48A38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50AB-9400-469C-AB95-D865A2037849}" type="datetime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5482-DFC9-4E10-A70D-4057A423D49D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B0F0-59F2-483E-A400-0CB15372695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9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7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Samenvatte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5E6C-43AB-4E6E-A56F-BEDD4E7F1586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82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menvatting: een verkorte versie van een teks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 behandelt alleen de hoofdza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5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A754-FEFF-4D6B-ACB5-7CDF1AD4D5E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rnzin: de belangrijkste zin van een aline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ak de eerste of de laatste z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rnzinnen geven de hoofdzaken van de tekst a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2A98-A826-4D85-9C48-D9C9FAE36A7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orten samenvattin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(hoofd)onderwerp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ofdgedach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lobale samenvatt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ekstvervangende samenvatt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C409-4356-4AAD-8DC0-503C1B4995D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 de tekst over gaat in één of enkele woor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at vaak in de titel of in de le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4C51-FC75-42E9-A81F-F538ED72445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oodschap die de schrijver met de tekst wil overbrengen, in één z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3F22-7D15-4C3D-A063-6264DCEBC3E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oofdlijnen van de teks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meestal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titel van de tekst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kernzin van elke aline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zet alle kernzinnen achter elkaar en maakt daar in je eigen woorden een begrijpelijke tekst v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0E1D-3E64-4F50-AF2F-2043FD29AD9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uitgebreide samenvatting die de originele tekst vervang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meestal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titel van de tekst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ndere informatie die bekend is (auteur en de bron)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een samenvatting van elke aline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8618-921C-4B82-9898-31755FD4746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5-09-18T06:12:30Z</dcterms:modified>
  <cp:revision>118</cp:revision>
  <dc:subject/>
  <dc:title>Sociaal-culturele dimensie Thema 1: Cultuur en identiteit</dc:title>
</cp:coreProperties>
</file>