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CF1-4381-475C-8E4F-E3CC660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27D-7B01-441F-BBB2-398595B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925-4727-493D-B479-58393987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60B-78E5-4905-AECC-812B25B5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5033-0705-43EF-BC45-4A8EDF7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0748-1A13-4687-BE9B-AB0EFFDC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05F-CA25-4851-92A8-42F0D6FD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9E5E-ED8C-4076-BB08-EB46A96C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CA3-ECE5-4F93-B99C-79CE6B70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F44-A787-48E6-AD5E-C319180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1EC-67A9-4430-BB2C-80F0778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7B7-AC51-4EC5-B2B3-2F9CB85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EF27-37F4-4FD9-96A1-5FC582F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936-3FC7-4C58-BD68-AD6ED8B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E28-3A21-4E7B-8213-B42DD05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87F-F8A6-4CE9-AA30-05B645C9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D86C-67E6-4067-9DEE-2F742AA6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983C-25E2-4924-9EC2-45ED012A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B6C3-E62F-440D-B38F-1853F70F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AF88-AAC8-4F10-B696-C0B5F65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02E5-AA2A-489D-8C56-60EB5371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7B6C-4036-43E4-A663-D6DC11A5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F88-66DF-45B8-BB08-A95E3BAA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4CB7-1A6C-4FCC-A258-9B025302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B4FD-35A6-4BA8-9B4F-DDBD04A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8565-3563-4EC0-8AA9-F26B8E3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899E-DEDD-419F-9A0E-0C2EEF3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5ECA-6612-40F7-87C3-89E2249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F52A-AB9F-46A9-B44C-E23AEDD0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41E3-C061-44E0-9617-436CF7D4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DCE5-C1E4-4BE1-858E-00E45D94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C550-97BA-4551-B338-2C92DE5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5FE8-6135-4190-8DB7-9EA0EA27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262-92C4-462B-9973-C3BDB43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CFE8-4DAC-498C-A552-3511AFF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7B7E-2A45-4C4D-89BA-ED2AE513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AA2C-468F-467D-A9EB-1D49B6B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E628-CADD-4563-8BF2-4EB7E39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A11D-5AD5-4DCC-9DC8-2600EBD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28BA-B735-4AFE-96E3-0C9A552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5FE5-9DDC-4C8F-B3B0-93283DC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9F79-7C25-426F-B69C-61DEBADB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9314-6E07-4979-BB9A-663459E7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65C2E-7E4C-4801-8D0D-F4892481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3CA-4A54-4A0B-B8DE-D705C00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476E-1AF4-4CE6-8019-A9B7BA18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114D-9235-49E7-992F-921AD0A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4228-7745-415E-B88C-173144F3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1741-77A7-4F35-9EED-827EAE5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B283-E531-4C23-9347-505D4B1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B295-E62F-4367-82F0-8394B47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4500-E780-4001-92E4-D7D0D0D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AFBB-7AD5-48E8-BCC9-1EFF53A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79155-6CA5-4DCB-BD8D-A4D7193D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6D7A-EE47-45D4-A66F-E0DCB61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3A5-1BBE-4AF8-AFBB-D3A729A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7AFF-526D-40E7-BAB6-895C52A7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22001-FE34-440D-9CCA-9991AB92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1CF27-4298-4670-8440-8A05C674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EBC5-E018-46DB-A826-9A90EA3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2085-28CC-4C35-9C2A-3F063979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DCBA9-B643-409A-99B1-8DDC88E9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8AB84-6F75-46E0-9757-0C4B37E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66CC-E671-4EEA-8840-FA2CBF1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C4B8-C507-41AA-B3D0-A7B6D08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24199-2B53-4AF0-963A-48E10AD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C45-351C-4461-9549-387DD83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47D6-81CA-4CB6-9E70-1B4AA92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546F-117D-4A4D-9251-581E5975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2032-9202-482E-8FA0-2A8B4B8A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C3D-D4D9-4388-8D9E-743F1E3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5B-C24A-4D88-AD1E-E959C4F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1C96-B5DD-4C41-A646-5ECDA5556E20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e4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E9D5-E014-48EC-81D6-A412EEC88BE4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28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6e6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2C15-EF21-48AF-BC45-0E7FA9AC9B75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FE6-C459-4747-A629-2ECB2B90D81C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291E-4B36-442A-80F9-322F5208872C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1EF-52A1-4BC1-955F-DD5BCFDFEBFC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TAPPENPLAN </a:t>
            </a:r>
            <a:br>
              <a:rPr sz="5400"/>
            </a:b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AMENVATTING MAKEN</a:t>
            </a: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4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het slot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BIJVOORBEELD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oplossing van een proble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oplo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5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ijk je aantekening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or wie moet je schrijve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Pas je tekst nu aan de lezer aan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chrijf in je eigen woorden in aparte alinea’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thema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uitwerking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conclusie of oploss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Maak goede volzinnen!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UCCE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1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tekst globaal bekijk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EL JEZELF VRAGE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ie is de schrijver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ar komt deze tekst vandaa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is de titel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is de tekst opgebouw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e alinea'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 wat inleiding - kern - slot i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elangrijke woorden </a:t>
            </a:r>
            <a:r>
              <a:rPr b="0" i="1" lang="nl-NL" sz="1600" spc="-1" strike="noStrike">
                <a:solidFill>
                  <a:srgbClr val="000000"/>
                </a:solidFill>
                <a:latin typeface="Tw Cen MT"/>
              </a:rPr>
              <a:t>schuin-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of </a:t>
            </a:r>
            <a:r>
              <a:rPr b="1" lang="nl-NL" sz="1600" spc="-1" strike="noStrike">
                <a:solidFill>
                  <a:srgbClr val="000000"/>
                </a:solidFill>
                <a:latin typeface="Tw Cen MT"/>
              </a:rPr>
              <a:t>ve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gedrukt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 OF MARKEER: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ite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opj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kgedrukte 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2.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es de tekst goed en bekijk waar de tekst over ga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Zoek de betekenis van onbekende woorden o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hema staat meestal in de inlei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et thema van de tekst in een zin of in steek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3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de kern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HOE WORDT HET THEMA UITGEWERKT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ijk naar signaalwoorden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beeld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Tegenstelling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- en nadelen?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titel, elk kopje of alinea gaat over een ander onderdeel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het belangrijkst is in één zin per ali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5:58Z</dcterms:created>
  <dc:creator>ingeborg</dc:creator>
  <dc:description/>
  <dc:language>en-US</dc:language>
  <cp:lastModifiedBy>Veen, Joke van der</cp:lastModifiedBy>
  <dcterms:modified xsi:type="dcterms:W3CDTF">2015-09-28T07:56:54Z</dcterms:modified>
  <cp:revision>9</cp:revision>
  <dc:subject/>
  <dc:title>Stappenplan samenvatting maken</dc:title>
</cp:coreProperties>
</file>