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687-BEFE-47C3-ABAC-D27873EC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E7F-81D6-4FA2-88E2-2168DCF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755-05D1-4661-9021-4FBB6066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4CF-454F-4789-BEED-3BAB41D6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3EFD-4705-4290-99C4-5C0EB0CE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BE5-E879-477B-BD8A-019A5D8C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6CFC-9B4D-4368-B816-E0B85F21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D87-7941-4D7B-8117-323E693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8B98-5507-4447-9B98-167B74D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AEF-0075-4A91-9EFB-165052B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A15-AF25-44DF-BD37-00B184B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087-E198-4F50-81D8-3C6D6DFE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3F3-8CBC-4AEF-8F1B-E26CCE6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BD95-EB49-4E73-BDBB-ABBC789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1E9-A630-495F-9AE2-E2084432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9BD8-A0E6-4F30-B43C-A2547A0A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192-F761-4DA5-95B5-978B84EF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F58D-DD9E-4B2F-9F89-40834940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B966-8464-479B-A631-BF08BE9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4211-1230-4A96-AAB7-17CF0F8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E299-294F-4E97-888F-6484A06F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6838-1B32-419D-83E5-C5AC650D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851-8EF0-44F9-9786-57F9EDF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4189-14B9-4124-8A5C-5AFAF7BF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396E-C5CE-4B83-80B1-2A3EE05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A504-324B-433A-919B-F25BD40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2BD8-D127-411C-85EB-56D6559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3401-F269-4595-AFA0-E6B77A77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FB63-CA5E-431D-B938-3BC0B486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39B4-C3B1-4F29-A181-20B05D1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2C1EC-439A-42C5-B20E-BF508C6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C43E-5740-4020-8A55-330A350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EAD0-59E0-4665-B79A-4BBCFA6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36D-EFED-4455-B8AE-47E46EC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3D6C-466F-4E3E-AA3F-63F30D4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0E0F-83D7-4802-9CBA-FD6DCD8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A07C-6061-4E22-973A-54DC813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BAD4-1F1E-432A-A6C1-B24507B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FF90-A822-4ACE-9E20-ACDA5DC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2549-021C-4A1A-B8F4-CFCD4EEC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F00B-A83B-4A9E-B8CB-9D027417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C7C9-89CB-47CC-BCE7-4ECA52DE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E864-C1B3-4A58-AC38-61AB5E7D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569B-09C7-41FA-935B-21CE58AA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1E8-5CA4-4042-B8A8-05079E9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D1AB-F144-42DA-AC4B-13A3D269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A383-CC66-476B-ACFD-FA8DACF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54F0-502F-4188-B642-E140FB7A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CD8D-27FF-459B-A28E-1E49266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6E5C-7BB9-433A-8DA5-B364F47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110A-C337-42D2-A4E0-CA47E45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480C8-9148-4092-A9AA-EE7D232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BCC6-8260-4557-8F15-17F4E55F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162E-7787-4384-B8CE-F11F006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8244-5AF0-4A58-AA6D-6773122E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0E8-4EEE-4BC7-81FE-3270FF2B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F413-DB34-4924-88FD-A00951E1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4D4B-3C19-439D-813D-9A51B50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E438-5567-474C-97DD-0E3D0B3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44FF7-7C8E-46AE-B44E-1A77388C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9694-2BD3-4244-BE72-CFAC5EE4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393B-652E-4077-923F-ADACDDB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18E4-A90A-4CB4-A542-8965BD44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D604E-FF97-4713-B88E-4541B7E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E901B-78B7-49D9-9F67-7B3D710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7067-498F-4932-BC8A-7EE8F03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157-1604-4130-B0A0-3D391F4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3433-0BA2-4E8C-ABF6-6A3CA5E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62DD-D4AD-4D73-9C86-8072A5A1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F8AF-AE85-4600-B4C4-E045873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892-F2CB-491E-ACA4-6D4BDE3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036-60CA-4F9B-9E9B-E166F64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2C4-AF50-4C0F-9DBE-4F531C2126CE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e49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ADE-5D88-4B82-BF16-B712D5248C1A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28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6e6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0" y="0"/>
            <a:ext cx="9144000" cy="4572000"/>
          </a:xfrm>
          <a:custGeom>
            <a:avLst/>
            <a:gdLst/>
            <a:ahLst/>
            <a:rect l="l" t="t" r="r" b="b"/>
            <a:pathLst>
              <a:path w="9143987" h="4571997">
                <a:moveTo>
                  <a:pt x="1" y="4316132"/>
                </a:moveTo>
                <a:lnTo>
                  <a:pt x="255863" y="4571994"/>
                </a:lnTo>
                <a:lnTo>
                  <a:pt x="203619" y="4571994"/>
                </a:lnTo>
                <a:lnTo>
                  <a:pt x="1" y="4368376"/>
                </a:lnTo>
                <a:lnTo>
                  <a:pt x="1" y="4316132"/>
                </a:lnTo>
                <a:close/>
                <a:moveTo>
                  <a:pt x="9143985" y="4208793"/>
                </a:moveTo>
                <a:lnTo>
                  <a:pt x="9143985" y="4261037"/>
                </a:lnTo>
                <a:lnTo>
                  <a:pt x="8833027" y="4571996"/>
                </a:lnTo>
                <a:lnTo>
                  <a:pt x="8780783" y="4571996"/>
                </a:lnTo>
                <a:lnTo>
                  <a:pt x="9143985" y="4208793"/>
                </a:lnTo>
                <a:close/>
                <a:moveTo>
                  <a:pt x="8664832" y="4076819"/>
                </a:moveTo>
                <a:lnTo>
                  <a:pt x="8775657" y="4076819"/>
                </a:lnTo>
                <a:lnTo>
                  <a:pt x="8775657" y="4187644"/>
                </a:lnTo>
                <a:lnTo>
                  <a:pt x="8664832" y="4187644"/>
                </a:lnTo>
                <a:lnTo>
                  <a:pt x="8664832" y="4076819"/>
                </a:lnTo>
                <a:close/>
                <a:moveTo>
                  <a:pt x="7614024" y="4076819"/>
                </a:moveTo>
                <a:lnTo>
                  <a:pt x="7724849" y="4076819"/>
                </a:lnTo>
                <a:lnTo>
                  <a:pt x="7724849" y="4187644"/>
                </a:lnTo>
                <a:lnTo>
                  <a:pt x="7614024" y="4187644"/>
                </a:lnTo>
                <a:lnTo>
                  <a:pt x="7614024" y="4076819"/>
                </a:lnTo>
                <a:close/>
                <a:moveTo>
                  <a:pt x="6563216" y="4076819"/>
                </a:moveTo>
                <a:lnTo>
                  <a:pt x="6674041" y="4076819"/>
                </a:lnTo>
                <a:lnTo>
                  <a:pt x="6674041" y="4187644"/>
                </a:lnTo>
                <a:lnTo>
                  <a:pt x="6563216" y="4187644"/>
                </a:lnTo>
                <a:lnTo>
                  <a:pt x="6563216" y="4076819"/>
                </a:lnTo>
                <a:close/>
                <a:moveTo>
                  <a:pt x="5512408" y="4076819"/>
                </a:moveTo>
                <a:lnTo>
                  <a:pt x="5623233" y="4076819"/>
                </a:lnTo>
                <a:lnTo>
                  <a:pt x="5623233" y="4187644"/>
                </a:lnTo>
                <a:lnTo>
                  <a:pt x="5512408" y="4187644"/>
                </a:lnTo>
                <a:lnTo>
                  <a:pt x="5512408" y="4076819"/>
                </a:lnTo>
                <a:close/>
                <a:moveTo>
                  <a:pt x="4461600" y="4076819"/>
                </a:moveTo>
                <a:lnTo>
                  <a:pt x="4572425" y="4076819"/>
                </a:lnTo>
                <a:lnTo>
                  <a:pt x="4572425" y="4187644"/>
                </a:lnTo>
                <a:lnTo>
                  <a:pt x="4461600" y="4187644"/>
                </a:lnTo>
                <a:lnTo>
                  <a:pt x="4461600" y="4076819"/>
                </a:lnTo>
                <a:close/>
                <a:moveTo>
                  <a:pt x="3410793" y="4076819"/>
                </a:moveTo>
                <a:lnTo>
                  <a:pt x="3521618" y="4076819"/>
                </a:lnTo>
                <a:lnTo>
                  <a:pt x="3521618" y="4187644"/>
                </a:lnTo>
                <a:lnTo>
                  <a:pt x="3410793" y="4187644"/>
                </a:lnTo>
                <a:lnTo>
                  <a:pt x="3410793" y="4076819"/>
                </a:lnTo>
                <a:close/>
                <a:moveTo>
                  <a:pt x="2359985" y="4076819"/>
                </a:moveTo>
                <a:lnTo>
                  <a:pt x="2470810" y="4076819"/>
                </a:lnTo>
                <a:lnTo>
                  <a:pt x="2470810" y="4187644"/>
                </a:lnTo>
                <a:lnTo>
                  <a:pt x="2359985" y="4187644"/>
                </a:lnTo>
                <a:lnTo>
                  <a:pt x="2359985" y="4076819"/>
                </a:lnTo>
                <a:close/>
                <a:moveTo>
                  <a:pt x="1309177" y="4076819"/>
                </a:moveTo>
                <a:lnTo>
                  <a:pt x="1420002" y="4076819"/>
                </a:lnTo>
                <a:lnTo>
                  <a:pt x="1420002" y="4187644"/>
                </a:lnTo>
                <a:lnTo>
                  <a:pt x="1309177" y="4187644"/>
                </a:lnTo>
                <a:lnTo>
                  <a:pt x="1309177" y="4076819"/>
                </a:lnTo>
                <a:close/>
                <a:moveTo>
                  <a:pt x="258369" y="4076819"/>
                </a:moveTo>
                <a:lnTo>
                  <a:pt x="369194" y="4076819"/>
                </a:lnTo>
                <a:lnTo>
                  <a:pt x="369194" y="4187644"/>
                </a:lnTo>
                <a:lnTo>
                  <a:pt x="258369" y="4187644"/>
                </a:lnTo>
                <a:lnTo>
                  <a:pt x="258369" y="4076819"/>
                </a:lnTo>
                <a:close/>
                <a:moveTo>
                  <a:pt x="8139428" y="3551212"/>
                </a:moveTo>
                <a:lnTo>
                  <a:pt x="8250253" y="3551212"/>
                </a:lnTo>
                <a:lnTo>
                  <a:pt x="8250253" y="3662037"/>
                </a:lnTo>
                <a:lnTo>
                  <a:pt x="8139428" y="3662037"/>
                </a:lnTo>
                <a:lnTo>
                  <a:pt x="8139428" y="3551212"/>
                </a:lnTo>
                <a:close/>
                <a:moveTo>
                  <a:pt x="7088620" y="3551212"/>
                </a:moveTo>
                <a:lnTo>
                  <a:pt x="7199445" y="3551212"/>
                </a:lnTo>
                <a:lnTo>
                  <a:pt x="7199445" y="3662037"/>
                </a:lnTo>
                <a:lnTo>
                  <a:pt x="7088620" y="3662037"/>
                </a:lnTo>
                <a:lnTo>
                  <a:pt x="7088620" y="3551212"/>
                </a:lnTo>
                <a:close/>
                <a:moveTo>
                  <a:pt x="6037812" y="3551212"/>
                </a:moveTo>
                <a:lnTo>
                  <a:pt x="6148637" y="3551212"/>
                </a:lnTo>
                <a:lnTo>
                  <a:pt x="6148637" y="3662037"/>
                </a:lnTo>
                <a:lnTo>
                  <a:pt x="6037812" y="3662037"/>
                </a:lnTo>
                <a:lnTo>
                  <a:pt x="6037812" y="3551212"/>
                </a:lnTo>
                <a:close/>
                <a:moveTo>
                  <a:pt x="4987004" y="3551212"/>
                </a:moveTo>
                <a:lnTo>
                  <a:pt x="5097829" y="3551212"/>
                </a:lnTo>
                <a:lnTo>
                  <a:pt x="5097829" y="3662037"/>
                </a:lnTo>
                <a:lnTo>
                  <a:pt x="4987004" y="3662037"/>
                </a:lnTo>
                <a:lnTo>
                  <a:pt x="4987004" y="3551212"/>
                </a:lnTo>
                <a:close/>
                <a:moveTo>
                  <a:pt x="3936204" y="3551212"/>
                </a:moveTo>
                <a:lnTo>
                  <a:pt x="4047028" y="3551212"/>
                </a:lnTo>
                <a:lnTo>
                  <a:pt x="4047028" y="3662037"/>
                </a:lnTo>
                <a:lnTo>
                  <a:pt x="3936204" y="3662037"/>
                </a:lnTo>
                <a:lnTo>
                  <a:pt x="3936204" y="3551212"/>
                </a:lnTo>
                <a:close/>
                <a:moveTo>
                  <a:pt x="2885395" y="3551212"/>
                </a:moveTo>
                <a:lnTo>
                  <a:pt x="2996220" y="3551212"/>
                </a:lnTo>
                <a:lnTo>
                  <a:pt x="2996220" y="3662037"/>
                </a:lnTo>
                <a:lnTo>
                  <a:pt x="2885395" y="3662037"/>
                </a:lnTo>
                <a:lnTo>
                  <a:pt x="2885395" y="3551212"/>
                </a:lnTo>
                <a:close/>
                <a:moveTo>
                  <a:pt x="1834587" y="3551212"/>
                </a:moveTo>
                <a:lnTo>
                  <a:pt x="1945412" y="3551212"/>
                </a:lnTo>
                <a:lnTo>
                  <a:pt x="1945412" y="3662037"/>
                </a:lnTo>
                <a:lnTo>
                  <a:pt x="1834587" y="3662037"/>
                </a:lnTo>
                <a:lnTo>
                  <a:pt x="1834587" y="3551212"/>
                </a:lnTo>
                <a:close/>
                <a:moveTo>
                  <a:pt x="783778" y="3551212"/>
                </a:moveTo>
                <a:lnTo>
                  <a:pt x="894603" y="3551212"/>
                </a:lnTo>
                <a:lnTo>
                  <a:pt x="894603" y="3662037"/>
                </a:lnTo>
                <a:lnTo>
                  <a:pt x="783778" y="3662037"/>
                </a:lnTo>
                <a:lnTo>
                  <a:pt x="783778" y="3551212"/>
                </a:lnTo>
                <a:close/>
                <a:moveTo>
                  <a:pt x="2942310" y="3107962"/>
                </a:moveTo>
                <a:lnTo>
                  <a:pt x="2470818" y="3579456"/>
                </a:lnTo>
                <a:lnTo>
                  <a:pt x="2470818" y="3634904"/>
                </a:lnTo>
                <a:lnTo>
                  <a:pt x="2942310" y="4106399"/>
                </a:lnTo>
                <a:lnTo>
                  <a:pt x="3410800" y="3637911"/>
                </a:lnTo>
                <a:lnTo>
                  <a:pt x="3410800" y="3576450"/>
                </a:lnTo>
                <a:lnTo>
                  <a:pt x="2942310" y="3107962"/>
                </a:lnTo>
                <a:close/>
                <a:moveTo>
                  <a:pt x="8195700" y="3107962"/>
                </a:moveTo>
                <a:lnTo>
                  <a:pt x="7724849" y="3578813"/>
                </a:lnTo>
                <a:lnTo>
                  <a:pt x="7724849" y="3635545"/>
                </a:lnTo>
                <a:lnTo>
                  <a:pt x="8195702" y="4106398"/>
                </a:lnTo>
                <a:lnTo>
                  <a:pt x="8664832" y="3637268"/>
                </a:lnTo>
                <a:lnTo>
                  <a:pt x="8664832" y="3577094"/>
                </a:lnTo>
                <a:lnTo>
                  <a:pt x="8195700" y="3107962"/>
                </a:lnTo>
                <a:close/>
                <a:moveTo>
                  <a:pt x="5043655" y="3107962"/>
                </a:moveTo>
                <a:lnTo>
                  <a:pt x="4572425" y="3579192"/>
                </a:lnTo>
                <a:lnTo>
                  <a:pt x="4572425" y="3635169"/>
                </a:lnTo>
                <a:lnTo>
                  <a:pt x="5043654" y="4106399"/>
                </a:lnTo>
                <a:lnTo>
                  <a:pt x="5512408" y="3637645"/>
                </a:lnTo>
                <a:lnTo>
                  <a:pt x="5512408" y="3576714"/>
                </a:lnTo>
                <a:lnTo>
                  <a:pt x="5043655" y="3107962"/>
                </a:lnTo>
                <a:close/>
                <a:moveTo>
                  <a:pt x="840943" y="3107962"/>
                </a:moveTo>
                <a:lnTo>
                  <a:pt x="369199" y="3579705"/>
                </a:lnTo>
                <a:lnTo>
                  <a:pt x="369199" y="3634656"/>
                </a:lnTo>
                <a:lnTo>
                  <a:pt x="840943" y="4106401"/>
                </a:lnTo>
                <a:lnTo>
                  <a:pt x="1309186" y="3638165"/>
                </a:lnTo>
                <a:lnTo>
                  <a:pt x="1309186" y="3576196"/>
                </a:lnTo>
                <a:lnTo>
                  <a:pt x="840943" y="3107962"/>
                </a:lnTo>
                <a:close/>
                <a:moveTo>
                  <a:pt x="3992991" y="3107961"/>
                </a:moveTo>
                <a:lnTo>
                  <a:pt x="3521625" y="3579327"/>
                </a:lnTo>
                <a:lnTo>
                  <a:pt x="3521625" y="3635034"/>
                </a:lnTo>
                <a:lnTo>
                  <a:pt x="3992992" y="4106400"/>
                </a:lnTo>
                <a:lnTo>
                  <a:pt x="4461600" y="3637773"/>
                </a:lnTo>
                <a:lnTo>
                  <a:pt x="4461600" y="3576588"/>
                </a:lnTo>
                <a:lnTo>
                  <a:pt x="3992991" y="3107961"/>
                </a:lnTo>
                <a:close/>
                <a:moveTo>
                  <a:pt x="1891629" y="3107961"/>
                </a:moveTo>
                <a:lnTo>
                  <a:pt x="1420011" y="3579585"/>
                </a:lnTo>
                <a:lnTo>
                  <a:pt x="1420011" y="3634777"/>
                </a:lnTo>
                <a:lnTo>
                  <a:pt x="1891629" y="4106400"/>
                </a:lnTo>
                <a:lnTo>
                  <a:pt x="2359993" y="3638038"/>
                </a:lnTo>
                <a:lnTo>
                  <a:pt x="2359993" y="3576322"/>
                </a:lnTo>
                <a:lnTo>
                  <a:pt x="1891629" y="3107961"/>
                </a:lnTo>
                <a:close/>
                <a:moveTo>
                  <a:pt x="6094336" y="3107961"/>
                </a:moveTo>
                <a:lnTo>
                  <a:pt x="5623233" y="3579064"/>
                </a:lnTo>
                <a:lnTo>
                  <a:pt x="5623233" y="3635295"/>
                </a:lnTo>
                <a:lnTo>
                  <a:pt x="6094336" y="4106399"/>
                </a:lnTo>
                <a:lnTo>
                  <a:pt x="6563216" y="3637520"/>
                </a:lnTo>
                <a:lnTo>
                  <a:pt x="6563216" y="3576841"/>
                </a:lnTo>
                <a:lnTo>
                  <a:pt x="6094336" y="3107961"/>
                </a:lnTo>
                <a:close/>
                <a:moveTo>
                  <a:pt x="7145019" y="3107960"/>
                </a:moveTo>
                <a:lnTo>
                  <a:pt x="6674041" y="3578938"/>
                </a:lnTo>
                <a:lnTo>
                  <a:pt x="6674041" y="3635421"/>
                </a:lnTo>
                <a:lnTo>
                  <a:pt x="7145018" y="4106399"/>
                </a:lnTo>
                <a:lnTo>
                  <a:pt x="7614024" y="3637394"/>
                </a:lnTo>
                <a:lnTo>
                  <a:pt x="7614024" y="3576965"/>
                </a:lnTo>
                <a:lnTo>
                  <a:pt x="7145019" y="3107960"/>
                </a:lnTo>
                <a:close/>
                <a:moveTo>
                  <a:pt x="8664832" y="3027337"/>
                </a:moveTo>
                <a:lnTo>
                  <a:pt x="8775657" y="3027337"/>
                </a:lnTo>
                <a:lnTo>
                  <a:pt x="8775657" y="3138162"/>
                </a:lnTo>
                <a:lnTo>
                  <a:pt x="8664832" y="3138162"/>
                </a:lnTo>
                <a:lnTo>
                  <a:pt x="8664832" y="3027337"/>
                </a:lnTo>
                <a:close/>
                <a:moveTo>
                  <a:pt x="7614024" y="3027337"/>
                </a:moveTo>
                <a:lnTo>
                  <a:pt x="7724849" y="3027337"/>
                </a:lnTo>
                <a:lnTo>
                  <a:pt x="7724849" y="3138162"/>
                </a:lnTo>
                <a:lnTo>
                  <a:pt x="7614024" y="3138162"/>
                </a:lnTo>
                <a:lnTo>
                  <a:pt x="7614024" y="3027337"/>
                </a:lnTo>
                <a:close/>
                <a:moveTo>
                  <a:pt x="6563216" y="3027337"/>
                </a:moveTo>
                <a:lnTo>
                  <a:pt x="6674041" y="3027337"/>
                </a:lnTo>
                <a:lnTo>
                  <a:pt x="6674041" y="3138162"/>
                </a:lnTo>
                <a:lnTo>
                  <a:pt x="6563216" y="3138162"/>
                </a:lnTo>
                <a:lnTo>
                  <a:pt x="6563216" y="3027337"/>
                </a:lnTo>
                <a:close/>
                <a:moveTo>
                  <a:pt x="5512408" y="3027337"/>
                </a:moveTo>
                <a:lnTo>
                  <a:pt x="5623233" y="3027337"/>
                </a:lnTo>
                <a:lnTo>
                  <a:pt x="5623233" y="3138162"/>
                </a:lnTo>
                <a:lnTo>
                  <a:pt x="5512408" y="3138162"/>
                </a:lnTo>
                <a:lnTo>
                  <a:pt x="5512408" y="3027337"/>
                </a:lnTo>
                <a:close/>
                <a:moveTo>
                  <a:pt x="4461600" y="3027337"/>
                </a:moveTo>
                <a:lnTo>
                  <a:pt x="4572425" y="3027337"/>
                </a:lnTo>
                <a:lnTo>
                  <a:pt x="4572425" y="3138162"/>
                </a:lnTo>
                <a:lnTo>
                  <a:pt x="4461600" y="3138162"/>
                </a:lnTo>
                <a:lnTo>
                  <a:pt x="4461600" y="3027337"/>
                </a:lnTo>
                <a:close/>
                <a:moveTo>
                  <a:pt x="3410798" y="3027337"/>
                </a:moveTo>
                <a:lnTo>
                  <a:pt x="3521622" y="3027337"/>
                </a:lnTo>
                <a:lnTo>
                  <a:pt x="3521622" y="3138162"/>
                </a:lnTo>
                <a:lnTo>
                  <a:pt x="3410798" y="3138162"/>
                </a:lnTo>
                <a:lnTo>
                  <a:pt x="3410798" y="3027337"/>
                </a:lnTo>
                <a:close/>
                <a:moveTo>
                  <a:pt x="2359990" y="3027337"/>
                </a:moveTo>
                <a:lnTo>
                  <a:pt x="2470815" y="3027337"/>
                </a:lnTo>
                <a:lnTo>
                  <a:pt x="2470815" y="3138162"/>
                </a:lnTo>
                <a:lnTo>
                  <a:pt x="2359990" y="3138162"/>
                </a:lnTo>
                <a:lnTo>
                  <a:pt x="2359990" y="3027337"/>
                </a:lnTo>
                <a:close/>
                <a:moveTo>
                  <a:pt x="1309183" y="3027337"/>
                </a:moveTo>
                <a:lnTo>
                  <a:pt x="1420008" y="3027337"/>
                </a:lnTo>
                <a:lnTo>
                  <a:pt x="1420008" y="3138162"/>
                </a:lnTo>
                <a:lnTo>
                  <a:pt x="1309183" y="3138162"/>
                </a:lnTo>
                <a:lnTo>
                  <a:pt x="1309183" y="3027337"/>
                </a:lnTo>
                <a:close/>
                <a:moveTo>
                  <a:pt x="258373" y="3027337"/>
                </a:moveTo>
                <a:lnTo>
                  <a:pt x="369197" y="3027337"/>
                </a:lnTo>
                <a:lnTo>
                  <a:pt x="369197" y="3138162"/>
                </a:lnTo>
                <a:lnTo>
                  <a:pt x="258373" y="3138162"/>
                </a:lnTo>
                <a:lnTo>
                  <a:pt x="258373" y="3027337"/>
                </a:lnTo>
                <a:close/>
                <a:moveTo>
                  <a:pt x="7642081" y="2610898"/>
                </a:moveTo>
                <a:lnTo>
                  <a:pt x="7171142" y="3081837"/>
                </a:lnTo>
                <a:lnTo>
                  <a:pt x="7640516" y="3551212"/>
                </a:lnTo>
                <a:lnTo>
                  <a:pt x="7700206" y="3551212"/>
                </a:lnTo>
                <a:lnTo>
                  <a:pt x="8169578" y="3081840"/>
                </a:lnTo>
                <a:lnTo>
                  <a:pt x="7698636" y="2610898"/>
                </a:lnTo>
                <a:lnTo>
                  <a:pt x="7642081" y="2610898"/>
                </a:lnTo>
                <a:close/>
                <a:moveTo>
                  <a:pt x="6591400" y="2610898"/>
                </a:moveTo>
                <a:lnTo>
                  <a:pt x="6120458" y="3081839"/>
                </a:lnTo>
                <a:lnTo>
                  <a:pt x="6589831" y="3551212"/>
                </a:lnTo>
                <a:lnTo>
                  <a:pt x="6649523" y="3551212"/>
                </a:lnTo>
                <a:lnTo>
                  <a:pt x="7118897" y="3081838"/>
                </a:lnTo>
                <a:lnTo>
                  <a:pt x="6647958" y="2610898"/>
                </a:lnTo>
                <a:lnTo>
                  <a:pt x="6591400" y="2610898"/>
                </a:lnTo>
                <a:close/>
                <a:moveTo>
                  <a:pt x="5540719" y="2610898"/>
                </a:moveTo>
                <a:lnTo>
                  <a:pt x="5069777" y="3081840"/>
                </a:lnTo>
                <a:lnTo>
                  <a:pt x="5539149" y="3551212"/>
                </a:lnTo>
                <a:lnTo>
                  <a:pt x="5598841" y="3551212"/>
                </a:lnTo>
                <a:lnTo>
                  <a:pt x="6068214" y="3081839"/>
                </a:lnTo>
                <a:lnTo>
                  <a:pt x="5597273" y="2610898"/>
                </a:lnTo>
                <a:lnTo>
                  <a:pt x="5540719" y="2610898"/>
                </a:lnTo>
                <a:close/>
                <a:moveTo>
                  <a:pt x="4490037" y="2610898"/>
                </a:moveTo>
                <a:lnTo>
                  <a:pt x="4019113" y="3081839"/>
                </a:lnTo>
                <a:lnTo>
                  <a:pt x="4488468" y="3551212"/>
                </a:lnTo>
                <a:lnTo>
                  <a:pt x="4548161" y="3551212"/>
                </a:lnTo>
                <a:lnTo>
                  <a:pt x="5017533" y="3081840"/>
                </a:lnTo>
                <a:lnTo>
                  <a:pt x="4546591" y="2610898"/>
                </a:lnTo>
                <a:lnTo>
                  <a:pt x="4490037" y="2610898"/>
                </a:lnTo>
                <a:close/>
                <a:moveTo>
                  <a:pt x="3439375" y="2610898"/>
                </a:moveTo>
                <a:lnTo>
                  <a:pt x="2968432" y="3081840"/>
                </a:lnTo>
                <a:lnTo>
                  <a:pt x="3437804" y="3551212"/>
                </a:lnTo>
                <a:lnTo>
                  <a:pt x="3497496" y="3551212"/>
                </a:lnTo>
                <a:lnTo>
                  <a:pt x="3966869" y="3081840"/>
                </a:lnTo>
                <a:lnTo>
                  <a:pt x="3495925" y="2610898"/>
                </a:lnTo>
                <a:lnTo>
                  <a:pt x="3439375" y="2610898"/>
                </a:lnTo>
                <a:close/>
                <a:moveTo>
                  <a:pt x="2388694" y="2610898"/>
                </a:moveTo>
                <a:lnTo>
                  <a:pt x="1917751" y="3081839"/>
                </a:lnTo>
                <a:lnTo>
                  <a:pt x="2387125" y="3551212"/>
                </a:lnTo>
                <a:lnTo>
                  <a:pt x="2446818" y="3551212"/>
                </a:lnTo>
                <a:lnTo>
                  <a:pt x="2916188" y="3081841"/>
                </a:lnTo>
                <a:lnTo>
                  <a:pt x="2445246" y="2610898"/>
                </a:lnTo>
                <a:lnTo>
                  <a:pt x="2388694" y="2610898"/>
                </a:lnTo>
                <a:close/>
                <a:moveTo>
                  <a:pt x="1338016" y="2610898"/>
                </a:moveTo>
                <a:lnTo>
                  <a:pt x="867065" y="3081840"/>
                </a:lnTo>
                <a:lnTo>
                  <a:pt x="1336446" y="3551212"/>
                </a:lnTo>
                <a:lnTo>
                  <a:pt x="1396142" y="3551212"/>
                </a:lnTo>
                <a:lnTo>
                  <a:pt x="1865507" y="3081839"/>
                </a:lnTo>
                <a:lnTo>
                  <a:pt x="1394572" y="2610898"/>
                </a:lnTo>
                <a:lnTo>
                  <a:pt x="1338016" y="2610898"/>
                </a:lnTo>
                <a:close/>
                <a:moveTo>
                  <a:pt x="8139428" y="2500073"/>
                </a:moveTo>
                <a:lnTo>
                  <a:pt x="8250253" y="2500073"/>
                </a:lnTo>
                <a:lnTo>
                  <a:pt x="8250253" y="2610898"/>
                </a:lnTo>
                <a:lnTo>
                  <a:pt x="8139428" y="2610898"/>
                </a:lnTo>
                <a:lnTo>
                  <a:pt x="8139428" y="2500073"/>
                </a:lnTo>
                <a:close/>
                <a:moveTo>
                  <a:pt x="7088620" y="2500073"/>
                </a:moveTo>
                <a:lnTo>
                  <a:pt x="7199445" y="2500073"/>
                </a:lnTo>
                <a:lnTo>
                  <a:pt x="7199445" y="2610898"/>
                </a:lnTo>
                <a:lnTo>
                  <a:pt x="7088620" y="2610898"/>
                </a:lnTo>
                <a:lnTo>
                  <a:pt x="7088620" y="2500073"/>
                </a:lnTo>
                <a:close/>
                <a:moveTo>
                  <a:pt x="6037812" y="2500073"/>
                </a:moveTo>
                <a:lnTo>
                  <a:pt x="6148637" y="2500073"/>
                </a:lnTo>
                <a:lnTo>
                  <a:pt x="6148637" y="2610898"/>
                </a:lnTo>
                <a:lnTo>
                  <a:pt x="6037812" y="2610898"/>
                </a:lnTo>
                <a:lnTo>
                  <a:pt x="6037812" y="2500073"/>
                </a:lnTo>
                <a:close/>
                <a:moveTo>
                  <a:pt x="4987004" y="2500073"/>
                </a:moveTo>
                <a:lnTo>
                  <a:pt x="5097829" y="2500073"/>
                </a:lnTo>
                <a:lnTo>
                  <a:pt x="5097829" y="2610898"/>
                </a:lnTo>
                <a:lnTo>
                  <a:pt x="4987004" y="2610898"/>
                </a:lnTo>
                <a:lnTo>
                  <a:pt x="4987004" y="2500073"/>
                </a:lnTo>
                <a:close/>
                <a:moveTo>
                  <a:pt x="3936207" y="2500073"/>
                </a:moveTo>
                <a:lnTo>
                  <a:pt x="4047031" y="2500073"/>
                </a:lnTo>
                <a:lnTo>
                  <a:pt x="4047031" y="2610898"/>
                </a:lnTo>
                <a:lnTo>
                  <a:pt x="3936207" y="2610898"/>
                </a:lnTo>
                <a:lnTo>
                  <a:pt x="3936207" y="2500073"/>
                </a:lnTo>
                <a:close/>
                <a:moveTo>
                  <a:pt x="2885399" y="2500073"/>
                </a:moveTo>
                <a:lnTo>
                  <a:pt x="2996223" y="2500073"/>
                </a:lnTo>
                <a:lnTo>
                  <a:pt x="2996223" y="2610898"/>
                </a:lnTo>
                <a:lnTo>
                  <a:pt x="2885399" y="2610898"/>
                </a:lnTo>
                <a:lnTo>
                  <a:pt x="2885399" y="2500073"/>
                </a:lnTo>
                <a:close/>
                <a:moveTo>
                  <a:pt x="1834589" y="2500073"/>
                </a:moveTo>
                <a:lnTo>
                  <a:pt x="1945415" y="2500073"/>
                </a:lnTo>
                <a:lnTo>
                  <a:pt x="1945415" y="2610898"/>
                </a:lnTo>
                <a:lnTo>
                  <a:pt x="1834589" y="2610898"/>
                </a:lnTo>
                <a:lnTo>
                  <a:pt x="1834589" y="2500073"/>
                </a:lnTo>
                <a:close/>
                <a:moveTo>
                  <a:pt x="783780" y="2500073"/>
                </a:moveTo>
                <a:lnTo>
                  <a:pt x="894605" y="2500073"/>
                </a:lnTo>
                <a:lnTo>
                  <a:pt x="894605" y="2610898"/>
                </a:lnTo>
                <a:lnTo>
                  <a:pt x="783780" y="2610898"/>
                </a:lnTo>
                <a:lnTo>
                  <a:pt x="783780" y="2500073"/>
                </a:lnTo>
                <a:close/>
                <a:moveTo>
                  <a:pt x="1891628" y="2057290"/>
                </a:moveTo>
                <a:lnTo>
                  <a:pt x="1420016" y="2528900"/>
                </a:lnTo>
                <a:lnTo>
                  <a:pt x="1420016" y="2584097"/>
                </a:lnTo>
                <a:lnTo>
                  <a:pt x="1891629" y="3055718"/>
                </a:lnTo>
                <a:lnTo>
                  <a:pt x="2359995" y="2587353"/>
                </a:lnTo>
                <a:lnTo>
                  <a:pt x="2359995" y="2525647"/>
                </a:lnTo>
                <a:lnTo>
                  <a:pt x="1891628" y="2057290"/>
                </a:lnTo>
                <a:close/>
                <a:moveTo>
                  <a:pt x="2942310" y="2057290"/>
                </a:moveTo>
                <a:lnTo>
                  <a:pt x="2470820" y="2528772"/>
                </a:lnTo>
                <a:lnTo>
                  <a:pt x="2470820" y="2584228"/>
                </a:lnTo>
                <a:lnTo>
                  <a:pt x="2942310" y="3055719"/>
                </a:lnTo>
                <a:lnTo>
                  <a:pt x="3410803" y="2587227"/>
                </a:lnTo>
                <a:lnTo>
                  <a:pt x="3410803" y="2525772"/>
                </a:lnTo>
                <a:lnTo>
                  <a:pt x="2942310" y="2057290"/>
                </a:lnTo>
                <a:close/>
                <a:moveTo>
                  <a:pt x="3992992" y="2057289"/>
                </a:moveTo>
                <a:lnTo>
                  <a:pt x="3521627" y="2528644"/>
                </a:lnTo>
                <a:lnTo>
                  <a:pt x="3521627" y="2584355"/>
                </a:lnTo>
                <a:lnTo>
                  <a:pt x="3992992" y="3055718"/>
                </a:lnTo>
                <a:lnTo>
                  <a:pt x="4461600" y="2587092"/>
                </a:lnTo>
                <a:lnTo>
                  <a:pt x="4461600" y="2525906"/>
                </a:lnTo>
                <a:lnTo>
                  <a:pt x="3992992" y="2057289"/>
                </a:lnTo>
                <a:close/>
                <a:moveTo>
                  <a:pt x="7145018" y="2057289"/>
                </a:moveTo>
                <a:lnTo>
                  <a:pt x="6674041" y="2528257"/>
                </a:lnTo>
                <a:lnTo>
                  <a:pt x="6674041" y="2584737"/>
                </a:lnTo>
                <a:lnTo>
                  <a:pt x="7145020" y="3055716"/>
                </a:lnTo>
                <a:lnTo>
                  <a:pt x="7614024" y="2586712"/>
                </a:lnTo>
                <a:lnTo>
                  <a:pt x="7614024" y="2526286"/>
                </a:lnTo>
                <a:lnTo>
                  <a:pt x="7145018" y="2057289"/>
                </a:lnTo>
                <a:close/>
                <a:moveTo>
                  <a:pt x="5043655" y="2057288"/>
                </a:moveTo>
                <a:lnTo>
                  <a:pt x="4572425" y="2528510"/>
                </a:lnTo>
                <a:lnTo>
                  <a:pt x="4572425" y="2584487"/>
                </a:lnTo>
                <a:lnTo>
                  <a:pt x="5043655" y="3055718"/>
                </a:lnTo>
                <a:lnTo>
                  <a:pt x="5512408" y="2586964"/>
                </a:lnTo>
                <a:lnTo>
                  <a:pt x="5512408" y="2526033"/>
                </a:lnTo>
                <a:lnTo>
                  <a:pt x="5043655" y="2057288"/>
                </a:lnTo>
                <a:close/>
                <a:moveTo>
                  <a:pt x="840943" y="2057288"/>
                </a:moveTo>
                <a:lnTo>
                  <a:pt x="369202" y="2529021"/>
                </a:lnTo>
                <a:lnTo>
                  <a:pt x="369202" y="2583976"/>
                </a:lnTo>
                <a:lnTo>
                  <a:pt x="840943" y="3055718"/>
                </a:lnTo>
                <a:lnTo>
                  <a:pt x="1309190" y="2587479"/>
                </a:lnTo>
                <a:lnTo>
                  <a:pt x="1309190" y="2525518"/>
                </a:lnTo>
                <a:lnTo>
                  <a:pt x="840943" y="2057288"/>
                </a:lnTo>
                <a:close/>
                <a:moveTo>
                  <a:pt x="8195701" y="2057287"/>
                </a:moveTo>
                <a:lnTo>
                  <a:pt x="7724849" y="2528130"/>
                </a:lnTo>
                <a:lnTo>
                  <a:pt x="7724849" y="2584867"/>
                </a:lnTo>
                <a:lnTo>
                  <a:pt x="8195700" y="3055717"/>
                </a:lnTo>
                <a:lnTo>
                  <a:pt x="8664832" y="2586585"/>
                </a:lnTo>
                <a:lnTo>
                  <a:pt x="8664832" y="2526410"/>
                </a:lnTo>
                <a:lnTo>
                  <a:pt x="8195701" y="2057287"/>
                </a:lnTo>
                <a:close/>
                <a:moveTo>
                  <a:pt x="6094339" y="2057287"/>
                </a:moveTo>
                <a:lnTo>
                  <a:pt x="5623233" y="2528385"/>
                </a:lnTo>
                <a:lnTo>
                  <a:pt x="5623233" y="2584613"/>
                </a:lnTo>
                <a:lnTo>
                  <a:pt x="6094336" y="3055717"/>
                </a:lnTo>
                <a:lnTo>
                  <a:pt x="6563216" y="2586838"/>
                </a:lnTo>
                <a:lnTo>
                  <a:pt x="6563216" y="2526156"/>
                </a:lnTo>
                <a:lnTo>
                  <a:pt x="6094339" y="2057287"/>
                </a:lnTo>
                <a:close/>
                <a:moveTo>
                  <a:pt x="1309181" y="1973451"/>
                </a:moveTo>
                <a:lnTo>
                  <a:pt x="1420005" y="1973451"/>
                </a:lnTo>
                <a:lnTo>
                  <a:pt x="1420005" y="2084276"/>
                </a:lnTo>
                <a:lnTo>
                  <a:pt x="1309181" y="2084276"/>
                </a:lnTo>
                <a:lnTo>
                  <a:pt x="1309181" y="1973451"/>
                </a:lnTo>
                <a:close/>
                <a:moveTo>
                  <a:pt x="258371" y="1973451"/>
                </a:moveTo>
                <a:lnTo>
                  <a:pt x="369196" y="1973451"/>
                </a:lnTo>
                <a:lnTo>
                  <a:pt x="369196" y="2084276"/>
                </a:lnTo>
                <a:lnTo>
                  <a:pt x="258371" y="2084276"/>
                </a:lnTo>
                <a:lnTo>
                  <a:pt x="258371" y="1973451"/>
                </a:lnTo>
                <a:close/>
                <a:moveTo>
                  <a:pt x="3410796" y="1973451"/>
                </a:moveTo>
                <a:lnTo>
                  <a:pt x="3521621" y="1973451"/>
                </a:lnTo>
                <a:lnTo>
                  <a:pt x="3521621" y="2084276"/>
                </a:lnTo>
                <a:lnTo>
                  <a:pt x="3410796" y="2084276"/>
                </a:lnTo>
                <a:lnTo>
                  <a:pt x="3410796" y="1973451"/>
                </a:lnTo>
                <a:close/>
                <a:moveTo>
                  <a:pt x="2359988" y="1973451"/>
                </a:moveTo>
                <a:lnTo>
                  <a:pt x="2470813" y="1973451"/>
                </a:lnTo>
                <a:lnTo>
                  <a:pt x="2470813" y="2084276"/>
                </a:lnTo>
                <a:lnTo>
                  <a:pt x="2359988" y="2084276"/>
                </a:lnTo>
                <a:lnTo>
                  <a:pt x="2359988" y="1973451"/>
                </a:lnTo>
                <a:close/>
                <a:moveTo>
                  <a:pt x="4461600" y="1973451"/>
                </a:moveTo>
                <a:lnTo>
                  <a:pt x="4572425" y="1973451"/>
                </a:lnTo>
                <a:lnTo>
                  <a:pt x="4572425" y="2084276"/>
                </a:lnTo>
                <a:lnTo>
                  <a:pt x="4461600" y="2084276"/>
                </a:lnTo>
                <a:lnTo>
                  <a:pt x="4461600" y="1973451"/>
                </a:lnTo>
                <a:close/>
                <a:moveTo>
                  <a:pt x="6563216" y="1973451"/>
                </a:moveTo>
                <a:lnTo>
                  <a:pt x="6674041" y="1973451"/>
                </a:lnTo>
                <a:lnTo>
                  <a:pt x="6674041" y="2084276"/>
                </a:lnTo>
                <a:lnTo>
                  <a:pt x="6563216" y="2084276"/>
                </a:lnTo>
                <a:lnTo>
                  <a:pt x="6563216" y="1973451"/>
                </a:lnTo>
                <a:close/>
                <a:moveTo>
                  <a:pt x="5512408" y="1973451"/>
                </a:moveTo>
                <a:lnTo>
                  <a:pt x="5623233" y="1973451"/>
                </a:lnTo>
                <a:lnTo>
                  <a:pt x="5623233" y="2084276"/>
                </a:lnTo>
                <a:lnTo>
                  <a:pt x="5512408" y="2084276"/>
                </a:lnTo>
                <a:lnTo>
                  <a:pt x="5512408" y="1973451"/>
                </a:lnTo>
                <a:close/>
                <a:moveTo>
                  <a:pt x="8664832" y="1973450"/>
                </a:moveTo>
                <a:lnTo>
                  <a:pt x="8775657" y="1973450"/>
                </a:lnTo>
                <a:lnTo>
                  <a:pt x="8775657" y="2084275"/>
                </a:lnTo>
                <a:lnTo>
                  <a:pt x="8664832" y="2084275"/>
                </a:lnTo>
                <a:lnTo>
                  <a:pt x="8664832" y="1973450"/>
                </a:lnTo>
                <a:close/>
                <a:moveTo>
                  <a:pt x="7614024" y="1973450"/>
                </a:moveTo>
                <a:lnTo>
                  <a:pt x="7724849" y="1973450"/>
                </a:lnTo>
                <a:lnTo>
                  <a:pt x="7724849" y="2084275"/>
                </a:lnTo>
                <a:lnTo>
                  <a:pt x="7614024" y="2084275"/>
                </a:lnTo>
                <a:lnTo>
                  <a:pt x="7614024" y="1973450"/>
                </a:lnTo>
                <a:close/>
                <a:moveTo>
                  <a:pt x="1340281" y="1557960"/>
                </a:moveTo>
                <a:lnTo>
                  <a:pt x="867065" y="2031167"/>
                </a:lnTo>
                <a:lnTo>
                  <a:pt x="1335989" y="2500073"/>
                </a:lnTo>
                <a:lnTo>
                  <a:pt x="1396599" y="2500073"/>
                </a:lnTo>
                <a:lnTo>
                  <a:pt x="1865505" y="2031168"/>
                </a:lnTo>
                <a:lnTo>
                  <a:pt x="1392304" y="1557960"/>
                </a:lnTo>
                <a:lnTo>
                  <a:pt x="1340281" y="1557960"/>
                </a:lnTo>
                <a:close/>
                <a:moveTo>
                  <a:pt x="3441642" y="1557959"/>
                </a:moveTo>
                <a:lnTo>
                  <a:pt x="2968432" y="2031168"/>
                </a:lnTo>
                <a:lnTo>
                  <a:pt x="3437347" y="2500073"/>
                </a:lnTo>
                <a:lnTo>
                  <a:pt x="3497954" y="2500073"/>
                </a:lnTo>
                <a:lnTo>
                  <a:pt x="3966871" y="2031167"/>
                </a:lnTo>
                <a:lnTo>
                  <a:pt x="3493660" y="1557959"/>
                </a:lnTo>
                <a:lnTo>
                  <a:pt x="3441642" y="1557959"/>
                </a:lnTo>
                <a:close/>
                <a:moveTo>
                  <a:pt x="2390960" y="1557959"/>
                </a:moveTo>
                <a:lnTo>
                  <a:pt x="1917749" y="2031168"/>
                </a:lnTo>
                <a:lnTo>
                  <a:pt x="2386666" y="2500073"/>
                </a:lnTo>
                <a:lnTo>
                  <a:pt x="2447276" y="2500073"/>
                </a:lnTo>
                <a:lnTo>
                  <a:pt x="2916188" y="2031168"/>
                </a:lnTo>
                <a:lnTo>
                  <a:pt x="2442982" y="1557959"/>
                </a:lnTo>
                <a:lnTo>
                  <a:pt x="2390960" y="1557959"/>
                </a:lnTo>
                <a:close/>
                <a:moveTo>
                  <a:pt x="5542984" y="1557959"/>
                </a:moveTo>
                <a:lnTo>
                  <a:pt x="5069777" y="2031166"/>
                </a:lnTo>
                <a:lnTo>
                  <a:pt x="5538692" y="2500073"/>
                </a:lnTo>
                <a:lnTo>
                  <a:pt x="5599300" y="2500073"/>
                </a:lnTo>
                <a:lnTo>
                  <a:pt x="6068216" y="2031165"/>
                </a:lnTo>
                <a:lnTo>
                  <a:pt x="5595011" y="1557959"/>
                </a:lnTo>
                <a:lnTo>
                  <a:pt x="5542984" y="1557959"/>
                </a:lnTo>
                <a:close/>
                <a:moveTo>
                  <a:pt x="4492304" y="1557959"/>
                </a:moveTo>
                <a:lnTo>
                  <a:pt x="4019114" y="2031167"/>
                </a:lnTo>
                <a:lnTo>
                  <a:pt x="4488010" y="2500073"/>
                </a:lnTo>
                <a:lnTo>
                  <a:pt x="4548618" y="2500073"/>
                </a:lnTo>
                <a:lnTo>
                  <a:pt x="5017533" y="2031166"/>
                </a:lnTo>
                <a:lnTo>
                  <a:pt x="4544326" y="1557959"/>
                </a:lnTo>
                <a:lnTo>
                  <a:pt x="4492304" y="1557959"/>
                </a:lnTo>
                <a:close/>
                <a:moveTo>
                  <a:pt x="7644348" y="1557959"/>
                </a:moveTo>
                <a:lnTo>
                  <a:pt x="7171139" y="2031167"/>
                </a:lnTo>
                <a:lnTo>
                  <a:pt x="7640054" y="2500073"/>
                </a:lnTo>
                <a:lnTo>
                  <a:pt x="7700663" y="2500073"/>
                </a:lnTo>
                <a:lnTo>
                  <a:pt x="8169579" y="2031166"/>
                </a:lnTo>
                <a:lnTo>
                  <a:pt x="7696373" y="1557959"/>
                </a:lnTo>
                <a:lnTo>
                  <a:pt x="7644348" y="1557959"/>
                </a:lnTo>
                <a:close/>
                <a:moveTo>
                  <a:pt x="6593666" y="1557959"/>
                </a:moveTo>
                <a:lnTo>
                  <a:pt x="6120461" y="2031165"/>
                </a:lnTo>
                <a:lnTo>
                  <a:pt x="6589377" y="2500073"/>
                </a:lnTo>
                <a:lnTo>
                  <a:pt x="6649981" y="2500073"/>
                </a:lnTo>
                <a:lnTo>
                  <a:pt x="7118896" y="2031167"/>
                </a:lnTo>
                <a:lnTo>
                  <a:pt x="6645688" y="1557959"/>
                </a:lnTo>
                <a:lnTo>
                  <a:pt x="6593666" y="1557959"/>
                </a:lnTo>
                <a:close/>
                <a:moveTo>
                  <a:pt x="783783" y="1447135"/>
                </a:moveTo>
                <a:lnTo>
                  <a:pt x="894607" y="1447135"/>
                </a:lnTo>
                <a:lnTo>
                  <a:pt x="894607" y="1557960"/>
                </a:lnTo>
                <a:lnTo>
                  <a:pt x="783783" y="1557960"/>
                </a:lnTo>
                <a:lnTo>
                  <a:pt x="783783" y="1447135"/>
                </a:lnTo>
                <a:close/>
                <a:moveTo>
                  <a:pt x="3936210" y="1447134"/>
                </a:moveTo>
                <a:lnTo>
                  <a:pt x="4047034" y="1447134"/>
                </a:lnTo>
                <a:lnTo>
                  <a:pt x="4047034" y="1557959"/>
                </a:lnTo>
                <a:lnTo>
                  <a:pt x="3936210" y="1557959"/>
                </a:lnTo>
                <a:lnTo>
                  <a:pt x="3936210" y="1447134"/>
                </a:lnTo>
                <a:close/>
                <a:moveTo>
                  <a:pt x="2885402" y="1447134"/>
                </a:moveTo>
                <a:lnTo>
                  <a:pt x="2996226" y="1447134"/>
                </a:lnTo>
                <a:lnTo>
                  <a:pt x="2996226" y="1557959"/>
                </a:lnTo>
                <a:lnTo>
                  <a:pt x="2885402" y="1557959"/>
                </a:lnTo>
                <a:lnTo>
                  <a:pt x="2885402" y="1447134"/>
                </a:lnTo>
                <a:close/>
                <a:moveTo>
                  <a:pt x="1834592" y="1447134"/>
                </a:moveTo>
                <a:lnTo>
                  <a:pt x="1945417" y="1447134"/>
                </a:lnTo>
                <a:lnTo>
                  <a:pt x="1945417" y="1557959"/>
                </a:lnTo>
                <a:lnTo>
                  <a:pt x="1834592" y="1557959"/>
                </a:lnTo>
                <a:lnTo>
                  <a:pt x="1834592" y="1447134"/>
                </a:lnTo>
                <a:close/>
                <a:moveTo>
                  <a:pt x="6037812" y="1447134"/>
                </a:moveTo>
                <a:lnTo>
                  <a:pt x="6148637" y="1447134"/>
                </a:lnTo>
                <a:lnTo>
                  <a:pt x="6148637" y="1557959"/>
                </a:lnTo>
                <a:lnTo>
                  <a:pt x="6037812" y="1557959"/>
                </a:lnTo>
                <a:lnTo>
                  <a:pt x="6037812" y="1447134"/>
                </a:lnTo>
                <a:close/>
                <a:moveTo>
                  <a:pt x="4987004" y="1447134"/>
                </a:moveTo>
                <a:lnTo>
                  <a:pt x="5097829" y="1447134"/>
                </a:lnTo>
                <a:lnTo>
                  <a:pt x="5097829" y="1557959"/>
                </a:lnTo>
                <a:lnTo>
                  <a:pt x="4987004" y="1557959"/>
                </a:lnTo>
                <a:lnTo>
                  <a:pt x="4987004" y="1447134"/>
                </a:lnTo>
                <a:close/>
                <a:moveTo>
                  <a:pt x="8139428" y="1447134"/>
                </a:moveTo>
                <a:lnTo>
                  <a:pt x="8250253" y="1447134"/>
                </a:lnTo>
                <a:lnTo>
                  <a:pt x="8250253" y="1557959"/>
                </a:lnTo>
                <a:lnTo>
                  <a:pt x="8139428" y="1557959"/>
                </a:lnTo>
                <a:lnTo>
                  <a:pt x="8139428" y="1447134"/>
                </a:lnTo>
                <a:close/>
                <a:moveTo>
                  <a:pt x="7088620" y="1447134"/>
                </a:moveTo>
                <a:lnTo>
                  <a:pt x="7199445" y="1447134"/>
                </a:lnTo>
                <a:lnTo>
                  <a:pt x="7199445" y="1557959"/>
                </a:lnTo>
                <a:lnTo>
                  <a:pt x="7088620" y="1557959"/>
                </a:lnTo>
                <a:lnTo>
                  <a:pt x="7088620" y="1447134"/>
                </a:lnTo>
                <a:close/>
                <a:moveTo>
                  <a:pt x="2942311" y="1006606"/>
                </a:moveTo>
                <a:lnTo>
                  <a:pt x="2470823" y="1478096"/>
                </a:lnTo>
                <a:lnTo>
                  <a:pt x="2470823" y="1533557"/>
                </a:lnTo>
                <a:lnTo>
                  <a:pt x="2942310" y="2005046"/>
                </a:lnTo>
                <a:lnTo>
                  <a:pt x="3410807" y="1536551"/>
                </a:lnTo>
                <a:lnTo>
                  <a:pt x="3410807" y="1475102"/>
                </a:lnTo>
                <a:lnTo>
                  <a:pt x="2942311" y="1006606"/>
                </a:lnTo>
                <a:close/>
                <a:moveTo>
                  <a:pt x="1891628" y="1006606"/>
                </a:moveTo>
                <a:lnTo>
                  <a:pt x="1420020" y="1478222"/>
                </a:lnTo>
                <a:lnTo>
                  <a:pt x="1420020" y="1533430"/>
                </a:lnTo>
                <a:lnTo>
                  <a:pt x="1891628" y="2005046"/>
                </a:lnTo>
                <a:lnTo>
                  <a:pt x="2359999" y="1536677"/>
                </a:lnTo>
                <a:lnTo>
                  <a:pt x="2359999" y="1474976"/>
                </a:lnTo>
                <a:lnTo>
                  <a:pt x="1891628" y="1006606"/>
                </a:lnTo>
                <a:close/>
                <a:moveTo>
                  <a:pt x="840942" y="1006606"/>
                </a:moveTo>
                <a:lnTo>
                  <a:pt x="369204" y="1478346"/>
                </a:lnTo>
                <a:lnTo>
                  <a:pt x="369204" y="1533304"/>
                </a:lnTo>
                <a:lnTo>
                  <a:pt x="840943" y="2005045"/>
                </a:lnTo>
                <a:lnTo>
                  <a:pt x="1309193" y="1536802"/>
                </a:lnTo>
                <a:lnTo>
                  <a:pt x="1309193" y="1474850"/>
                </a:lnTo>
                <a:lnTo>
                  <a:pt x="840942" y="1006606"/>
                </a:lnTo>
                <a:close/>
                <a:moveTo>
                  <a:pt x="3992992" y="1006606"/>
                </a:moveTo>
                <a:lnTo>
                  <a:pt x="3521631" y="1477968"/>
                </a:lnTo>
                <a:lnTo>
                  <a:pt x="3521631" y="1533684"/>
                </a:lnTo>
                <a:lnTo>
                  <a:pt x="3992992" y="2005046"/>
                </a:lnTo>
                <a:lnTo>
                  <a:pt x="4461600" y="1536420"/>
                </a:lnTo>
                <a:lnTo>
                  <a:pt x="4461600" y="1475233"/>
                </a:lnTo>
                <a:lnTo>
                  <a:pt x="3992992" y="1006606"/>
                </a:lnTo>
                <a:close/>
                <a:moveTo>
                  <a:pt x="6094336" y="1006605"/>
                </a:moveTo>
                <a:lnTo>
                  <a:pt x="5623233" y="1477710"/>
                </a:lnTo>
                <a:lnTo>
                  <a:pt x="5623233" y="1533937"/>
                </a:lnTo>
                <a:lnTo>
                  <a:pt x="6094338" y="2005043"/>
                </a:lnTo>
                <a:lnTo>
                  <a:pt x="6563216" y="1536165"/>
                </a:lnTo>
                <a:lnTo>
                  <a:pt x="6563216" y="1475486"/>
                </a:lnTo>
                <a:lnTo>
                  <a:pt x="6094336" y="1006605"/>
                </a:lnTo>
                <a:close/>
                <a:moveTo>
                  <a:pt x="7145020" y="1006604"/>
                </a:moveTo>
                <a:lnTo>
                  <a:pt x="6674041" y="1477584"/>
                </a:lnTo>
                <a:lnTo>
                  <a:pt x="6674041" y="1534069"/>
                </a:lnTo>
                <a:lnTo>
                  <a:pt x="7145018" y="2005045"/>
                </a:lnTo>
                <a:lnTo>
                  <a:pt x="7614024" y="1536039"/>
                </a:lnTo>
                <a:lnTo>
                  <a:pt x="7614024" y="1475610"/>
                </a:lnTo>
                <a:lnTo>
                  <a:pt x="7145020" y="1006604"/>
                </a:lnTo>
                <a:close/>
                <a:moveTo>
                  <a:pt x="8195701" y="1006604"/>
                </a:moveTo>
                <a:lnTo>
                  <a:pt x="7724849" y="1477457"/>
                </a:lnTo>
                <a:lnTo>
                  <a:pt x="7724849" y="1534190"/>
                </a:lnTo>
                <a:lnTo>
                  <a:pt x="8195702" y="2005044"/>
                </a:lnTo>
                <a:lnTo>
                  <a:pt x="8664832" y="1535914"/>
                </a:lnTo>
                <a:lnTo>
                  <a:pt x="8664832" y="1475735"/>
                </a:lnTo>
                <a:lnTo>
                  <a:pt x="8195701" y="1006604"/>
                </a:lnTo>
                <a:close/>
                <a:moveTo>
                  <a:pt x="5043657" y="1006604"/>
                </a:moveTo>
                <a:lnTo>
                  <a:pt x="4572425" y="1477838"/>
                </a:lnTo>
                <a:lnTo>
                  <a:pt x="4572425" y="1533814"/>
                </a:lnTo>
                <a:lnTo>
                  <a:pt x="5043655" y="2005045"/>
                </a:lnTo>
                <a:lnTo>
                  <a:pt x="5512408" y="1536292"/>
                </a:lnTo>
                <a:lnTo>
                  <a:pt x="5512408" y="1475356"/>
                </a:lnTo>
                <a:lnTo>
                  <a:pt x="5043657" y="1006604"/>
                </a:lnTo>
                <a:close/>
                <a:moveTo>
                  <a:pt x="2359987" y="922636"/>
                </a:moveTo>
                <a:lnTo>
                  <a:pt x="2470812" y="922636"/>
                </a:lnTo>
                <a:lnTo>
                  <a:pt x="2470812" y="1033461"/>
                </a:lnTo>
                <a:lnTo>
                  <a:pt x="2359987" y="1033461"/>
                </a:lnTo>
                <a:lnTo>
                  <a:pt x="2359987" y="922636"/>
                </a:lnTo>
                <a:close/>
                <a:moveTo>
                  <a:pt x="1309178" y="922636"/>
                </a:moveTo>
                <a:lnTo>
                  <a:pt x="1420004" y="922636"/>
                </a:lnTo>
                <a:lnTo>
                  <a:pt x="1420004" y="1033461"/>
                </a:lnTo>
                <a:lnTo>
                  <a:pt x="1309178" y="1033461"/>
                </a:lnTo>
                <a:lnTo>
                  <a:pt x="1309178" y="922636"/>
                </a:lnTo>
                <a:close/>
                <a:moveTo>
                  <a:pt x="258370" y="922636"/>
                </a:moveTo>
                <a:lnTo>
                  <a:pt x="369195" y="922636"/>
                </a:lnTo>
                <a:lnTo>
                  <a:pt x="369195" y="1033461"/>
                </a:lnTo>
                <a:lnTo>
                  <a:pt x="258370" y="1033461"/>
                </a:lnTo>
                <a:lnTo>
                  <a:pt x="258370" y="922636"/>
                </a:lnTo>
                <a:close/>
                <a:moveTo>
                  <a:pt x="4461600" y="922636"/>
                </a:moveTo>
                <a:lnTo>
                  <a:pt x="4572425" y="922636"/>
                </a:lnTo>
                <a:lnTo>
                  <a:pt x="4572425" y="1033461"/>
                </a:lnTo>
                <a:lnTo>
                  <a:pt x="4461600" y="1033461"/>
                </a:lnTo>
                <a:lnTo>
                  <a:pt x="4461600" y="922636"/>
                </a:lnTo>
                <a:close/>
                <a:moveTo>
                  <a:pt x="3410794" y="922636"/>
                </a:moveTo>
                <a:lnTo>
                  <a:pt x="3521620" y="922636"/>
                </a:lnTo>
                <a:lnTo>
                  <a:pt x="3521620" y="1033461"/>
                </a:lnTo>
                <a:lnTo>
                  <a:pt x="3410794" y="1033461"/>
                </a:lnTo>
                <a:lnTo>
                  <a:pt x="3410794" y="922636"/>
                </a:lnTo>
                <a:close/>
                <a:moveTo>
                  <a:pt x="7614024" y="922636"/>
                </a:moveTo>
                <a:lnTo>
                  <a:pt x="7724849" y="922636"/>
                </a:lnTo>
                <a:lnTo>
                  <a:pt x="7724849" y="1033461"/>
                </a:lnTo>
                <a:lnTo>
                  <a:pt x="7614024" y="1033461"/>
                </a:lnTo>
                <a:lnTo>
                  <a:pt x="7614024" y="922636"/>
                </a:lnTo>
                <a:close/>
                <a:moveTo>
                  <a:pt x="6563216" y="922636"/>
                </a:moveTo>
                <a:lnTo>
                  <a:pt x="6674041" y="922636"/>
                </a:lnTo>
                <a:lnTo>
                  <a:pt x="6674041" y="1033461"/>
                </a:lnTo>
                <a:lnTo>
                  <a:pt x="6563216" y="1033461"/>
                </a:lnTo>
                <a:lnTo>
                  <a:pt x="6563216" y="922636"/>
                </a:lnTo>
                <a:close/>
                <a:moveTo>
                  <a:pt x="5512408" y="922636"/>
                </a:moveTo>
                <a:lnTo>
                  <a:pt x="5623233" y="922636"/>
                </a:lnTo>
                <a:lnTo>
                  <a:pt x="5623233" y="1033461"/>
                </a:lnTo>
                <a:lnTo>
                  <a:pt x="5512408" y="1033461"/>
                </a:lnTo>
                <a:lnTo>
                  <a:pt x="5512408" y="922636"/>
                </a:lnTo>
                <a:close/>
                <a:moveTo>
                  <a:pt x="8664832" y="922635"/>
                </a:moveTo>
                <a:lnTo>
                  <a:pt x="8775657" y="922635"/>
                </a:lnTo>
                <a:lnTo>
                  <a:pt x="8775657" y="1033460"/>
                </a:lnTo>
                <a:lnTo>
                  <a:pt x="8664832" y="1033460"/>
                </a:lnTo>
                <a:lnTo>
                  <a:pt x="8664832" y="922635"/>
                </a:lnTo>
                <a:close/>
                <a:moveTo>
                  <a:pt x="1337494" y="510063"/>
                </a:moveTo>
                <a:lnTo>
                  <a:pt x="867064" y="980485"/>
                </a:lnTo>
                <a:lnTo>
                  <a:pt x="1333721" y="1447135"/>
                </a:lnTo>
                <a:lnTo>
                  <a:pt x="1398862" y="1447135"/>
                </a:lnTo>
                <a:lnTo>
                  <a:pt x="1865505" y="980485"/>
                </a:lnTo>
                <a:lnTo>
                  <a:pt x="1395091" y="510063"/>
                </a:lnTo>
                <a:lnTo>
                  <a:pt x="1337494" y="510063"/>
                </a:lnTo>
                <a:close/>
                <a:moveTo>
                  <a:pt x="2388172" y="510063"/>
                </a:moveTo>
                <a:lnTo>
                  <a:pt x="1917749" y="980485"/>
                </a:lnTo>
                <a:lnTo>
                  <a:pt x="2384400" y="1447135"/>
                </a:lnTo>
                <a:lnTo>
                  <a:pt x="2449540" y="1447135"/>
                </a:lnTo>
                <a:lnTo>
                  <a:pt x="2916188" y="980485"/>
                </a:lnTo>
                <a:lnTo>
                  <a:pt x="2445768" y="510063"/>
                </a:lnTo>
                <a:lnTo>
                  <a:pt x="2388172" y="510063"/>
                </a:lnTo>
                <a:close/>
                <a:moveTo>
                  <a:pt x="3438854" y="510063"/>
                </a:moveTo>
                <a:lnTo>
                  <a:pt x="2968432" y="980485"/>
                </a:lnTo>
                <a:lnTo>
                  <a:pt x="3435082" y="1447134"/>
                </a:lnTo>
                <a:lnTo>
                  <a:pt x="3500221" y="1447134"/>
                </a:lnTo>
                <a:lnTo>
                  <a:pt x="3966871" y="980485"/>
                </a:lnTo>
                <a:lnTo>
                  <a:pt x="3496446" y="510063"/>
                </a:lnTo>
                <a:lnTo>
                  <a:pt x="3438854" y="510063"/>
                </a:lnTo>
                <a:close/>
                <a:moveTo>
                  <a:pt x="4489516" y="510063"/>
                </a:moveTo>
                <a:lnTo>
                  <a:pt x="4019114" y="980485"/>
                </a:lnTo>
                <a:lnTo>
                  <a:pt x="4485745" y="1447134"/>
                </a:lnTo>
                <a:lnTo>
                  <a:pt x="4550885" y="1447134"/>
                </a:lnTo>
                <a:lnTo>
                  <a:pt x="5017536" y="980482"/>
                </a:lnTo>
                <a:lnTo>
                  <a:pt x="4547117" y="510063"/>
                </a:lnTo>
                <a:lnTo>
                  <a:pt x="4489516" y="510063"/>
                </a:lnTo>
                <a:close/>
                <a:moveTo>
                  <a:pt x="5540197" y="510063"/>
                </a:moveTo>
                <a:lnTo>
                  <a:pt x="5069779" y="980483"/>
                </a:lnTo>
                <a:lnTo>
                  <a:pt x="5536430" y="1447134"/>
                </a:lnTo>
                <a:lnTo>
                  <a:pt x="5601565" y="1447134"/>
                </a:lnTo>
                <a:lnTo>
                  <a:pt x="6068214" y="980484"/>
                </a:lnTo>
                <a:lnTo>
                  <a:pt x="5597794" y="510063"/>
                </a:lnTo>
                <a:lnTo>
                  <a:pt x="5540197" y="510063"/>
                </a:lnTo>
                <a:close/>
                <a:moveTo>
                  <a:pt x="6590878" y="510062"/>
                </a:moveTo>
                <a:lnTo>
                  <a:pt x="6120457" y="980484"/>
                </a:lnTo>
                <a:lnTo>
                  <a:pt x="6587106" y="1447134"/>
                </a:lnTo>
                <a:lnTo>
                  <a:pt x="6652247" y="1447134"/>
                </a:lnTo>
                <a:lnTo>
                  <a:pt x="7118898" y="980483"/>
                </a:lnTo>
                <a:lnTo>
                  <a:pt x="6648479" y="510062"/>
                </a:lnTo>
                <a:lnTo>
                  <a:pt x="6590878" y="510062"/>
                </a:lnTo>
                <a:close/>
                <a:moveTo>
                  <a:pt x="7641560" y="510062"/>
                </a:moveTo>
                <a:lnTo>
                  <a:pt x="7171142" y="980482"/>
                </a:lnTo>
                <a:lnTo>
                  <a:pt x="7637793" y="1447134"/>
                </a:lnTo>
                <a:lnTo>
                  <a:pt x="7702929" y="1447134"/>
                </a:lnTo>
                <a:lnTo>
                  <a:pt x="8169579" y="980483"/>
                </a:lnTo>
                <a:lnTo>
                  <a:pt x="7699160" y="510062"/>
                </a:lnTo>
                <a:lnTo>
                  <a:pt x="7641560" y="510062"/>
                </a:lnTo>
                <a:close/>
                <a:moveTo>
                  <a:pt x="783785" y="399238"/>
                </a:moveTo>
                <a:lnTo>
                  <a:pt x="894609" y="399238"/>
                </a:lnTo>
                <a:lnTo>
                  <a:pt x="894609" y="510063"/>
                </a:lnTo>
                <a:lnTo>
                  <a:pt x="783785" y="510063"/>
                </a:lnTo>
                <a:lnTo>
                  <a:pt x="783785" y="399238"/>
                </a:lnTo>
                <a:close/>
                <a:moveTo>
                  <a:pt x="1834594" y="399238"/>
                </a:moveTo>
                <a:lnTo>
                  <a:pt x="1945420" y="399238"/>
                </a:lnTo>
                <a:lnTo>
                  <a:pt x="1945420" y="510063"/>
                </a:lnTo>
                <a:lnTo>
                  <a:pt x="1834594" y="510063"/>
                </a:lnTo>
                <a:lnTo>
                  <a:pt x="1834594" y="399238"/>
                </a:lnTo>
                <a:close/>
                <a:moveTo>
                  <a:pt x="3936212" y="399238"/>
                </a:moveTo>
                <a:lnTo>
                  <a:pt x="4047037" y="399238"/>
                </a:lnTo>
                <a:lnTo>
                  <a:pt x="4047037" y="510063"/>
                </a:lnTo>
                <a:lnTo>
                  <a:pt x="3936212" y="510063"/>
                </a:lnTo>
                <a:lnTo>
                  <a:pt x="3936212" y="399238"/>
                </a:lnTo>
                <a:close/>
                <a:moveTo>
                  <a:pt x="2885405" y="399238"/>
                </a:moveTo>
                <a:lnTo>
                  <a:pt x="2996229" y="399238"/>
                </a:lnTo>
                <a:lnTo>
                  <a:pt x="2996229" y="510063"/>
                </a:lnTo>
                <a:lnTo>
                  <a:pt x="2885405" y="510063"/>
                </a:lnTo>
                <a:lnTo>
                  <a:pt x="2885405" y="399238"/>
                </a:lnTo>
                <a:close/>
                <a:moveTo>
                  <a:pt x="4987004" y="399238"/>
                </a:moveTo>
                <a:lnTo>
                  <a:pt x="5097829" y="399238"/>
                </a:lnTo>
                <a:lnTo>
                  <a:pt x="5097829" y="510063"/>
                </a:lnTo>
                <a:lnTo>
                  <a:pt x="4987004" y="510063"/>
                </a:lnTo>
                <a:lnTo>
                  <a:pt x="4987004" y="399238"/>
                </a:lnTo>
                <a:close/>
                <a:moveTo>
                  <a:pt x="6037812" y="399238"/>
                </a:moveTo>
                <a:lnTo>
                  <a:pt x="6148637" y="399238"/>
                </a:lnTo>
                <a:lnTo>
                  <a:pt x="6148637" y="510062"/>
                </a:lnTo>
                <a:lnTo>
                  <a:pt x="6037812" y="510062"/>
                </a:lnTo>
                <a:lnTo>
                  <a:pt x="6037812" y="399238"/>
                </a:lnTo>
                <a:close/>
                <a:moveTo>
                  <a:pt x="7088620" y="399237"/>
                </a:moveTo>
                <a:lnTo>
                  <a:pt x="7199445" y="399237"/>
                </a:lnTo>
                <a:lnTo>
                  <a:pt x="7199445" y="510062"/>
                </a:lnTo>
                <a:lnTo>
                  <a:pt x="7088620" y="510062"/>
                </a:lnTo>
                <a:lnTo>
                  <a:pt x="7088620" y="399237"/>
                </a:lnTo>
                <a:close/>
                <a:moveTo>
                  <a:pt x="8139428" y="399237"/>
                </a:moveTo>
                <a:lnTo>
                  <a:pt x="8250253" y="399237"/>
                </a:lnTo>
                <a:lnTo>
                  <a:pt x="8250253" y="510062"/>
                </a:lnTo>
                <a:lnTo>
                  <a:pt x="8139428" y="510062"/>
                </a:lnTo>
                <a:lnTo>
                  <a:pt x="8139428" y="399237"/>
                </a:lnTo>
                <a:close/>
                <a:moveTo>
                  <a:pt x="6138416" y="0"/>
                </a:moveTo>
                <a:lnTo>
                  <a:pt x="6190660" y="0"/>
                </a:lnTo>
                <a:lnTo>
                  <a:pt x="6589898" y="399238"/>
                </a:lnTo>
                <a:lnTo>
                  <a:pt x="6649459" y="399238"/>
                </a:lnTo>
                <a:lnTo>
                  <a:pt x="7048695" y="2"/>
                </a:lnTo>
                <a:lnTo>
                  <a:pt x="7100939" y="2"/>
                </a:lnTo>
                <a:lnTo>
                  <a:pt x="6674041" y="426899"/>
                </a:lnTo>
                <a:lnTo>
                  <a:pt x="6674041" y="483380"/>
                </a:lnTo>
                <a:lnTo>
                  <a:pt x="7145020" y="954361"/>
                </a:lnTo>
                <a:lnTo>
                  <a:pt x="7614024" y="485355"/>
                </a:lnTo>
                <a:lnTo>
                  <a:pt x="7614024" y="424926"/>
                </a:lnTo>
                <a:lnTo>
                  <a:pt x="7189097" y="1"/>
                </a:lnTo>
                <a:lnTo>
                  <a:pt x="7241340" y="1"/>
                </a:lnTo>
                <a:lnTo>
                  <a:pt x="7640577" y="399237"/>
                </a:lnTo>
                <a:lnTo>
                  <a:pt x="7700142" y="399237"/>
                </a:lnTo>
                <a:lnTo>
                  <a:pt x="8099378" y="1"/>
                </a:lnTo>
                <a:lnTo>
                  <a:pt x="8151622" y="1"/>
                </a:lnTo>
                <a:lnTo>
                  <a:pt x="7724849" y="426774"/>
                </a:lnTo>
                <a:lnTo>
                  <a:pt x="7724849" y="483509"/>
                </a:lnTo>
                <a:lnTo>
                  <a:pt x="8195700" y="954363"/>
                </a:lnTo>
                <a:lnTo>
                  <a:pt x="8664832" y="485228"/>
                </a:lnTo>
                <a:lnTo>
                  <a:pt x="8664832" y="425054"/>
                </a:lnTo>
                <a:lnTo>
                  <a:pt x="8239778" y="1"/>
                </a:lnTo>
                <a:lnTo>
                  <a:pt x="8292022" y="1"/>
                </a:lnTo>
                <a:lnTo>
                  <a:pt x="8691259" y="399237"/>
                </a:lnTo>
                <a:lnTo>
                  <a:pt x="8750823" y="399237"/>
                </a:lnTo>
                <a:lnTo>
                  <a:pt x="9143986" y="6075"/>
                </a:lnTo>
                <a:lnTo>
                  <a:pt x="9143986" y="58319"/>
                </a:lnTo>
                <a:lnTo>
                  <a:pt x="8775657" y="426647"/>
                </a:lnTo>
                <a:lnTo>
                  <a:pt x="8775657" y="483635"/>
                </a:lnTo>
                <a:lnTo>
                  <a:pt x="9143986" y="851966"/>
                </a:lnTo>
                <a:lnTo>
                  <a:pt x="9143986" y="904210"/>
                </a:lnTo>
                <a:lnTo>
                  <a:pt x="8749840" y="510062"/>
                </a:lnTo>
                <a:lnTo>
                  <a:pt x="8692242" y="510062"/>
                </a:lnTo>
                <a:lnTo>
                  <a:pt x="8221822" y="980484"/>
                </a:lnTo>
                <a:lnTo>
                  <a:pt x="8688471" y="1447133"/>
                </a:lnTo>
                <a:lnTo>
                  <a:pt x="8753611" y="1447133"/>
                </a:lnTo>
                <a:lnTo>
                  <a:pt x="9143986" y="1056762"/>
                </a:lnTo>
                <a:lnTo>
                  <a:pt x="9143986" y="1109003"/>
                </a:lnTo>
                <a:lnTo>
                  <a:pt x="8775657" y="1477331"/>
                </a:lnTo>
                <a:lnTo>
                  <a:pt x="8775657" y="1534319"/>
                </a:lnTo>
                <a:lnTo>
                  <a:pt x="9143986" y="1902649"/>
                </a:lnTo>
                <a:lnTo>
                  <a:pt x="9143987" y="1954891"/>
                </a:lnTo>
                <a:lnTo>
                  <a:pt x="8747055" y="1557959"/>
                </a:lnTo>
                <a:lnTo>
                  <a:pt x="8695029" y="1557959"/>
                </a:lnTo>
                <a:lnTo>
                  <a:pt x="8221823" y="2031165"/>
                </a:lnTo>
                <a:lnTo>
                  <a:pt x="8690741" y="2500073"/>
                </a:lnTo>
                <a:lnTo>
                  <a:pt x="8751345" y="2500073"/>
                </a:lnTo>
                <a:lnTo>
                  <a:pt x="9143986" y="2107432"/>
                </a:lnTo>
                <a:lnTo>
                  <a:pt x="9143986" y="2159677"/>
                </a:lnTo>
                <a:lnTo>
                  <a:pt x="8775657" y="2528005"/>
                </a:lnTo>
                <a:lnTo>
                  <a:pt x="8775657" y="2584989"/>
                </a:lnTo>
                <a:lnTo>
                  <a:pt x="9143987" y="2953319"/>
                </a:lnTo>
                <a:lnTo>
                  <a:pt x="9143987" y="3005564"/>
                </a:lnTo>
                <a:lnTo>
                  <a:pt x="8749321" y="2610898"/>
                </a:lnTo>
                <a:lnTo>
                  <a:pt x="8692765" y="2610898"/>
                </a:lnTo>
                <a:lnTo>
                  <a:pt x="8221822" y="3081840"/>
                </a:lnTo>
                <a:lnTo>
                  <a:pt x="8691194" y="3551212"/>
                </a:lnTo>
                <a:lnTo>
                  <a:pt x="8750888" y="3551212"/>
                </a:lnTo>
                <a:lnTo>
                  <a:pt x="9143986" y="3158114"/>
                </a:lnTo>
                <a:lnTo>
                  <a:pt x="9143986" y="3210356"/>
                </a:lnTo>
                <a:lnTo>
                  <a:pt x="8775657" y="3578686"/>
                </a:lnTo>
                <a:lnTo>
                  <a:pt x="8775657" y="3635674"/>
                </a:lnTo>
                <a:lnTo>
                  <a:pt x="9143986" y="4004003"/>
                </a:lnTo>
                <a:lnTo>
                  <a:pt x="9143986" y="4056248"/>
                </a:lnTo>
                <a:lnTo>
                  <a:pt x="8749774" y="3662037"/>
                </a:lnTo>
                <a:lnTo>
                  <a:pt x="8692306" y="3662037"/>
                </a:lnTo>
                <a:lnTo>
                  <a:pt x="8221823" y="4132519"/>
                </a:lnTo>
                <a:lnTo>
                  <a:pt x="8661299" y="4571995"/>
                </a:lnTo>
                <a:lnTo>
                  <a:pt x="8609053" y="4571995"/>
                </a:lnTo>
                <a:lnTo>
                  <a:pt x="8195700" y="4158642"/>
                </a:lnTo>
                <a:lnTo>
                  <a:pt x="7782346" y="4571997"/>
                </a:lnTo>
                <a:lnTo>
                  <a:pt x="7730103" y="4571997"/>
                </a:lnTo>
                <a:lnTo>
                  <a:pt x="8169579" y="4132521"/>
                </a:lnTo>
                <a:lnTo>
                  <a:pt x="7699096" y="3662037"/>
                </a:lnTo>
                <a:lnTo>
                  <a:pt x="7641624" y="3662037"/>
                </a:lnTo>
                <a:lnTo>
                  <a:pt x="7171140" y="4132521"/>
                </a:lnTo>
                <a:lnTo>
                  <a:pt x="7610615" y="4571996"/>
                </a:lnTo>
                <a:lnTo>
                  <a:pt x="7558371" y="4571996"/>
                </a:lnTo>
                <a:lnTo>
                  <a:pt x="7145018" y="4158643"/>
                </a:lnTo>
                <a:lnTo>
                  <a:pt x="6731665" y="4571996"/>
                </a:lnTo>
                <a:lnTo>
                  <a:pt x="6679421" y="4571997"/>
                </a:lnTo>
                <a:lnTo>
                  <a:pt x="7118896" y="4132521"/>
                </a:lnTo>
                <a:lnTo>
                  <a:pt x="6648412" y="3662037"/>
                </a:lnTo>
                <a:lnTo>
                  <a:pt x="6590942" y="3662037"/>
                </a:lnTo>
                <a:lnTo>
                  <a:pt x="6120458" y="4132521"/>
                </a:lnTo>
                <a:lnTo>
                  <a:pt x="6559933" y="4571996"/>
                </a:lnTo>
                <a:lnTo>
                  <a:pt x="6507689" y="4571996"/>
                </a:lnTo>
                <a:lnTo>
                  <a:pt x="6094336" y="4158643"/>
                </a:lnTo>
                <a:lnTo>
                  <a:pt x="5680986" y="4571994"/>
                </a:lnTo>
                <a:lnTo>
                  <a:pt x="5628742" y="4571994"/>
                </a:lnTo>
                <a:lnTo>
                  <a:pt x="6068215" y="4132521"/>
                </a:lnTo>
                <a:lnTo>
                  <a:pt x="5597730" y="3662037"/>
                </a:lnTo>
                <a:lnTo>
                  <a:pt x="5540260" y="3662037"/>
                </a:lnTo>
                <a:lnTo>
                  <a:pt x="5069776" y="4132521"/>
                </a:lnTo>
                <a:lnTo>
                  <a:pt x="5509251" y="4571996"/>
                </a:lnTo>
                <a:lnTo>
                  <a:pt x="5457007" y="4571996"/>
                </a:lnTo>
                <a:lnTo>
                  <a:pt x="5043654" y="4158643"/>
                </a:lnTo>
                <a:lnTo>
                  <a:pt x="4630302" y="4571995"/>
                </a:lnTo>
                <a:lnTo>
                  <a:pt x="4578058" y="4571995"/>
                </a:lnTo>
                <a:lnTo>
                  <a:pt x="5017532" y="4132521"/>
                </a:lnTo>
                <a:lnTo>
                  <a:pt x="4547048" y="3662037"/>
                </a:lnTo>
                <a:lnTo>
                  <a:pt x="4489581" y="3662037"/>
                </a:lnTo>
                <a:lnTo>
                  <a:pt x="4019114" y="4132522"/>
                </a:lnTo>
                <a:lnTo>
                  <a:pt x="4458569" y="4571996"/>
                </a:lnTo>
                <a:lnTo>
                  <a:pt x="4406325" y="4571996"/>
                </a:lnTo>
                <a:lnTo>
                  <a:pt x="3992992" y="4158644"/>
                </a:lnTo>
                <a:lnTo>
                  <a:pt x="3579640" y="4571995"/>
                </a:lnTo>
                <a:lnTo>
                  <a:pt x="3527396" y="4571995"/>
                </a:lnTo>
                <a:lnTo>
                  <a:pt x="3966870" y="4132522"/>
                </a:lnTo>
                <a:lnTo>
                  <a:pt x="3496383" y="3662037"/>
                </a:lnTo>
                <a:lnTo>
                  <a:pt x="3438916" y="3662037"/>
                </a:lnTo>
                <a:lnTo>
                  <a:pt x="2968432" y="4132520"/>
                </a:lnTo>
                <a:lnTo>
                  <a:pt x="3407909" y="4571995"/>
                </a:lnTo>
                <a:lnTo>
                  <a:pt x="3355664" y="4571995"/>
                </a:lnTo>
                <a:lnTo>
                  <a:pt x="2942310" y="4158642"/>
                </a:lnTo>
                <a:lnTo>
                  <a:pt x="2528960" y="4571994"/>
                </a:lnTo>
                <a:lnTo>
                  <a:pt x="2476716" y="4571994"/>
                </a:lnTo>
                <a:lnTo>
                  <a:pt x="2916189" y="4132521"/>
                </a:lnTo>
                <a:lnTo>
                  <a:pt x="2445706" y="3662037"/>
                </a:lnTo>
                <a:lnTo>
                  <a:pt x="2388237" y="3662037"/>
                </a:lnTo>
                <a:lnTo>
                  <a:pt x="1917750" y="4132522"/>
                </a:lnTo>
                <a:lnTo>
                  <a:pt x="2357226" y="4571995"/>
                </a:lnTo>
                <a:lnTo>
                  <a:pt x="2304983" y="4571996"/>
                </a:lnTo>
                <a:lnTo>
                  <a:pt x="1891628" y="4158644"/>
                </a:lnTo>
                <a:lnTo>
                  <a:pt x="1478287" y="4571994"/>
                </a:lnTo>
                <a:lnTo>
                  <a:pt x="1426043" y="4571994"/>
                </a:lnTo>
                <a:lnTo>
                  <a:pt x="1865506" y="4132522"/>
                </a:lnTo>
                <a:lnTo>
                  <a:pt x="1395028" y="3662037"/>
                </a:lnTo>
                <a:lnTo>
                  <a:pt x="1337560" y="3662037"/>
                </a:lnTo>
                <a:lnTo>
                  <a:pt x="867065" y="4132523"/>
                </a:lnTo>
                <a:lnTo>
                  <a:pt x="1306545" y="4571995"/>
                </a:lnTo>
                <a:lnTo>
                  <a:pt x="1254301" y="4571995"/>
                </a:lnTo>
                <a:lnTo>
                  <a:pt x="840943" y="4158645"/>
                </a:lnTo>
                <a:lnTo>
                  <a:pt x="427592" y="4571996"/>
                </a:lnTo>
                <a:lnTo>
                  <a:pt x="375348" y="4571996"/>
                </a:lnTo>
                <a:lnTo>
                  <a:pt x="814821" y="4132522"/>
                </a:lnTo>
                <a:lnTo>
                  <a:pt x="344336" y="3662037"/>
                </a:lnTo>
                <a:lnTo>
                  <a:pt x="286868" y="3662037"/>
                </a:lnTo>
                <a:lnTo>
                  <a:pt x="2" y="3948903"/>
                </a:lnTo>
                <a:lnTo>
                  <a:pt x="2" y="3896659"/>
                </a:lnTo>
                <a:lnTo>
                  <a:pt x="258375" y="3638287"/>
                </a:lnTo>
                <a:lnTo>
                  <a:pt x="258375" y="3576075"/>
                </a:lnTo>
                <a:lnTo>
                  <a:pt x="1" y="3317701"/>
                </a:lnTo>
                <a:lnTo>
                  <a:pt x="1" y="3265457"/>
                </a:lnTo>
                <a:lnTo>
                  <a:pt x="285755" y="3551212"/>
                </a:lnTo>
                <a:lnTo>
                  <a:pt x="345449" y="3551212"/>
                </a:lnTo>
                <a:lnTo>
                  <a:pt x="814821" y="3081840"/>
                </a:lnTo>
                <a:lnTo>
                  <a:pt x="343879" y="2610898"/>
                </a:lnTo>
                <a:lnTo>
                  <a:pt x="287325" y="2610898"/>
                </a:lnTo>
                <a:lnTo>
                  <a:pt x="4" y="2898220"/>
                </a:lnTo>
                <a:lnTo>
                  <a:pt x="4" y="2845976"/>
                </a:lnTo>
                <a:lnTo>
                  <a:pt x="258377" y="2587602"/>
                </a:lnTo>
                <a:lnTo>
                  <a:pt x="258377" y="2525395"/>
                </a:lnTo>
                <a:lnTo>
                  <a:pt x="1" y="2267018"/>
                </a:lnTo>
                <a:lnTo>
                  <a:pt x="0" y="2214773"/>
                </a:lnTo>
                <a:lnTo>
                  <a:pt x="285299" y="2500073"/>
                </a:lnTo>
                <a:lnTo>
                  <a:pt x="345906" y="2500073"/>
                </a:lnTo>
                <a:lnTo>
                  <a:pt x="814821" y="2031167"/>
                </a:lnTo>
                <a:lnTo>
                  <a:pt x="341615" y="1557960"/>
                </a:lnTo>
                <a:lnTo>
                  <a:pt x="289591" y="1557960"/>
                </a:lnTo>
                <a:lnTo>
                  <a:pt x="1" y="1847551"/>
                </a:lnTo>
                <a:lnTo>
                  <a:pt x="1" y="1795307"/>
                </a:lnTo>
                <a:lnTo>
                  <a:pt x="258379" y="1536928"/>
                </a:lnTo>
                <a:lnTo>
                  <a:pt x="258379" y="1474723"/>
                </a:lnTo>
                <a:lnTo>
                  <a:pt x="1" y="1216345"/>
                </a:lnTo>
                <a:lnTo>
                  <a:pt x="1" y="1164102"/>
                </a:lnTo>
                <a:lnTo>
                  <a:pt x="283034" y="1447135"/>
                </a:lnTo>
                <a:lnTo>
                  <a:pt x="348172" y="1447135"/>
                </a:lnTo>
                <a:lnTo>
                  <a:pt x="814820" y="980485"/>
                </a:lnTo>
                <a:lnTo>
                  <a:pt x="344400" y="510063"/>
                </a:lnTo>
                <a:lnTo>
                  <a:pt x="286802" y="510063"/>
                </a:lnTo>
                <a:lnTo>
                  <a:pt x="2" y="796868"/>
                </a:lnTo>
                <a:lnTo>
                  <a:pt x="2" y="744627"/>
                </a:lnTo>
                <a:lnTo>
                  <a:pt x="258382" y="486240"/>
                </a:lnTo>
                <a:lnTo>
                  <a:pt x="258382" y="424044"/>
                </a:lnTo>
                <a:lnTo>
                  <a:pt x="2" y="165665"/>
                </a:lnTo>
                <a:lnTo>
                  <a:pt x="2" y="113421"/>
                </a:lnTo>
                <a:lnTo>
                  <a:pt x="285819" y="399238"/>
                </a:lnTo>
                <a:lnTo>
                  <a:pt x="345383" y="399238"/>
                </a:lnTo>
                <a:lnTo>
                  <a:pt x="744619" y="2"/>
                </a:lnTo>
                <a:lnTo>
                  <a:pt x="796863" y="2"/>
                </a:lnTo>
                <a:lnTo>
                  <a:pt x="369206" y="427659"/>
                </a:lnTo>
                <a:lnTo>
                  <a:pt x="369206" y="482625"/>
                </a:lnTo>
                <a:lnTo>
                  <a:pt x="840942" y="954363"/>
                </a:lnTo>
                <a:lnTo>
                  <a:pt x="1309198" y="486115"/>
                </a:lnTo>
                <a:lnTo>
                  <a:pt x="1309198" y="424170"/>
                </a:lnTo>
                <a:lnTo>
                  <a:pt x="885018" y="1"/>
                </a:lnTo>
                <a:lnTo>
                  <a:pt x="937262" y="1"/>
                </a:lnTo>
                <a:lnTo>
                  <a:pt x="1336510" y="399238"/>
                </a:lnTo>
                <a:lnTo>
                  <a:pt x="1396075" y="399238"/>
                </a:lnTo>
                <a:lnTo>
                  <a:pt x="1795305" y="3"/>
                </a:lnTo>
                <a:lnTo>
                  <a:pt x="1847547" y="3"/>
                </a:lnTo>
                <a:lnTo>
                  <a:pt x="1420024" y="427535"/>
                </a:lnTo>
                <a:lnTo>
                  <a:pt x="1420024" y="482750"/>
                </a:lnTo>
                <a:lnTo>
                  <a:pt x="1891628" y="954364"/>
                </a:lnTo>
                <a:lnTo>
                  <a:pt x="2360002" y="485990"/>
                </a:lnTo>
                <a:lnTo>
                  <a:pt x="2360002" y="424295"/>
                </a:lnTo>
                <a:lnTo>
                  <a:pt x="1935703" y="1"/>
                </a:lnTo>
                <a:lnTo>
                  <a:pt x="1987946" y="1"/>
                </a:lnTo>
                <a:lnTo>
                  <a:pt x="2387188" y="399238"/>
                </a:lnTo>
                <a:lnTo>
                  <a:pt x="2446753" y="399238"/>
                </a:lnTo>
                <a:lnTo>
                  <a:pt x="2845989" y="2"/>
                </a:lnTo>
                <a:lnTo>
                  <a:pt x="2898233" y="2"/>
                </a:lnTo>
                <a:lnTo>
                  <a:pt x="2470826" y="427409"/>
                </a:lnTo>
                <a:lnTo>
                  <a:pt x="2470826" y="482876"/>
                </a:lnTo>
                <a:lnTo>
                  <a:pt x="2942310" y="954364"/>
                </a:lnTo>
                <a:lnTo>
                  <a:pt x="3410810" y="485864"/>
                </a:lnTo>
                <a:lnTo>
                  <a:pt x="3410810" y="424421"/>
                </a:lnTo>
                <a:lnTo>
                  <a:pt x="2986387" y="1"/>
                </a:lnTo>
                <a:lnTo>
                  <a:pt x="3038634" y="1"/>
                </a:lnTo>
                <a:lnTo>
                  <a:pt x="3437870" y="399238"/>
                </a:lnTo>
                <a:lnTo>
                  <a:pt x="3497432" y="399238"/>
                </a:lnTo>
                <a:lnTo>
                  <a:pt x="3896671" y="2"/>
                </a:lnTo>
                <a:lnTo>
                  <a:pt x="3948916" y="2"/>
                </a:lnTo>
                <a:lnTo>
                  <a:pt x="3521633" y="427284"/>
                </a:lnTo>
                <a:lnTo>
                  <a:pt x="3521633" y="483002"/>
                </a:lnTo>
                <a:lnTo>
                  <a:pt x="3992992" y="954363"/>
                </a:lnTo>
                <a:lnTo>
                  <a:pt x="4461600" y="485736"/>
                </a:lnTo>
                <a:lnTo>
                  <a:pt x="4461600" y="424545"/>
                </a:lnTo>
                <a:lnTo>
                  <a:pt x="4037073" y="1"/>
                </a:lnTo>
                <a:lnTo>
                  <a:pt x="4089316" y="1"/>
                </a:lnTo>
                <a:lnTo>
                  <a:pt x="4488536" y="399238"/>
                </a:lnTo>
                <a:lnTo>
                  <a:pt x="4548098" y="399238"/>
                </a:lnTo>
                <a:lnTo>
                  <a:pt x="4947332" y="4"/>
                </a:lnTo>
                <a:lnTo>
                  <a:pt x="4999576" y="4"/>
                </a:lnTo>
                <a:lnTo>
                  <a:pt x="4572425" y="427154"/>
                </a:lnTo>
                <a:lnTo>
                  <a:pt x="4572425" y="483127"/>
                </a:lnTo>
                <a:lnTo>
                  <a:pt x="5043657" y="954361"/>
                </a:lnTo>
                <a:lnTo>
                  <a:pt x="5512408" y="485609"/>
                </a:lnTo>
                <a:lnTo>
                  <a:pt x="5512408" y="424676"/>
                </a:lnTo>
                <a:lnTo>
                  <a:pt x="5087732" y="1"/>
                </a:lnTo>
                <a:lnTo>
                  <a:pt x="5139975" y="1"/>
                </a:lnTo>
                <a:lnTo>
                  <a:pt x="5539212" y="399238"/>
                </a:lnTo>
                <a:lnTo>
                  <a:pt x="5598779" y="399238"/>
                </a:lnTo>
                <a:lnTo>
                  <a:pt x="5998015" y="2"/>
                </a:lnTo>
                <a:lnTo>
                  <a:pt x="6050259" y="2"/>
                </a:lnTo>
                <a:lnTo>
                  <a:pt x="5623233" y="427027"/>
                </a:lnTo>
                <a:lnTo>
                  <a:pt x="5623233" y="483258"/>
                </a:lnTo>
                <a:lnTo>
                  <a:pt x="6094336" y="954363"/>
                </a:lnTo>
                <a:lnTo>
                  <a:pt x="6563216" y="485481"/>
                </a:lnTo>
                <a:lnTo>
                  <a:pt x="6563216" y="424799"/>
                </a:lnTo>
                <a:lnTo>
                  <a:pt x="61384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82BC-33A5-4E1B-8ABA-3738FBE2F3F3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86CE-4BBE-4C52-98FA-F28A71516F71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B67-5097-49C3-ADE7-EC67EDD7BFF9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B7C7-9835-44B7-96FB-C9353E88027A}" type="slidenum">
              <a:rPr b="0" lang="nl-NL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TAPPENPLAN </a:t>
            </a:r>
            <a:br>
              <a:rPr sz="5400"/>
            </a:br>
            <a:r>
              <a:rPr b="0" lang="nl-NL" sz="5400" spc="-1" strike="noStrike">
                <a:solidFill>
                  <a:srgbClr val="0d0d0d"/>
                </a:solidFill>
                <a:latin typeface="Tw Cen MT Condensed"/>
              </a:rPr>
              <a:t>SAMENVATTING MAKEN</a:t>
            </a: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 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4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het slot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BIJVOORBEELD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 oplossing van een proble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korte samenva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conclus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oplos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5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ijk je aantekening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or wie moet je schrijve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Pas je tekst nu aan de lezer aan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chrijf in je eigen woorden in aparte alinea’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thema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uitwerking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-  conclusie of oploss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Maak goede volzinnen!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UCCE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1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 tekst globaal bekijk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EL JEZELF VRAGE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ie is de schrijver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ar komt deze tekst vandaa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is de titel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is de tekst opgebouw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e alinea'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duidelijk wat inleiding - kern - slot is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elangrijke woorden </a:t>
            </a:r>
            <a:r>
              <a:rPr b="0" i="1" lang="nl-NL" sz="1600" spc="-1" strike="noStrike">
                <a:solidFill>
                  <a:srgbClr val="000000"/>
                </a:solidFill>
                <a:latin typeface="Tw Cen MT"/>
              </a:rPr>
              <a:t>schuin-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of </a:t>
            </a:r>
            <a:r>
              <a:rPr b="1" lang="nl-NL" sz="1600" spc="-1" strike="noStrike">
                <a:solidFill>
                  <a:srgbClr val="000000"/>
                </a:solidFill>
                <a:latin typeface="Tw Cen MT"/>
              </a:rPr>
              <a:t>ve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gedrukt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 OF MARKEER: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ite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opj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kgedrukte 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2.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es de tekst goed en bekijk waar de tekst over ga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Zoek de betekenis van onbekende woorden o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hema staat meestal in de inlei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et thema van de tekst in een zin of in steekwoo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TAP 3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staat in de kern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d0d0d"/>
                </a:solidFill>
                <a:latin typeface="Tw Cen MT Condensed"/>
              </a:rPr>
              <a:t>HOE WORDT HET THEMA UITGEWERKT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Kijk naar signaalwoorden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beeld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Tegenstellingen?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c669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oor- en nadelen?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titel, elk kopje of alinea gaat over een ander onderdeel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d0d0d"/>
                </a:solidFill>
                <a:latin typeface="Tw Cen MT Condensed"/>
              </a:rPr>
              <a:t>SCHRIJF OP: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 het belangrijkst is in één zin per alin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c66951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5:58Z</dcterms:created>
  <dc:creator>ingeborg</dc:creator>
  <dc:description/>
  <dc:language>en-US</dc:language>
  <cp:lastModifiedBy>Veen, Joke van der</cp:lastModifiedBy>
  <dcterms:modified xsi:type="dcterms:W3CDTF">2015-09-28T07:56:54Z</dcterms:modified>
  <cp:revision>9</cp:revision>
  <dc:subject/>
  <dc:title>Stappenplan samenvatting maken</dc:title>
</cp:coreProperties>
</file>