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0A88-C0E2-49FE-B463-09E90650B60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533C-88DD-4106-8212-F6F254891FD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0678-C378-4E6A-8459-1468E19B34CD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B257-08CE-4D8B-9FD5-660729413A5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EDA9-EAFC-4AFA-A5A4-6495AE83FD1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B3B2-824E-4DC5-A00E-CA8AAAE1270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BF19-3057-4A29-BF23-1361BC86FB5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0C90-CF51-4F86-9DC5-62F4AC0D6E6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EBA-CFD9-4A71-9D89-5A9DA4E8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C8F-F5E6-4455-893E-8EDA39C7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639-E433-44BF-B8E0-E092FA9E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5343-92E3-4F08-9F69-FA97F2C2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BC54-8F01-48F2-85C1-F2A4C1D7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19EE-3288-4444-A67D-A32A0F2A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6B49-CFC8-46B8-9860-B4CE7854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BCA5-5D8D-4632-8A58-AADB96DB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BA55-D7CA-4F38-A284-B0A7B580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900C-0384-4FC8-B7A1-E1D38270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3516-C553-49C0-BAFC-66718C14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A5B-BD37-4DBC-B004-1AFE8E3D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F951-AC3E-4F1D-A67E-28F5C6D9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11C3-A6DB-49BA-979C-C133E1B8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A946-9DF6-45AC-AE1E-1A59710F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40AC-0E14-4CC0-81A7-909F4E44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7108-E1C5-4860-9F99-ACCF9ACC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A6CA0-220B-43D6-8E49-29FFE5BE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36C3-4400-496F-853B-F9C399F7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4D701-7416-4A49-A3EC-406697BF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441CE-B36F-466A-B4CE-B5DC41E1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AF80A-2D28-4621-A303-AA1504AA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15D9-CA1C-42DC-9FC1-051ACE4B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7C692-6C71-43F3-A8C2-E656D026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18DB0-2D44-4016-9402-88AD4D52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F2F50-1FC6-418C-871B-494AC9B6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058AE-0697-4469-86D5-A9629EEF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5AE62-A867-4BC5-B804-B2D957E3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FDD65-F7DD-4812-84C4-9921F20A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2089-9810-4019-9DF0-2A30A3E5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17689-C713-44D1-82E1-238C009B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D3075-5F26-4D40-BA5A-738FF5B4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298E4-EFE1-4A0B-A172-F4196578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558-F9C8-4682-B704-A51A79CD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C6EFC-CDA4-4F63-8C31-F2F501BE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F2041-5CF3-4219-8037-3434969E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161F9-DD2F-455D-98EC-5355CBB0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6F59F-7873-461C-940A-09FB0D9E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313F1-43DD-4843-BFC9-4E274C78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DD0BC-2D7E-4594-BE91-7C7CCB76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51D32-EC6F-4516-B270-194926EA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AF0B2-E27B-4D89-8E96-97CDB470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B7484-7E87-47FD-97C5-4F119E6A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5BD5D-B871-4663-9332-5D8890D0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2D0-0D8A-4999-81D3-38D38D7B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EE296-E7C7-4B11-92DD-73023B35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C0159-AF08-4E62-B72D-5ECBD10D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86AB1-1E78-4609-863C-2F61A3FA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8FE8F-5378-4A83-9CFC-E1CB301E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E5096-56F5-40D4-B1F7-11E862F4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8335A-9884-4407-A44A-55E86C8D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709C3-BEA8-4FD9-8E4E-B9AE4753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B9067-D3C3-41F1-BF43-B34080AE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F98A2-433B-4C4B-AB46-85638254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20667-EDBE-432B-ABE0-47F41A4C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C923-3D23-401C-BB9C-34E3A0F5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40781-CC5E-4075-89CB-068A00D6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24D8B-BE5E-41C0-9ABE-AE4466E1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8AAEE-F440-4AB6-BFFC-68052DC8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EB8A3-15F5-43D2-AF2E-0146DE2C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07808-2358-4ED9-9B6B-F63A9DC7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80D64-A2BA-4AC4-997C-C81269A0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A38B8-CB00-4CEE-8C65-BB2CF2D0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864BA-9E78-4185-A161-6DD38C54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2456F-19BE-49B6-B9C7-2D5918DC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CB307-9565-47EB-8563-67AA2BDD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3AC3-4D4F-4168-8453-3D2DBF79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C9FE7-E5E0-4FEC-8BE3-0A3DC2C5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6BC19-5B50-46C7-B717-4E0A3550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5EB8F-4257-4956-875A-9130E227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1E2E0-AADC-4FA4-8EA6-B3E6F704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091D7-694D-4DDF-A500-7DE32988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816E8-A7D1-48A1-BBB0-36E71399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F493A-1AAE-4A81-809D-4AEBFA9F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32492-CF09-4048-BC00-D1BF39F6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EBE91-8F3E-4492-8A3A-026575D6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001E8-41B2-43CA-AB7D-1BF961E6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4F8-DCC4-4539-B012-F4ACDC76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475EF-A2E0-44F9-83D2-6A867B17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BB753-D9BB-49DD-984D-61E93D01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A0C98-8952-40B7-A9B8-9BC69BED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452EB-B730-42FE-AC0C-B1F59AB3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78CC8-8140-411D-8BC1-DA604F10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B320B-343A-4DDB-997B-C85DA142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B3742-705A-4DEE-97FF-35AE4BF9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E0485-038F-4FF5-B7A4-1F0DC43E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48F64-A1C9-4D37-A710-DE4B836D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BA2A3-72A0-4FE5-A448-8F9DD9C6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5E0-E4D4-4B6A-BFD0-504F881E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D81F6-DCB6-4548-BF07-EAA54453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49E93-88ED-4274-8F37-9AA9914D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0C8A8-8857-4E3C-BD5C-F12559CE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9603E-0464-4FC2-BED5-6EAB8A92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11F14-FC96-4B74-B8C2-0686E2C3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AED68-C67C-4BBB-8A09-86CE9197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A4CAF-A2E2-430A-9E50-36A94B1D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BD1D-AF6C-4E73-812A-E3E5509A4C0B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4547-FB49-4CC5-AE2E-908F7BD73FBF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CF00-D8A8-4381-941F-78DD49200ECD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A808-E864-4289-8D88-13C10AE92B3B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A6B7-AC1D-4105-850B-0A577B5FA16D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8974-B24B-4A60-B1F1-A1ECD5703014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9373-0D7D-4033-B4AE-E17104FCBA49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D114-2CA8-4808-8A31-3B524098047A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917A-A7E2-4B7A-9B69-E58F4DC8179A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72AA-FA5E-4106-AFD2-CC6217EAF060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540F-5633-4380-93F7-BC6CCDF09507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4A15-6F41-4AAB-A318-9C1FCAF954E3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8D66-E732-4ADD-8086-B80FE56C9EAC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8420-9A44-4A12-8E0F-BCB151012069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30E7-8BCC-450E-92A8-C99512E02F59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D29C-E992-4902-8E6A-B13122700362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FDC5-DC0B-4531-AD26-8EDEE3C105AA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4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7772400" cy="1805040"/>
          </a:xfrm>
          <a:prstGeom prst="rect">
            <a:avLst/>
          </a:prstGeom>
          <a:ln w="0">
            <a:noFill/>
          </a:ln>
        </p:spPr>
      </p:pic>
      <p:sp>
        <p:nvSpPr>
          <p:cNvPr id="379" name="Ondertitel 2"/>
          <p:cNvSpPr/>
          <p:nvPr/>
        </p:nvSpPr>
        <p:spPr>
          <a:xfrm>
            <a:off x="684360" y="321300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Hoofdstuk 8</a:t>
            </a:r>
            <a:br>
              <a:rPr sz="4100"/>
            </a:br>
            <a:r>
              <a:rPr b="1" lang="nl-NL" sz="4100" spc="-1" strike="noStrike">
                <a:solidFill>
                  <a:srgbClr val="464646"/>
                </a:solidFill>
                <a:latin typeface="Lucida Sans Unicode"/>
              </a:rPr>
              <a:t>Brieven en e-mail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A023-BC02-473F-9DD1-665598DDDDDA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Picture 2" descr="C:\Users\Jorrit\Pictures\Deviant\deviant_logo.png"/>
          <p:cNvPicPr/>
          <p:nvPr/>
        </p:nvPicPr>
        <p:blipFill>
          <a:blip r:embed="rId2"/>
          <a:stretch/>
        </p:blipFill>
        <p:spPr>
          <a:xfrm>
            <a:off x="7236000" y="404640"/>
            <a:ext cx="1428480" cy="514440"/>
          </a:xfrm>
          <a:prstGeom prst="rect">
            <a:avLst/>
          </a:prstGeom>
          <a:ln w="0">
            <a:noFill/>
          </a:ln>
        </p:spPr>
      </p:pic>
      <p:pic>
        <p:nvPicPr>
          <p:cNvPr id="382" name="Afbeelding 2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5184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stscriptum (PS): naschrif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s je een laatste opmerking wilt benadruk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S Zie mijn website voor meer informati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E16F-A1DA-4B3D-8D0A-B1CDA02F21DD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ij meer dan één bijlage: numm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lagen: 1 spellingsrege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2 gemaakte fou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A43A-A90C-459A-A2CA-ABD145EBB53A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Picture 9" descr=""/>
          <p:cNvPicPr/>
          <p:nvPr/>
        </p:nvPicPr>
        <p:blipFill>
          <a:blip r:embed="rId2"/>
          <a:stretch/>
        </p:blipFill>
        <p:spPr>
          <a:xfrm>
            <a:off x="1328760" y="1700280"/>
            <a:ext cx="64864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akelijke to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oud de toon beleefd en rusti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eldere en ondubbelzinnige inhou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bruik zo min mogelijk woord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handel alleen hoofdzak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voudig taalgebrui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mijd moeilijke woorden en lange zinn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lez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oud rekening met voorkennis lez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5E39-F1AC-4A78-95AB-AA55A888F806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dresser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ul de e-mailadressen van geadresseerden in bij ‘aan’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tuur iemand een kopie via ‘cc’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tuur iemand onzichtbaar een kopie via ‘bcc’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zend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rg voor een serieus e-mailadre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hef, inhoud en onderteken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ijn hetzelfde als bij een zakelijke brief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ijl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bestanden een duidelijke naam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E289-00E3-47AC-84A1-CADECC351868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0B1D-3635-4E99-8AF6-FBA36157394B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85" name="Groep 1"/>
          <p:cNvGrpSpPr/>
          <p:nvPr/>
        </p:nvGrpSpPr>
        <p:grpSpPr>
          <a:xfrm>
            <a:off x="2411280" y="1341360"/>
            <a:ext cx="4327560" cy="4900320"/>
            <a:chOff x="2411280" y="1341360"/>
            <a:chExt cx="4327560" cy="4900320"/>
          </a:xfrm>
        </p:grpSpPr>
        <p:sp>
          <p:nvSpPr>
            <p:cNvPr id="386" name="Tekstvak 2"/>
            <p:cNvSpPr/>
            <p:nvPr/>
          </p:nvSpPr>
          <p:spPr>
            <a:xfrm>
              <a:off x="2411280" y="1341360"/>
              <a:ext cx="2173320" cy="54936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1. Afzender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7" name="Tekstvak 8"/>
            <p:cNvSpPr/>
            <p:nvPr/>
          </p:nvSpPr>
          <p:spPr>
            <a:xfrm>
              <a:off x="2411280" y="1917360"/>
              <a:ext cx="270792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2. Datering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8" name="Tekstvak 9"/>
            <p:cNvSpPr/>
            <p:nvPr/>
          </p:nvSpPr>
          <p:spPr>
            <a:xfrm>
              <a:off x="2411280" y="2277720"/>
              <a:ext cx="2173320" cy="54936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3. Adressering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9" name="Tekstvak 10"/>
            <p:cNvSpPr/>
            <p:nvPr/>
          </p:nvSpPr>
          <p:spPr>
            <a:xfrm>
              <a:off x="2411280" y="2833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4. Onderwerp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0" name="Tekstvak 11"/>
            <p:cNvSpPr/>
            <p:nvPr/>
          </p:nvSpPr>
          <p:spPr>
            <a:xfrm>
              <a:off x="2411280" y="3193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5. Aanhef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1" name="Tekstvak 12"/>
            <p:cNvSpPr/>
            <p:nvPr/>
          </p:nvSpPr>
          <p:spPr>
            <a:xfrm>
              <a:off x="2411280" y="3557520"/>
              <a:ext cx="4327560" cy="158580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6. Briefinhoud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2" name="Tekstvak 13"/>
            <p:cNvSpPr/>
            <p:nvPr/>
          </p:nvSpPr>
          <p:spPr>
            <a:xfrm>
              <a:off x="2411280" y="5209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7. Ondertekening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3" name="Tekstvak 14"/>
            <p:cNvSpPr/>
            <p:nvPr/>
          </p:nvSpPr>
          <p:spPr>
            <a:xfrm>
              <a:off x="2411280" y="556956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8. PS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4" name="Tekstvak 15"/>
            <p:cNvSpPr/>
            <p:nvPr/>
          </p:nvSpPr>
          <p:spPr>
            <a:xfrm>
              <a:off x="2411280" y="5934600"/>
              <a:ext cx="2728440" cy="307080"/>
            </a:xfrm>
            <a:prstGeom prst="rect">
              <a:avLst/>
            </a:prstGeom>
            <a:noFill/>
            <a:ln w="9360">
              <a:solidFill>
                <a:srgbClr val="2da2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Lucida Sans Unicode"/>
                </a:rPr>
                <a:t>9. Bijlage(n)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77E6-5D03-47FC-B28C-15F3BA82AB15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priv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eciel Groenewoud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Klaverpas 156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6652 EN Druten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groenewoud@gmail.com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06-9371047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organisati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Taxi Actie BV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ogistiek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stbus 392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6294 AA Vij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laatsnaa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t hoofdlett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atu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ag en jaar in cijfers, maand in lette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et tussen plaats en datum een komm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 het eind van de datering komt </a:t>
            </a: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ge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pu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ruten, 16 september 2013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D85B-90E0-4F83-B8B6-7B46006B4105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priv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hr. S.P. van Holst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indelaan 82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1282 XP Loosdrech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organisati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meente Druten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urgerzaken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T.a.v. mw. L.J.A. Zwart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stbus 38224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6652 KL Dru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4620-7517-4806-98CA-8FCA69777190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inhoud van de brief in een of enkele woor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et ‘Betreft:’ of ‘Onderwerp:’ ervo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 het eind van het onderwerp komt </a:t>
            </a: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geen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u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Onderwerp: spelfouten in documen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575C-F2C7-4AB5-A62C-47C9B97C3AD7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egroeting in een brief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gin met een hoofdlet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indig met een komm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achte heer Zwart,/Geachte mevrouw Zwart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9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381F-6282-4915-BD5F-D8F02F00B889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inleid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de reden voor het schrijven van de brief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gin met een hoofdlet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ddenstu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meer informatie over het onderwerp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spreek één deelonderwerp per aline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o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eef aan wat je van de lezer verwacht of vat de boodschap sam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2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DF1C-D2F7-45B4-ABBA-20401FB190D5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ijdelijke aanduiding voor inhoud 8"/>
          <p:cNvSpPr/>
          <p:nvPr/>
        </p:nvSpPr>
        <p:spPr>
          <a:xfrm>
            <a:off x="4427640" y="1484280"/>
            <a:ext cx="440352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organisati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Met vriendelijke groet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Redactiebedrijf Schrijf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Gerard Groen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redacteu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481040"/>
            <a:ext cx="418608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priv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Met vriendelijke groet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Calibri"/>
                <a:ea typeface="Calibri"/>
              </a:rPr>
              <a:t>Gerard Groen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07CA-55D0-4905-B999-910EAA908A4B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Picture 7" descr=""/>
          <p:cNvPicPr/>
          <p:nvPr/>
        </p:nvPicPr>
        <p:blipFill>
          <a:blip r:embed="rId2"/>
          <a:stretch/>
        </p:blipFill>
        <p:spPr>
          <a:xfrm>
            <a:off x="826920" y="3192480"/>
            <a:ext cx="2592720" cy="1173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"/>
          <p:cNvPicPr/>
          <p:nvPr/>
        </p:nvPicPr>
        <p:blipFill>
          <a:blip r:embed="rId3"/>
          <a:stretch/>
        </p:blipFill>
        <p:spPr>
          <a:xfrm>
            <a:off x="4859280" y="3625920"/>
            <a:ext cx="25923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1:29Z</dcterms:created>
  <dc:creator>Jan</dc:creator>
  <dc:description/>
  <dc:language>en-US</dc:language>
  <cp:lastModifiedBy>Veen, Joke van der</cp:lastModifiedBy>
  <dcterms:modified xsi:type="dcterms:W3CDTF">2015-04-09T11:10:18Z</dcterms:modified>
  <cp:revision>145</cp:revision>
  <dc:subject/>
  <dc:title>Sociaal-culturele dimensie Thema 1: Cultuur en identiteit</dc:title>
</cp:coreProperties>
</file>