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3603D0-21C3-4165-8454-10A05AC5EF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4DF75B-FAF0-41E3-8010-2F260045071F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7D87-A23D-4F50-9580-C481AE012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E2D9-4966-457B-AF4A-28F6BF34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8F9F-C86C-45F6-9308-8C74DA250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F2DF-F3C4-45D7-BABA-8DFD0C22F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63E2-5934-44C1-9DD8-8CB07D10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D9D6-287A-4358-8DAE-3E51BBB3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6757-5E81-45A0-ACB4-6689022C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0ED7-55DD-4733-9A8F-9862993F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048F-D9CC-4FB4-9D64-6940ADAE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95C5-7A7B-4B4F-B958-58B1043C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294B-83E9-4192-A183-C8B564F8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06B2-3477-460F-BCF7-C4C7D0A8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3007EE-96F4-4C05-9766-26B0147D1E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voedingscentrum.nl/encyclopedie/bestrijdingsmiddelen.aspx" TargetMode="External"/><Relationship Id="rId3" Type="http://schemas.openxmlformats.org/officeDocument/2006/relationships/hyperlink" Target="http://www.voedingscentrum.nl/encyclopedie/vlees.aspx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88920" y="2130120"/>
            <a:ext cx="6568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  <a:ea typeface="Arial"/>
              </a:rPr>
              <a:t>Gewoonten rondom voeds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76160" y="3886200"/>
            <a:ext cx="6095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  <a:ea typeface="Arial"/>
              </a:rPr>
              <a:t>Wat kom je teg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  <a:ea typeface="Arial"/>
              </a:rPr>
              <a:t>Pak ‘m beet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41732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100 jaar geleden at je in Nederland aardappelen, groenten en als je ‘t rijk had soms een stukje vl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Er is veel veranderd in 100 jaar tij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et aanbod qua eten is en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41732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lleen al wat betreft multiculturele voe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In de jaren ‘50 kwam de Chinees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aar nu eten we Italiaans, Surinaams, Japans, Turks, Marokkaans.. Noem het maar 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oedingspatro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ok ons voedingspatroon is verande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Je merkt misschien aan je bewoners dat ze gewend zijn ‘s middags warm te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u is de gewoonte dat we ‘s avonds warm eten, al doen veel boeren het nog steeds anders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 is in onze samenleving een snackcultuur ontstaan; we eten tegenwoordig veel, zoet en z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 sommige culturen wordt 2x per dag warm gegeten, of een glaasje wijn bij de middaglunch gedron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 Nederland hebben wij een broodcultu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Wat weet je van alternatief voedsel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ijdelijke aanduiding voor inhoud 1" descr=""/>
          <p:cNvPicPr/>
          <p:nvPr/>
        </p:nvPicPr>
        <p:blipFill>
          <a:blip r:embed="rId2"/>
          <a:stretch/>
        </p:blipFill>
        <p:spPr>
          <a:xfrm>
            <a:off x="2873520" y="1363680"/>
            <a:ext cx="370044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Daar wordt ook wel onder verstaa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p een andere manier, of ander voedsel eten, dan globaal de gewoonte 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nk aan vegetariërs, veganisten, mensen die alleen biologisch willen eten, of eten volgens bepaalde voorschriften (bijvoorbeeld de Voedselzandloper, de laatste rag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egetaris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getariërs eten geen vis of vlees. Soms uit idealistische overwegingen, omdat zij het niet eens zijn met de manier waarop vlees en vis geproduceerd wor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aar soms ook omdat zij geen dieren willen eten, of het niet lekker vin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eganistis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ganisten gebruiken geen enkel dierlijk product, dus ook geen eieren en melk, of leren schoe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it doen zij uit idealistische overweg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ommige veganisten eten alleen rauw ongekookt voed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dit dieet ontstaat er vaak een tekort aan voedingsstoff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Biologis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076400"/>
            <a:ext cx="822960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ologisch voedsel wordt op een manier geproduceerd die zo min mogelijk belastend is voor het milie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m het Europees biologisch keurmerk te krijgen zijn er eise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Producten moeten voor minimaal 95% uit echte biologische ingrediënten bestaa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t moet duidelijk zijn waar de ingrediënten precies vandaan kom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 zijn geen chemische </a:t>
            </a:r>
            <a:r>
              <a:rPr b="0" lang="nl-NL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bestrijdingsmid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gebruik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 is geen kunstmest gebruik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de productie van </a:t>
            </a:r>
            <a:r>
              <a:rPr b="0" lang="nl-NL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vlee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is rekening gehouden met dierenwelzij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Speciale diët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peciale diëten; om af te vallen, of om gezonder te eten, of om een ziekte te bestrij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nk aan Sonja Bakker (energiebeperkt), Montignac (geen koolhydraten), Voedselzandloper (minder koolhydraten, veel eiwitten en havermout), Moerman (dieet om kanker te bestrijden, erg omstred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09:34:35Z</dcterms:created>
  <dc:creator>pi Hoogland</dc:creator>
  <dc:description/>
  <dc:language>en-US</dc:language>
  <cp:lastModifiedBy>esther</cp:lastModifiedBy>
  <dcterms:modified xsi:type="dcterms:W3CDTF">2016-05-03T16:41:22Z</dcterms:modified>
  <cp:revision>18</cp:revision>
  <dc:subject/>
  <dc:title>PowerPoint Presentation</dc:title>
</cp:coreProperties>
</file>