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0F012-AB97-4023-8C3D-8C4223D62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02003-E834-41E4-B9E8-5E5BC08A4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C4DEC-8430-49CB-93F0-1F3FE38DA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A05F9-B736-446B-8666-B1E18619F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69392-7099-4C67-8C66-069CB36CC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A6F83-2653-4904-B760-BC2BCA085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8E9DB-E784-44B4-B457-3030F0A9A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969EB-D1A1-4DB9-94FA-952D6F86E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190E0-813B-401F-A60B-817559848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1C0D5-66F5-4CDC-A346-A34AF00A8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04DD0-ECB7-432C-8668-74743900D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F48C0-3A29-4C16-A817-6400E1E73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4DC888C-6B6E-481F-8D6B-FB6FFCD392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Afwijkend gedrag tijdens et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oe ga je ermee om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alibri"/>
              </a:rPr>
              <a:t>Wat vind jij afwijkend gedrag tijdens het eten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Tijdelijke aanduiding voor afbeelding 6" descr=""/>
          <p:cNvPicPr/>
          <p:nvPr/>
        </p:nvPicPr>
        <p:blipFill>
          <a:blip r:embed="rId2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Calibri"/>
              </a:rPr>
              <a:t>En wat kom je tegen in de praktijk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Arial"/>
                <a:ea typeface="Arial"/>
              </a:rPr>
              <a:t>Afwijkend gedrag kan zijn.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363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Het eten uitspug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Met eten gooi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Met de vingers in het eten zit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Met eten sm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Boeren, slurpen, hard smakk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Eten oprispen en weer kauw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Gulzig e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Niet stoppen met eten of drink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Kokhalzen tijdens het e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Agressi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Arial"/>
                <a:ea typeface="Arial"/>
              </a:rPr>
              <a:t>Een wilsbekwaam iemand.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363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Kun je aanspreken op afwijkend eetgedrag, zeker als het storend is voor de omgev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Als de persoon aangeeft er niets aan te kunnen doen, moet je dit bespreken met zorgcollega’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Het gedrag kan een lichamelijke oorzaak hebben: als iemand aldoor dorst heeft en veel moet plassen, kan dit bijvoorbeeld wijzen op diabet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Arial"/>
                <a:ea typeface="Arial"/>
              </a:rPr>
              <a:t>Een wilsonbekwaam iemand.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363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Kan vaak niets doen aan zijn gedra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Je kunt wel proberen hem of haar aan te spreken op het gedra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Als dat niet werkt, zul je andere maatregelen moeten bedenk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Wellicht kan een arts eerst uitzoeken of er een lichamelijke oorzaak is voor het gedra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Als dit niet het geval is, moet je samen met je team uitproberen wat werkt om het gedrag te vermind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Arial"/>
                <a:ea typeface="Arial"/>
              </a:rPr>
              <a:t>Oplossingen kunnen zijn.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363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Een rustige, prikkelarme omgeving bied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Samen met iemand e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Rustgevende muziek opzet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Hem of haar helpen met eten en drink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Een dierbare mee laten e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Voedselaanbod veranderen (wensdieet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Rustgevende medicatie voor laten schrijven door de ar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Arial"/>
                <a:ea typeface="Arial"/>
              </a:rPr>
              <a:t>Hoe doen jullie dat 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Tijdelijke aanduiding voor inhoud 1" descr=""/>
          <p:cNvPicPr/>
          <p:nvPr/>
        </p:nvPicPr>
        <p:blipFill>
          <a:blip r:embed="rId2"/>
          <a:stretch/>
        </p:blipFill>
        <p:spPr>
          <a:xfrm>
            <a:off x="549360" y="1363680"/>
            <a:ext cx="80452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8T09:34:35Z</dcterms:created>
  <dc:creator>pi Hoogland</dc:creator>
  <dc:description/>
  <dc:language>en-US</dc:language>
  <cp:lastModifiedBy>Esther</cp:lastModifiedBy>
  <dcterms:modified xsi:type="dcterms:W3CDTF">2013-08-20T11:13:24Z</dcterms:modified>
  <cp:revision>14</cp:revision>
  <dc:subject/>
  <dc:title>PowerPoint Presentation</dc:title>
</cp:coreProperties>
</file>