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0EC4B-7DA8-4897-AD90-E2B4743CBC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9C0DE-AEA7-4D6E-AE27-0D2FEBC99AB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37E-64F4-43AB-9794-5BFD9984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072-ACE9-4BD9-9410-D6464160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58B-CB14-4744-A063-4FBAEF91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E8BF-2E0D-4D21-9BFD-6757C5AD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FDD-61D4-4C0C-87A6-1EDF145A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311-FC37-4F3F-89DC-362EB105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C51D-D28B-48E3-AB79-C3F145F7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00D-346E-4D5B-ACA4-70AB0EF7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F15-AF96-4811-A688-7E20E2D9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D20-3C0F-4C14-A791-84151B35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8C6-8D07-4D5B-98C3-A40DB7F2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E44-783A-41A3-8AFE-F05E3491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BE01F-B8BF-4D5C-8959-EF428B053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oedingscentrum.nl/encyclopedie/bestrijdingsmiddelen.aspx" TargetMode="External"/><Relationship Id="rId3" Type="http://schemas.openxmlformats.org/officeDocument/2006/relationships/hyperlink" Target="http://www.voedingscentrum.nl/encyclopedie/vlees.asp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88920" y="2130120"/>
            <a:ext cx="656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Gewoonten rondom voed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Wat kom je te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Pak ‘m bee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00 jaar geleden at je in Nederland aardappelen, groenten en als je ‘t rijk had soms een stukje v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r is veel veranderd in 100 jaar tij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aanbod qua eten is e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leen al wat betreft multiculturele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jaren ‘50 kwam de Chinees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 nu eten we Italiaans, Surinaams, Japans, Turks, Marokkaans.. Noem het maar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ingspatr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ons voedingspatroon is verande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merkt misschien aan je bewoners dat ze gewend zijn ‘s middags warm te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u is de gewoonte dat we ‘s avonds warm eten, al doen veel boeren het nog steeds ander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in onze samenleving een snackcultuur ontstaan; we eten tegenwoordig veel, zoet en z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sommige culturen wordt 2x per dag warm gegeten, of een glaasje wijn bij de middaglunch gedro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Nederland hebben wij een broodcul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weet je van alternatief voedse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2873520" y="1363680"/>
            <a:ext cx="3700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aar wordt ook wel onder versta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p een andere manier, of ander voedsel eten, dan globaal de gewoonte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vegetariërs, veganisten, mensen die alleen biologisch willen eten, of eten volgens bepaalde voorschriften (bijvoorbeeld de Voedselzandloper, de laatste r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etar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ërs eten geen vis of vlees. Soms uit idealistische overwegingen, omdat zij het niet eens zijn met de manier waarop vlees en vis geproduceerd wo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soms ook omdat zij geen dieren willen eten, of het niet lekker vin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anist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anisten gebruiken geen enkel dierlijk product, dus ook geen eieren en melk, of leren scho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doen zij uit idealistische over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ommige veganisten eten alleen rauw ongekookt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it dieet ontstaat er vaak een tekort aan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Biolog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6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ologisch voedsel wordt op een manier geproduceerd die zo min mogelijk belastend is voor het mili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 het Europees biologisch keurmerk te krijgen zijn er eis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ducten moeten voor minimaal 95% uit echte biologische ingrediënten besta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moet duidelijk zijn waar de ingrediënten precies vandaan k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geen chemische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estrijd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geen kunstmest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e productie van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le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is rekening gehouden met dierenwelzij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; om af te vallen, of om gezonder te eten, of om een ziekte te bestr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Sonja Bakker (energiebeperkt), Montignac (geen koolhydraten), Voedselzandloper (minder koolhydraten, veel eiwitten en havermout), Moerman (dieet om kanker te bestrijden, erg omstre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6:41:22Z</dcterms:modified>
  <cp:revision>18</cp:revision>
  <dc:subject/>
  <dc:title>PowerPoint Presentation</dc:title>
</cp:coreProperties>
</file>