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AA9A-695E-48C4-8285-1EA11E906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F13E-4B2A-428B-85C3-7C1C2539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80C4-9AE5-41C0-AC20-70A8331DC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317A-1CDE-4274-B7B8-BFE6720CB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03FF-4BE8-4287-AC59-CB1F8224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CC4C-4CC0-4B63-878F-5B6582D5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61BE-A229-4854-911E-AC55AC2F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5C5E-1819-448E-88C3-715A291A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98CB-842C-4714-B6BC-0F26165F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D8A2-8117-4725-BAE6-60FD1CBD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778C-4200-44B1-B0BD-E66D8259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E02F-50EF-4E2F-AE83-677DECFA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E439B5-7180-43A0-A80B-16365EDB56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fwijkend gedrag tijdens e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oe ga je ermee 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Wat vind jij afwijkend gedrag tijdens het ete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Tijdelijke aanduiding voor afbeelding 6" descr=""/>
          <p:cNvPicPr/>
          <p:nvPr/>
        </p:nvPicPr>
        <p:blipFill>
          <a:blip r:embed="rId2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En wat kom je tegen in de praktijk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Afwijkend gedrag kan zijn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eten uitspu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eten gooi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de vingers in het eten zit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eten sm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oeren, slurpen, hard smak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ten oprispen en weer kauw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ulzig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t stoppen met eten of drin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okhalzen tijdens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gress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Een wilsbekwaam iemand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un je aanspreken op afwijkend eetgedrag, zeker als het storend is voor de omg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ls de persoon aangeeft er niets aan te kunnen doen, moet je dit bespreken met zorgcollega’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gedrag kan een lichamelijke oorzaak hebben: als iemand aldoor dorst heeft en veel moet plassen, kan dit bijvoorbeeld wijzen op diabe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Een wilsonbekwaam iemand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an vaak niets doen aan zijn gedr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Je kunt wel proberen hem of haar aan te spreken op het gedr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ls dat niet werkt, zul je andere maatregelen moeten beden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llicht kan een arts eerst uitzoeken of er een lichamelijke oorzaak is voor het gedr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ls dit niet het geval is, moet je samen met je team uitproberen wat werkt om het gedrag te vermi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Oplossingen kunnen zijn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rustige, prikkelarme omgeving bie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amen met iemand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Rustgevende muziek opzet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m of haar helpen met eten en drin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dierbare mee laten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oedselaanbod veranderen (wensdiee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Rustgevende medicatie voor laten schrijven door de a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Hoe doen jullie dat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549360" y="136368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09:34:35Z</dcterms:created>
  <dc:creator>pi Hoogland</dc:creator>
  <dc:description/>
  <dc:language>en-US</dc:language>
  <cp:lastModifiedBy>Esther</cp:lastModifiedBy>
  <dcterms:modified xsi:type="dcterms:W3CDTF">2013-08-20T11:13:24Z</dcterms:modified>
  <cp:revision>14</cp:revision>
  <dc:subject/>
  <dc:title>PowerPoint Presentation</dc:title>
</cp:coreProperties>
</file>