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683-F799-40AD-BCF4-771FF7CE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B45-C7C3-4E14-B94E-2F377FD7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080-99F2-4085-9ECD-424E257F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6AB-7529-405D-8F22-9BCDABCC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5D02-ECCF-48BE-A113-D82B96B1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12B-A2EE-4CD2-8EF3-5619BD86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CB0-30A3-47CA-82BE-3875F965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382-81F6-4418-81D4-D96FD582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552-2EF6-4D51-8811-41FB512A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EE3-DA98-4FE1-BE4D-322425B4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804-D321-4DE9-B29C-88841CA3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99F-EFE7-4C7D-BC9C-5356DBB7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20611-C8B0-4C15-B771-82602B09E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ië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iet alleen om af te vall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el mensen volgen een dieet uit medische noodza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ntiallergisch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betekent zo weinig mogelijk of geen zo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oorbeeld voor mensen die dialy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f mensen die een hoge bloeddruk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out trekt vocht aan uit de weef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ierdoor komt het in de bloedbaan terecht en wordt de druk in de vaten te ho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 hebben als functie om teveel zout en vocht uit te scheiden. Dat lukt niet als ze niet of nauwelijks functione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 schijnen met zijn allen te veel vet, zout en suiker te e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ardoor zijn veel mensen te d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oor de calorieën in je dagelijks dieet te beperken kun je afvallen en op gewicht bl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gebruiken mensen met maag- en darmklachten, maar ook mensen die af willen vallen of een hoog cholesterol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 hebben we wel nodig, met name de onverzadigde v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moet dus gemonitord worden door een diëtist of een arts. Je hebt er niets aan als je voedingsstoffen te kort kom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nsen die snel geprikkelde darmen hebben of een overgevoelige maag, mijden bepaalde (gekruide of pittige)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koffie en thee kunnen maag en darmen zeer prikk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iëten die iets toevoe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ook mensen die extra voedingsstoffen nodig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dat zij een wond hebben, herstellende zijn van ziekte of aan moeten k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 volgen dan juist een eiwit- of energierijk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nti allergie 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je weet voor welke stoffen in voeding je allergisch bent, kun je ze m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sommige mensen, die voor heel veel stoffen allergisch zijn, een helse k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oren van noten zitten bijvoorbeeld in heel veel producten waar je ze niet zou verwach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allergische reactie kan variëren van niezen en een rode huid tot een anafylactische sh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selintoleran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oedselintolerantie betekent dat je lichaam bepaald voedsel of een bepaalde stof in voedsel niet kan verw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t is anders dan een aller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een allergie verwerkt je lichaam de stof wel, maar reageert erop alsof het een vijandige indringer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zowel een allergie als een intolerantie wordt je lichaam ziek, maar de reactie komt uit verschillende systemen in je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1:33:16Z</dcterms:modified>
  <cp:revision>16</cp:revision>
  <dc:subject/>
  <dc:title>PowerPoint Presentation</dc:title>
</cp:coreProperties>
</file>