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F39-DCC2-4FC9-83EF-0498199F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92A-0A01-445A-BEBB-9AF831BF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CD2-9B85-417C-A9F6-CDAFB085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106-89F0-4B50-86C9-5223BAC6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F12-1A14-417A-B1C6-10643EFA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795-FE55-4750-AF43-927D3F3D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9F7-C0C2-4262-9B8A-BA20B040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98E-B2EF-4A16-86ED-1B100761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1A7-1814-45A2-A903-9B9E427B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444-8430-4161-B937-50DEA1F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DD6-51F7-4F38-89D7-E727E7E5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047-E76C-40F7-9A8B-6C3A434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ECBE2-A59A-4C59-9864-5E9A98C1F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wijkend gedrag tijdens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e ga je ermee 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at vind jij afwijkend gedrag tijdens het et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afbeelding 6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En wat kom je tegen in de praktij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fwijkend gedrag ka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eten uitspu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goo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vingers in het eten z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sm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eren, slurpen, hard sma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ten oprispen en weer kau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ulzig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stoppen met eten of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khalzen tijdens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gres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 je aanspreken op afwijkend eetgedrag, zeker als het storend is voor d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e persoon aangeeft er niets aan te kunnen doen, moet je dit bespreken met zorgcollega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gedrag kan een lichamelijke oorzaak hebben: als iemand aldoor dorst heeft en veel moet plassen, kan dit bijvoorbeeld wijzen op diab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on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n vaak niets doen aan zijn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kunt wel proberen hem of haar aan te spreken op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at niet werkt, zul je andere maatregelen moeten bede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llicht kan een arts eerst uitzoeken of er een lichamelijke oorzaak is voor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it niet het geval is, moet je samen met je team uitproberen wat werkt om het gedrag te vermi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plossingen kunne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rustige, prikkelarme omgeving bi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amen met iemand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uziek opz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m of haar helpen met eten en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ierbare mee laten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selaanbod veranderen (wensdie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edicatie voor laten schrijven door de 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Hoe doen jullie da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549360" y="136368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3-08-20T11:13:24Z</dcterms:modified>
  <cp:revision>14</cp:revision>
  <dc:subject/>
  <dc:title>PowerPoint Presentation</dc:title>
</cp:coreProperties>
</file>