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CFE65-E4FE-4C9F-AF33-A66506887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5279B-C715-4A14-8AAC-B2EFB9735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7098F-B47B-4D1A-A42C-17DA32F45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F7242-BC80-42C1-B590-71B517803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A9226-ED12-4522-9A07-FEA113823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AFE70-65AD-46FD-B068-C28440669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C369B-022F-4F7C-9C00-57B602032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282E2-FF31-488A-B229-125189B92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A7CE4-30EF-47C3-A8C9-2F76FF01C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0891E-5310-496F-A6C7-7364A14E8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6406E-F328-41F9-8210-6F8219F47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9527D-6CAA-4EEE-874A-524192523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95C20A-4FD6-44AF-ADF4-3AC2C00B25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Slikprobleme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at zijn d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ysfagie</a:t>
            </a:r>
            <a:endParaRPr b="0" lang="en-US" sz="3600" spc="-1" strike="noStrike">
              <a:solidFill>
                <a:srgbClr val="000000"/>
              </a:solidFill>
              <a:latin typeface="Calibri"/>
            </a:endParaRPr>
          </a:p>
        </p:txBody>
      </p:sp>
      <p:sp>
        <p:nvSpPr>
          <p:cNvPr id="4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ensen met slikproblemen hebben vaak dys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t betekent dat slikken heel moeizaam ga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it kan leiden tot a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n kan iemand helemaal niet meer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Een slikprobleem betekent in het algemeen dat iemand problemen heeft met slikken en voedsel hierdoor moeilijk naar de maag vervoerd kan wo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Oorzaken van slikproblemen kunnen zijn:</a:t>
            </a:r>
            <a:endParaRPr b="0" lang="en-US" sz="4400" spc="-1" strike="noStrike">
              <a:solidFill>
                <a:srgbClr val="000000"/>
              </a:solidFill>
              <a:latin typeface="Calibri"/>
            </a:endParaRPr>
          </a:p>
        </p:txBody>
      </p:sp>
      <p:sp>
        <p:nvSpPr>
          <p:cNvPr id="4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Parkins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lokdar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Huntingt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Bij 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temband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Keelproble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pierzwak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Na een ongeval of C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zijn de symptomen van slikproblemen?</a:t>
            </a:r>
            <a:endParaRPr b="0" lang="en-US" sz="3600" spc="-1" strike="noStrike">
              <a:solidFill>
                <a:srgbClr val="000000"/>
              </a:solidFill>
              <a:latin typeface="Calibri"/>
            </a:endParaRPr>
          </a:p>
        </p:txBody>
      </p:sp>
      <p:sp>
        <p:nvSpPr>
          <p:cNvPr id="4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bij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l langzaam e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s en schor zij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de keel schrap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op de bors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moeidhe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wichtsverl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 om de cliënt te ondersteunen?</a:t>
            </a:r>
            <a:endParaRPr b="0" lang="en-US" sz="3600" spc="-1" strike="noStrike">
              <a:solidFill>
                <a:srgbClr val="000000"/>
              </a:solidFill>
              <a:latin typeface="Calibri"/>
            </a:endParaRPr>
          </a:p>
        </p:txBody>
      </p:sp>
      <p:sp>
        <p:nvSpPr>
          <p:cNvPr id="51"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in een goede houding zitten, rechto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rustig adem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voor een rustige omgev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Snijd het voedsel in zo klein mogelijke stukj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ef de cliënt alle tij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dat de cliënt voldoende drinkt bij het eten, dit maakt het eten minder droog en makkelijker door te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resenteer het eten op een smakelijke manier. Dit stimuleert tot aanmaak van speeksel en vergemakkelijkt het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niet eten kort voordat hij gaat slap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te doen bij verslikken?</a:t>
            </a:r>
            <a:endParaRPr b="0" lang="en-US" sz="3600" spc="-1" strike="noStrike">
              <a:solidFill>
                <a:srgbClr val="000000"/>
              </a:solidFill>
              <a:latin typeface="Calibri"/>
            </a:endParaRPr>
          </a:p>
        </p:txBody>
      </p:sp>
      <p:sp>
        <p:nvSpPr>
          <p:cNvPr id="53"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slikken is nog niet st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zelf het eten of drinken waar hij zich in verslikte op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oedig dan aan om te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geen antwoord meer geven, heeft hij een piepende ademhaling: haal hul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Officieel bij ernstige verslikking:</a:t>
            </a:r>
            <a:endParaRPr b="0" lang="en-US" sz="3600" spc="-1" strike="noStrike">
              <a:solidFill>
                <a:srgbClr val="000000"/>
              </a:solidFill>
              <a:latin typeface="Calibri"/>
            </a:endParaRPr>
          </a:p>
        </p:txBody>
      </p:sp>
      <p:sp>
        <p:nvSpPr>
          <p:cNvPr id="55"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la maximaal vijf keer tussen de schouderbladen. Kijk na elke klap of het probleem opgelost 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lpt slaan op de rug niet, voer dan maximaal vijf buikstoten u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s het probleem hiermee nog niet opgelost, geef dan afwisselend vijf slagen tussen de schouderbladen en vijf buikstoten (Handgreep van Heimli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Direct 112 (laten) bellen als het slachtoffer het bewustzijn verli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tart met reanimeren als het slachtoffer bewusteloos is en niet meer normaal adem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7"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Laat het slachtoffer staan of op een stoel zitten</a:t>
            </a:r>
            <a:br>
              <a:rPr sz="2400"/>
            </a:br>
            <a:r>
              <a:rPr b="0" lang="nl-NL" sz="2400" spc="-1" strike="noStrike">
                <a:solidFill>
                  <a:srgbClr val="000000"/>
                </a:solidFill>
                <a:latin typeface="Calibri"/>
              </a:rPr>
              <a:t>• Ga achter het slachtoffer staan, sla beide armen om de buik van het slachtoffer en bal één hand tot een vuist. Buig het slachtoffer naar voren.</a:t>
            </a:r>
            <a:br>
              <a:rPr sz="2400"/>
            </a:br>
            <a:r>
              <a:rPr b="0" lang="nl-NL" sz="2400" spc="-1" strike="noStrike">
                <a:solidFill>
                  <a:srgbClr val="000000"/>
                </a:solidFill>
                <a:latin typeface="Calibri"/>
              </a:rPr>
              <a:t>• Plaats de vuist halverwege tussen de navel en het begin van het borstbeen. Pak de eigen vuist met de andere hand beet en druk krachtig en snel de vuist in de buik en licht omhoog. De plotselinge samendrukking van de buik zal de lucht uit de longen van het slachtoffer drukken en zo de blokkade mogelijk uit de luchtpijp verwijderen. Herhaal deze handeling maximaal 5 keer tot het obstakel loslaat.</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ndien het slachtoffer buiten bewustzijn is, wordt het slachtoffer op de rug neergelegd, het hoofd zijdelings gedraaid en de muis van één hand op hetzelfde punt als hierboven genoemd is, geplaatst. De hulpverlener drukt vervolgens krachtig en snel de hand in de buik en omhoog in de richting van het borstbeen. Verwijder eventuele objecten en slijm uit de mond van het slachtoffer.</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09:34:35Z</dcterms:created>
  <dc:creator>pi Hoogland</dc:creator>
  <dc:description/>
  <dc:language>en-US</dc:language>
  <cp:lastModifiedBy>Esther</cp:lastModifiedBy>
  <dcterms:modified xsi:type="dcterms:W3CDTF">2012-11-01T12:36:18Z</dcterms:modified>
  <cp:revision>14</cp:revision>
  <dc:subject/>
  <dc:title>PowerPoint Presentation</dc:title>
</cp:coreProperties>
</file>