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E3E4D-A0F3-4CBE-8FC8-3C952BB3BE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3C75C-05DC-4B1D-845E-005BAF633CCB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2521-E9C1-406E-9EBB-9E78E14A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7CC3-5F24-486C-AB79-C1F0E584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991C-BAF5-4B53-9E17-D90F6AA1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3E1F-3398-48AC-95D7-D66C6AF60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3FD4-FAD4-45B5-9C5E-9CF7C64E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61A3-5572-4419-8FD7-03E87484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81F0-3BB3-4569-B13F-7AB2A1F9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ECD3-AC67-4B6B-917F-E0B32F4D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9D81-09D9-416B-B7D7-2853EC52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0C3D-A9CF-442C-B3B0-22A717DB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90EB-E44E-4EF4-BE90-26F5DFD2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99BC-A67E-431D-BA39-2C38D40E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CA768-95EB-4600-A9A4-4BA25607A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voedingscentrum.nl/encyclopedie/bestrijdingsmiddelen.aspx" TargetMode="External"/><Relationship Id="rId3" Type="http://schemas.openxmlformats.org/officeDocument/2006/relationships/hyperlink" Target="http://www.voedingscentrum.nl/encyclopedie/vlees.aspx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88920" y="2130120"/>
            <a:ext cx="656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Gewoonten rondom voeds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160" y="388620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Wat kom je teg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Pak ‘m bee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00 jaar geleden at je in Nederland aardappelen, groenten en als je ‘t rijk had soms een stukje vl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r is veel veranderd in 100 jaar tij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aanbod qua eten is en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lleen al wat betreft multiculturele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 de jaren ‘50 kwam de Chinees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 nu eten we Italiaans, Surinaams, Japans, Turks, Marokkaans.. Noem het maar 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oedingspatro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ons voedingspatroon is verande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Je merkt misschien aan je bewoners dat ze gewend zijn ‘s middags warm te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u is de gewoonte dat we ‘s avonds warm eten, al doen veel boeren het nog steeds anders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in onze samenleving een snackcultuur ontstaan; we eten tegenwoordig veel, zoet en z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sommige culturen wordt 2x per dag warm gegeten, of een glaasje wijn bij de middaglunch gedro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Nederland hebben wij een broodcul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t weet je van alternatief voedse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2873520" y="1363680"/>
            <a:ext cx="370044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Daar wordt ook wel onder verstaa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p een andere manier, of ander voedsel eten, dan globaal de gewoonte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vegetariërs, veganisten, mensen die alleen biologisch willen eten, of eten volgens bepaalde voorschriften (bijvoorbeeld de Voedselzandloper, de laatste ra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etar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etariërs eten geen vis of vlees. Soms uit idealistische overwegingen, omdat zij het niet eens zijn met de manier waarop vlees en vis geproduceerd wor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r soms ook omdat zij geen dieren willen eten, of het niet lekker vin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anist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anisten gebruiken geen enkel dierlijk product, dus ook geen eieren en melk, of leren schoe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doen zij uit idealistische overweg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ommige veganisten eten alleen rauw ongekookt voed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it dieet ontstaat er vaak een tekort aan voedings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Biolog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764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ologisch voedsel wordt op een manier geproduceerd die zo min mogelijk belastend is voor het mili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m het Europees biologisch keurmerk te krijgen zijn er eis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ducten moeten voor minimaal 95% uit echte biologische ingrediënten besta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moet duidelijk zijn waar de ingrediënten precies vandaan kom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zijn geen chemische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estrijd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geen kunstmest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e productie van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vle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is rekening gehouden met dierenwelzij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; om af te vallen, of om gezonder te eten, of om een ziekte te bestrij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Sonja Bakker (energiebeperkt), Montignac (geen koolhydraten), Voedselzandloper (minder koolhydraten, veel eiwitten en havermout), Moerman (dieet om kanker te bestrijden, erg omstre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6-05-03T16:41:22Z</dcterms:modified>
  <cp:revision>18</cp:revision>
  <dc:subject/>
  <dc:title>PowerPoint Presentation</dc:title>
</cp:coreProperties>
</file>