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63CD-F96B-49BE-8179-21E4DD92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2575-BC06-4D1C-8DDF-F77F0625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D1D9-2112-47A9-BEEB-932C7FE5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12F7-BD15-48CF-835E-FA40FE82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C172-2F2E-4C69-9B72-FC264898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487D-8B6F-4B82-8B24-6917D28C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F690-033F-4531-94E8-6E8A8610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A53E-8909-480C-A312-7A6B3E5F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BBF3-6142-4409-A7EF-80625323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CBFB-1044-427E-9380-A5CDE141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4899-D89F-43D2-A690-E771B3F2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D4A-25D8-425E-8540-63A213AE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95CD0D-31C9-4AE8-AB3F-6C81F1A62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ië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iet alleen om af te valle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el mensen volgen een dieet uit medische noodzaa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triumbeper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nergiebeper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ta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ntiallergisch 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g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Natriumbeperk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betekent zo weinig mogelijk of geen zou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voorbeeld voor mensen die dialy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f mensen die een hoge bloeddruk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out trekt vocht aan uit de weef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ierdoor komt het in de bloedbaan terecht en wordt de druk in de vaten te ho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en hebben als functie om teveel zout en vocht uit te scheiden. Dat lukt niet als ze niet of nauwelijks functioner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nergiebeperk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 schijnen met zijn allen te veel vet, zout en suiker te e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aardoor zijn veel mensen te di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oor de calorieën in je dagelijks dieet te beperken kun je afvallen en op gewicht blij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tar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etarm dieet gebruiken mensen met maag- en darmklachten, maar ook mensen die af willen vallen of een hoog cholesterol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t hebben we wel nodig, met name de onverzadigde ve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etarm dieet moet dus gemonitord worden door een diëtist of een arts. Je hebt er niets aan als je voedingsstoffen te kort kom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Maagdi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nsen die snel geprikkelde darmen hebben of een overgevoelige maag, mijden bepaalde (gekruide of pittige) voedings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k koffie en thee kunnen maag en darmen zeer prikke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Diëten die iets toevoe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zijn ook mensen die extra voedingsstoffen nodig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mdat zij een wond hebben, herstellende zijn van ziekte of aan moeten k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ij volgen dan juist een eiwit- of energierijk 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Anti allergie di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je weet voor welke stoffen in voeding je allergisch bent, kun je ze mij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or sommige mensen, die voor heel veel stoffen allergisch zijn, een helse kl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oren van noten zitten bijvoorbeeld in heel veel producten waar je ze niet zou verwach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allergische reactie kan variëren van niezen en een rode huid tot een anafylactische sh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oedselintolerant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oedselintolerantie betekent dat je lichaam bepaald voedsel of een bepaalde stof in voedsel niet kan verwer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at is anders dan een allerg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een allergie verwerkt je lichaam de stof wel, maar reageert erop alsof het een vijandige indringer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zowel een allergie als een intolerantie wordt je lichaam ziek, maar de reactie komt uit verschillende systemen in je licha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6-05-03T11:33:16Z</dcterms:modified>
  <cp:revision>16</cp:revision>
  <dc:subject/>
  <dc:title>PowerPoint Presentation</dc:title>
</cp:coreProperties>
</file>