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8C8-B2D4-42BF-B8A8-391FB453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3F29-6645-4290-8C96-B4EE6F59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375-08EF-4665-A147-FAC714AB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C92-15DE-4C6E-9C6E-892E730F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02B-7859-402D-98AC-6F943DF5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FF22-0872-4797-995E-35BA1B7C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3CC-5A7B-4DAB-B9A9-3D1212CE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C0C5-9AC4-42B1-91BE-F4BD4451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8603-77DA-4598-A691-89ED1765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CD8-73DF-4425-96E1-6049B546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154-DCCC-40BE-985E-E1A347D6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770-AE1D-4AC5-B14E-ED56E2A2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A325F-87F9-417C-83C2-1CBB3D307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ië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iet alleen om af te vall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el mensen volgen een dieet uit medische noodzaa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ntiallergisch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betekent zo weinig mogelijk of geen zo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oorbeeld voor mensen die dialy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f mensen die een hoge bloeddruk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out trekt vocht aan uit de weef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ierdoor komt het in de bloedbaan terecht en wordt de druk in de vaten te ho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en hebben als functie om teveel zout en vocht uit te scheiden. Dat lukt niet als ze niet of nauwelijks functioner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 schijnen met zijn allen te veel vet, zout en suiker te e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ardoor zijn veel mensen te d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oor de calorieën in je dagelijks dieet te beperken kun je afvallen en op gewicht bl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gebruiken mensen met maag- en darmklachten, maar ook mensen die af willen vallen of een hoog cholesterol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 hebben we wel nodig, met name de onverzadigde v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moet dus gemonitord worden door een diëtist of een arts. Je hebt er niets aan als je voedingsstoffen te kort kom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nsen die snel geprikkelde darmen hebben of een overgevoelige maag, mijden bepaalde (gekruide of pittige)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koffie en thee kunnen maag en darmen zeer prikk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iëten die iets toevoe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ook mensen die extra voedingsstoffen nodig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dat zij een wond hebben, herstellende zijn van ziekte of aan moeten k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 volgen dan juist een eiwit- of energierijk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nti allergie 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je weet voor welke stoffen in voeding je allergisch bent, kun je ze m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sommige mensen, die voor heel veel stoffen allergisch zijn, een helse k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oren van noten zitten bijvoorbeeld in heel veel producten waar je ze niet zou verwach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allergische reactie kan variëren van niezen en een rode huid tot een anafylactische sh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selintoleran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oedselintolerantie betekent dat je lichaam bepaald voedsel of een bepaalde stof in voedsel niet kan verw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t is anders dan een aller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een allergie verwerkt je lichaam de stof wel, maar reageert erop alsof het een vijandige indringer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zowel een allergie als een intolerantie wordt je lichaam ziek, maar de reactie komt uit verschillende systemen in je lich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1:33:16Z</dcterms:modified>
  <cp:revision>16</cp:revision>
  <dc:subject/>
  <dc:title>PowerPoint Presentation</dc:title>
</cp:coreProperties>
</file>