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BE64-8B4C-436F-85BB-31636C1F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DB0-6FC9-479F-A66F-B2352D5C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E92-37C5-4CE7-A421-770B1EF8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CAA6-CC4A-43CF-894F-DC0B7EC3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151-9F59-4EA5-AFA7-EFA43655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1DE-E4CD-42D1-812D-01DCDCE5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7C5-9576-4489-A5F4-1559C5BD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C98-B5DC-4784-A47E-AC0BB43D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5A0-25B1-4473-AFAC-EF0BFF76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6ED-4452-4B6D-9F18-94B192E6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995-BA4D-48DF-94EA-965DA85B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2C6-0E45-4BCF-946C-EAD7B301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60F1D-0CCE-4A01-81AA-FE295E98C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ië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iet alleen om af te vall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el mensen volgen een dieet uit medische noodzaa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ntiallergisch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betekent zo weinig mogelijk of geen zo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oorbeeld voor mensen die dialy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f mensen die een hoge bloeddruk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out trekt vocht aan uit de weef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ierdoor komt het in de bloedbaan terecht en wordt de druk in de vaten te ho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 hebben als functie om teveel zout en vocht uit te scheiden. Dat lukt niet als ze niet of nauwelijks functione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 schijnen met zijn allen te veel vet, zout en suiker te e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ardoor zijn veel mensen te d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oor de calorieën in je dagelijks dieet te beperken kun je afvallen en op gewicht bl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gebruiken mensen met maag- en darmklachten, maar ook mensen die af willen vallen of een hoog cholesterol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 hebben we wel nodig, met name de onverzadigde v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moet dus gemonitord worden door een diëtist of een arts. Je hebt er niets aan als je voedingsstoffen te kort kom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nsen die snel geprikkelde darmen hebben of een overgevoelige maag, mijden bepaalde (gekruide of pittige)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koffie en thee kunnen maag en darmen zeer prikk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iëten die iets toevoe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ook mensen die extra voedingsstoffen nodig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dat zij een wond hebben, herstellende zijn van ziekte of aan moeten k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 volgen dan juist een eiwit- of energierijk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nti allergie 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je weet voor welke stoffen in voeding je allergisch bent, kun je ze m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sommige mensen, die voor heel veel stoffen allergisch zijn, een helse k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oren van noten zitten bijvoorbeeld in heel veel producten waar je ze niet zou verwach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allergische reactie kan variëren van niezen en een rode huid tot een anafylactische sh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selintoleran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oedselintolerantie betekent dat je lichaam bepaald voedsel of een bepaalde stof in voedsel niet kan verw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t is anders dan een aller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een allergie verwerkt je lichaam de stof wel, maar reageert erop alsof het een vijandige indringer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zowel een allergie als een intolerantie wordt je lichaam ziek, maar de reactie komt uit verschillende systemen in je lich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1:33:16Z</dcterms:modified>
  <cp:revision>16</cp:revision>
  <dc:subject/>
  <dc:title>PowerPoint Presentation</dc:title>
</cp:coreProperties>
</file>