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A018-13CA-48CA-BEAD-2D5F61926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66CD-54E5-4731-AC1B-4279FBBFD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3827-5912-497B-AB99-04C569C15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0661-F49D-4645-92B7-95A7D1C75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1DAB-F8C6-4ACB-A4AF-5463AF6DD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C466-46BC-4C6D-8883-A625DED75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4E63-AF23-455D-B4A7-46432635D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7EEA-9F3D-4A38-8FE5-C28D5C05F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AA5B-7737-45F6-BDF6-67F0B8A45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DBFF-C6FB-42A2-99E9-AA9098F2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2928-EF5E-4A00-95E2-34C6C7492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1B7E-13C2-4A47-BFC9-224C54C0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548BA7-CD7B-4A9A-9E15-5D37699443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fwijkend gedrag tijdens e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oe ga je ermee o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Wat vind jij afwijkend gedrag tijdens het eten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Tijdelijke aanduiding voor afbeelding 6" descr=""/>
          <p:cNvPicPr/>
          <p:nvPr/>
        </p:nvPicPr>
        <p:blipFill>
          <a:blip r:embed="rId2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Calibri"/>
              </a:rPr>
              <a:t>En wat kom je tegen in de praktijk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Afwijkend gedrag kan zijn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et eten uitspu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et eten gooi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et de vingers in het eten zit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et eten sm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oeren, slurpen, hard smak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ten oprispen en weer kauw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ulzig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iet stoppen met eten of drin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okhalzen tijdens het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gress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Een wilsbekwaam iemand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un je aanspreken op afwijkend eetgedrag, zeker als het storend is voor de omgev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ls de persoon aangeeft er niets aan te kunnen doen, moet je dit bespreken met zorgcollega’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et gedrag kan een lichamelijke oorzaak hebben: als iemand aldoor dorst heeft en veel moet plassen, kan dit bijvoorbeeld wijzen op diabe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Een wilsonbekwaam iemand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an vaak niets doen aan zijn gedr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Je kunt wel proberen hem of haar aan te spreken op het gedr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ls dat niet werkt, zul je andere maatregelen moeten beden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Wellicht kan een arts eerst uitzoeken of er een lichamelijke oorzaak is voor het gedr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ls dit niet het geval is, moet je samen met je team uitproberen wat werkt om het gedrag te vermind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Oplossingen kunnen zijn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en rustige, prikkelarme omgeving bie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amen met iemand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Rustgevende muziek opzet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em of haar helpen met eten en drin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en dierbare mee laten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oedselaanbod veranderen (wensdiee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Rustgevende medicatie voor laten schrijven door de ar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Hoe doen jullie dat 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Tijdelijke aanduiding voor inhoud 1" descr=""/>
          <p:cNvPicPr/>
          <p:nvPr/>
        </p:nvPicPr>
        <p:blipFill>
          <a:blip r:embed="rId2"/>
          <a:stretch/>
        </p:blipFill>
        <p:spPr>
          <a:xfrm>
            <a:off x="549360" y="1363680"/>
            <a:ext cx="8045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8T09:34:35Z</dcterms:created>
  <dc:creator>pi Hoogland</dc:creator>
  <dc:description/>
  <dc:language>en-US</dc:language>
  <cp:lastModifiedBy>Esther</cp:lastModifiedBy>
  <dcterms:modified xsi:type="dcterms:W3CDTF">2013-08-20T11:13:24Z</dcterms:modified>
  <cp:revision>14</cp:revision>
  <dc:subject/>
  <dc:title>PowerPoint Presentation</dc:title>
</cp:coreProperties>
</file>