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EFAB-E26F-4064-857F-733C0710D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FBA6-EECD-4DC1-B42E-11938C5F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591F-2480-4A2A-85AF-F9F11E97E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B020-3E25-4F43-BBF3-835E5130A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A12B-B0B3-4DBE-9E69-9F8CDE9F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9555-0B02-4727-9E4A-9CDC8FDA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194C-A300-48BB-A705-BE410CA7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0692-7E43-4962-98BC-27648082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35AD-4D54-44FA-B797-08C5FACA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552B-3D66-4B9D-B8DA-3BB27808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DD2B-9572-422E-BDCF-8015EED0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A3DB-C06E-4F6E-A663-FB9EDD40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9C1160-8AB4-4ED2-8E6C-EC74B7FC4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fwijkend gedrag tijdens e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oe ga je ermee 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Wat vind jij afwijkend gedrag tijdens het ete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Tijdelijke aanduiding voor afbeelding 6" descr=""/>
          <p:cNvPicPr/>
          <p:nvPr/>
        </p:nvPicPr>
        <p:blipFill>
          <a:blip r:embed="rId2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En wat kom je tegen in de praktijk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Afwijkend gedrag kan zijn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eten uitspu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eten gooi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de vingers in het eten zit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eten sm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oeren, slurpen, hard smak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ten oprispen en weer kauw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ulzig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t stoppen met eten of dri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okhalzen tijdens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gress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Een wilsbekwaam iemand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un je aanspreken op afwijkend eetgedrag, zeker als het storend is voor de omg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s de persoon aangeeft er niets aan te kunnen doen, moet je dit bespreken met zorgcollega’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gedrag kan een lichamelijke oorzaak hebben: als iemand aldoor dorst heeft en veel moet plassen, kan dit bijvoorbeeld wijzen op diabe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Een wilsonbekwaam iemand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an vaak niets doen aan zijn gedr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Je kunt wel proberen hem of haar aan te spreken op het gedr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s dat niet werkt, zul je andere maatregelen moeten bede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llicht kan een arts eerst uitzoeken of er een lichamelijke oorzaak is voor het gedr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s dit niet het geval is, moet je samen met je team uitproberen wat werkt om het gedrag te vermi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Oplossingen kunnen zijn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rustige, prikkelarme omgeving bie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amen met iemand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Rustgevende muziek opzet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m of haar helpen met eten en dri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dierbare mee laten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edselaanbod veranderen (wensdie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Rustgevende medicatie voor laten schrijven door de a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Hoe doen jullie dat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549360" y="136368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09:34:35Z</dcterms:created>
  <dc:creator>pi Hoogland</dc:creator>
  <dc:description/>
  <dc:language>en-US</dc:language>
  <cp:lastModifiedBy>Esther</cp:lastModifiedBy>
  <dcterms:modified xsi:type="dcterms:W3CDTF">2013-08-20T11:13:24Z</dcterms:modified>
  <cp:revision>14</cp:revision>
  <dc:subject/>
  <dc:title>PowerPoint Presentation</dc:title>
</cp:coreProperties>
</file>