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E879-97A4-457A-B1A2-41462C99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76A0-C331-4A37-966D-68C18614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983-4779-42FF-82DE-06A27343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C1CB-92FB-44C5-AEE9-CF8A4B0D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60A-C44B-4B53-804D-BB66B743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AAC6-929F-4F76-A521-4C6C4E85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865E-A674-417C-95D8-F728C37F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D455-0570-4FC4-9978-7162C979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E12-6D8A-4AF6-AB5C-61DDF1F9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16AD-A107-40F6-981B-CECD1DD6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3E99-D14A-4BCA-AFCF-0F059519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D024-1D4C-4373-8902-BDABDC1C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782AD-DCA2-4BA1-8DE3-864CF3082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ië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iet alleen om af te vall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el mensen volgen een dieet uit medische noodzaa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triumbeper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nergiebeper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ta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ntiallergisch 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g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Natriumbeper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betekent zo weinig mogelijk of geen zo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voorbeeld voor mensen die dialy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f mensen die een hoge bloeddruk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out trekt vocht aan uit de weef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ierdoor komt het in de bloedbaan terecht en wordt de druk in de vaten te ho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en hebben als functie om teveel zout en vocht uit te scheiden. Dat lukt niet als ze niet of nauwelijks functioner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nergiebeper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 schijnen met zijn allen te veel vet, zout en suiker te e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ardoor zijn veel mensen te d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oor de calorieën in je dagelijks dieet te beperken kun je afvallen en op gewicht blij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ta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etarm dieet gebruiken mensen met maag- en darmklachten, maar ook mensen die af willen vallen of een hoog cholesterol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t hebben we wel nodig, met name de onverzadigde ve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etarm dieet moet dus gemonitord worden door een diëtist of een arts. Je hebt er niets aan als je voedingsstoffen te kort kom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Maagdi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nsen die snel geprikkelde darmen hebben of een overgevoelige maag, mijden bepaalde (gekruide of pittige)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koffie en thee kunnen maag en darmen zeer prikke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iëten die iets toevoe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ook mensen die extra voedingsstoffen nodig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dat zij een wond hebben, herstellende zijn van ziekte of aan moeten k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 volgen dan juist een eiwit- of energierijk 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Anti allergie di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je weet voor welke stoffen in voeding je allergisch bent, kun je ze m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 sommige mensen, die voor heel veel stoffen allergisch zijn, een helse kl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oren van noten zitten bijvoorbeeld in heel veel producten waar je ze niet zou verwach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allergische reactie kan variëren van niezen en een rode huid tot een anafylactische sh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selintoleran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oedselintolerantie betekent dat je lichaam bepaald voedsel of een bepaalde stof in voedsel niet kan verwer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t is anders dan een allerg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een allergie verwerkt je lichaam de stof wel, maar reageert erop alsof het een vijandige indringer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zowel een allergie als een intolerantie wordt je lichaam ziek, maar de reactie komt uit verschillende systemen in je licha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1:33:16Z</dcterms:modified>
  <cp:revision>16</cp:revision>
  <dc:subject/>
  <dc:title>PowerPoint Presentation</dc:title>
</cp:coreProperties>
</file>