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A286-F51A-42A3-9E0D-75FBCDE1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CE5-1115-4C5F-A5DA-3F3F62AC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B5E-11DD-4DEC-94E4-36D09206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45F-C97C-4E51-B526-60FA5A59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FF3-6FF8-4FF2-8AA0-89008C2A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F90-2BD9-40C3-8927-A50E66B5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0DC-43FB-44B2-86F8-A8685DE6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161-725A-49C5-8AE5-90E87E91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8D7-5AE6-412F-908D-8DBC4421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66C-A8EA-4EF7-B739-691D7F82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ADE-A5BD-43CB-884F-4E95BAE1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93D-06A2-4D58-854F-5F3B168B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EC6BF-89B4-4924-AAD6-D72E5C0CF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wijkend gedrag tijdens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e ga je ermee 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Wat vind jij afwijkend gedrag tijdens het ete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afbeelding 6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En wat kom je tegen in de praktijk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fwijkend gedrag ka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eten uitspu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gooi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vingers in het eten zi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sm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eren, slurpen, hard smak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ten oprispen en weer kauw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ulzig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stoppen met eten of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khalzen tijdens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gress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 je aanspreken op afwijkend eetgedrag, zeker als het storend is voor de omg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e persoon aangeeft er niets aan te kunnen doen, moet je dit bespreken met zorgcollega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gedrag kan een lichamelijke oorzaak hebben: als iemand aldoor dorst heeft en veel moet plassen, kan dit bijvoorbeeld wijzen op diabe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on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n vaak niets doen aan zijn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kunt wel proberen hem of haar aan te spreken op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at niet werkt, zul je andere maatregelen moeten bede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llicht kan een arts eerst uitzoeken of er een lichamelijke oorzaak is voor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it niet het geval is, moet je samen met je team uitproberen wat werkt om het gedrag te vermi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plossingen kunne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rustige, prikkelarme omgeving bi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amen met iemand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uziek opz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m of haar helpen met eten en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dierbare mee laten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dselaanbod veranderen (wensdie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edicatie voor laten schrijven door de 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Hoe doen jullie da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549360" y="136368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3-08-20T11:13:24Z</dcterms:modified>
  <cp:revision>14</cp:revision>
  <dc:subject/>
  <dc:title>PowerPoint Presentation</dc:title>
</cp:coreProperties>
</file>