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F178-59EF-4255-BAAB-3DDBE5EBF7B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75F70-AED1-47CA-B826-ECE2C157CFB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DC45-74FB-46DC-90F8-421B36A7FD8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B2541-E688-441B-9895-676260F3AA9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D66CA-33DE-457E-BACF-BC0E37D89B8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13E4D-2F83-4D8A-B256-017043F552A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8EDC-A853-4FE3-ADF4-A35E9E1EB6F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5CB6-8095-45CD-95E2-9E6E10A24D2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6510B-62EA-43A8-94B6-61B57E9BD5E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4032-CD7D-4226-898D-55948CF2F06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59554F-3752-4912-A6D6-95E65A8E473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1EB5AB22-CFDD-46CC-AD54-95D0F1246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A2699D88-7B55-4FCA-8C7D-01F8CE91B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9ED1AD30-FA20-4F2C-A6F2-08E9D97E68B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99AB80-013B-47C5-AC76-E609F4AC26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BABE491C-AADF-4F6B-94CB-FA0827B307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465E9BF4-4706-4E94-A859-8CE65F3388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072A1CE6-18B9-468C-97C2-B620734446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0A8AFECC-CC26-4FB4-B4DB-C60F5571C4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DE0BA4CA-24F0-452C-96A0-F90A4FF3CF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C506415A-9711-4C5A-BA2E-2157EE78DE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34E3142F-AD3C-4A20-8560-5ABF0558F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A21F2432-9382-4446-BA9C-DA6370FF68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69805839-88A4-4566-A1F9-8BB9BDB49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F3838F97-A88F-421E-A730-7EC2BD2AF7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8D703E1A-F43E-46E0-AD42-9CEA960046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0EC476DE-EC23-4578-981C-1DA3F80621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F7AF173B-A9A0-4C79-8546-CBB0BDF4C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9C7718E1-CFEC-48BD-8B30-B6F89FF32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5CCE6684-E72C-41FC-9861-111D4A35B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AAFD4AA7-0CB2-4D0B-AC20-1C63CBFBA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8B8E2DA7-EE7A-4FD3-AA40-A399A6565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DABA9AA9-5DAE-450F-9A92-81B6A736F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56B06A2B-406E-46C4-989D-0EF2ECD9EB7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6D7CF-4E8B-449A-8167-D5D48EF59869}" type="datetime3">
              <a:rPr b="0" lang="nl-NL" sz="1400" spc="-1" strike="noStrike">
                <a:solidFill>
                  <a:srgbClr val="3b130a"/>
                </a:solidFill>
                <a:latin typeface="Times New Roman"/>
              </a:rPr>
              <a:t>28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8E125-4195-4E90-B8D7-5C1A9744FC81}"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AE45-8A93-450D-BC4B-4455D4468D17}" type="datetime3">
              <a:rPr b="0" lang="nl-NL" sz="1400" spc="-1" strike="noStrike">
                <a:solidFill>
                  <a:srgbClr val="3b130a"/>
                </a:solidFill>
                <a:latin typeface="Times New Roman"/>
              </a:rPr>
              <a:t>28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028AE-4008-443C-9257-FE66970599AA}"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3E406-1210-448D-B689-A5C1BF4921B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B04E-2519-4651-9ADB-E592552693FA}"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F2508-488A-46FA-B8EA-28BC83BB20C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091DB-6B13-479C-BB60-6E8CBD6996BC}"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0927F-07B7-42CF-BC96-02C3C6F460D7}"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04414-52A4-4449-B8E0-88A3429910BE}"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2B287-1505-423B-BBB1-ECAB2F35660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544B-D84A-4D25-B4F5-57D4C80498AA}"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49CE-2AF0-4FDE-99B2-6AA0D7224CB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781C6-5CA7-4590-BF8C-798F2F32A81F}"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9A27F-9CFF-4DA1-8617-78EBF1A2AA4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09A42-1ED7-4D3A-A7CD-28A71B23FC01}"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2E19-079D-403E-983F-C4CE7F68776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D493-6D99-4E19-931E-B1DA1613E76F}"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5675-9D9C-4E89-8386-162B1D592C06}"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B4FCA-F31C-48D4-8845-C689A2153B27}"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0CF54-B948-454D-96AC-7263EC8244D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6023-0D3E-4A1C-BAC2-4EF7D607756D}"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4C895-E005-4F21-A272-47B55C03D6E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