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336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0936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4680" y="4714560"/>
            <a:ext cx="49719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3832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3360" y="9429840"/>
            <a:ext cx="293832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9849-7EA7-48FD-8B02-9C05D47A947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FA1CA-5696-41F7-BDDC-34A8956063B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909720" y="744480"/>
            <a:ext cx="4964040" cy="3722760"/>
          </a:xfrm>
          <a:prstGeom prst="rect">
            <a:avLst/>
          </a:prstGeom>
          <a:ln w="0">
            <a:noFill/>
          </a:ln>
        </p:spPr>
      </p:sp>
      <p:sp>
        <p:nvSpPr>
          <p:cNvPr id="11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dit college wordt ingegaan op hoe signalering van lees- en spellingproblemen vormgegeven kan worden middels een goede overdracht po-vo, de inzet van signaleringsinstrumenten en observat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9D9AB-D914-47EE-ADB8-A1CE2887D9C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909720" y="744480"/>
            <a:ext cx="4964040" cy="3722760"/>
          </a:xfrm>
          <a:prstGeom prst="rect">
            <a:avLst/>
          </a:prstGeom>
          <a:ln w="0">
            <a:noFill/>
          </a:ln>
        </p:spPr>
      </p:sp>
      <p:sp>
        <p:nvSpPr>
          <p:cNvPr id="139"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 overdracht vanuit het primair onderwijs verloopt nog niet altijd zoals het zou moeten. Poelman en Van den Dries (2005) geven hiervoor de volgende argu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Onvoldoende aandacht voor en kennis over dyslexie op scho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erschillende overdrachtsprocedures, onderwijsrapporten en leerlingdossiers</a:t>
            </a:r>
            <a:br>
              <a:rPr sz="1200"/>
            </a:br>
            <a:r>
              <a:rPr b="0" lang="nl-NL" sz="1200" spc="-1" strike="noStrike">
                <a:solidFill>
                  <a:srgbClr val="000000"/>
                </a:solidFill>
                <a:latin typeface="Times New Roman"/>
              </a:rPr>
              <a:t>Sommige VO scholen vragen alleen maar de schoolresultaten en handelingsplannen van groep 7 en 8 op. Hierdoor krijgt de VO school geen volledig beeld. Het kan bijvoorbeeld zo zijn dat een leerling in groep 3 moeite had met de klank-letterkoppeling en in groep 3 en 4 aanvullende leesbegeleiding heeft gekregen. Dit is niet meer te herleiden, wanneer er slechts gegevens van bepaalde groepen worden opgevraagd. Belangrijke gegevens gaan dan verl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Soms alleen maar koude overdrac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Poelman, E., &amp; Dries, E. van den. (2005). Perspectieven voor de overdracht. Remediaal, 5(6), 40-4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2760D-1C82-4C0F-8462-6198D46A242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909720" y="744480"/>
            <a:ext cx="4964040" cy="3722760"/>
          </a:xfrm>
          <a:prstGeom prst="rect">
            <a:avLst/>
          </a:prstGeom>
          <a:ln w="0">
            <a:noFill/>
          </a:ln>
        </p:spPr>
      </p:sp>
      <p:sp>
        <p:nvSpPr>
          <p:cNvPr id="142"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bevat signaleringstoetsen die aan het begin van het schooljaar bij alle brugklasleerlingen kunnen worden afgenomen. Het signaleringsonderzoek naar dyslexie bestaat uit een zinnendictee en een stilleestoets. </a:t>
            </a:r>
            <a:br>
              <a:rPr sz="1200"/>
            </a:br>
            <a:r>
              <a:rPr b="0" lang="nl-NL" sz="1200" spc="-1" strike="noStrike">
                <a:solidFill>
                  <a:srgbClr val="000000"/>
                </a:solidFill>
                <a:latin typeface="Times New Roman"/>
              </a:rPr>
              <a:t>In 2005 is er een herziene versie van de signaleringstoetsen verschenen. De normering is bijgesteld en de overschrijftaak is komen te vervallen (van dit instrument bleek de signalerende waarde minder groot). </a:t>
            </a:r>
            <a:br>
              <a:rPr sz="1200"/>
            </a:br>
            <a:r>
              <a:rPr b="0" lang="nl-NL" sz="1200" spc="-1" strike="noStrike">
                <a:solidFill>
                  <a:srgbClr val="000000"/>
                </a:solidFill>
                <a:latin typeface="Times New Roman"/>
              </a:rPr>
              <a:t>Bij de toetsen is het van belang dat men zich houdt aan de afnamevoorschriften. Deze staan precies uitgeschreven. Daarbij is het ook belangrijk dat de toetsen zorgvuldig worden nageke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eelgehoord misverstand is dat dyslectische leerlingen de toetsen uit het protocol niet hoeven te maken. Ook dyslectische leerlingen en leerlingen bij wie al problemen met lezen en spellen zijn gesignaleerd, kunnen deze toetsen maken. Op deze manier kan het actuele lees- en spellingniveau in kaart worden gebrac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s zeker niet zo dat scholen zich moeten beperken tot de twee hier genoemde toetsen. Toetsen om zicht te krijgen op begrijpend lezen, woordenschat, rekenvaardigheid en het welbevinden van de leerling kunnen ook deel uitmaken van het signaleringsonderzoek om zo het beeld van een leerling zo compleet mogelijk te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Eventueel de studenten bij aanvang van het college zelf (een deel van) het zinnendictee en/of de stilleestoets behorende bij het Protocol Dyslexie Voortgezet Onderwijs laten m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9E07-9C96-4BE0-BF15-749FCDAAB1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909720" y="744480"/>
            <a:ext cx="4964040" cy="3722760"/>
          </a:xfrm>
          <a:prstGeom prst="rect">
            <a:avLst/>
          </a:prstGeom>
          <a:ln w="0">
            <a:noFill/>
          </a:ln>
        </p:spPr>
      </p:sp>
      <p:sp>
        <p:nvSpPr>
          <p:cNvPr id="145"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het zinnendictee wordt bepaald hoe de spellingvaardigheid bij brugklassers tot stand is gekomen. Per schooltype verschilt het aantal zinnen dat een leerling op moet schrijven. De moeilijkheidsgraad van de zinnen neemt toe. Het aantal fout geschreven woorden wordt opgeteld en er wordt per schooltype een vergelijking met een normgroep gemaakt. De ervaring leert dat het volgende geldt: hoe hoger het schooltype, hoe minder fouten (ondanks het feit dat de leerlingen meer zinnen moeten opschrij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F476-BF21-4F75-95E5-523ED73825E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909720" y="744480"/>
            <a:ext cx="4964040" cy="3722760"/>
          </a:xfrm>
          <a:prstGeom prst="rect">
            <a:avLst/>
          </a:prstGeom>
          <a:ln w="0">
            <a:noFill/>
          </a:ln>
        </p:spPr>
      </p:sp>
      <p:sp>
        <p:nvSpPr>
          <p:cNvPr id="14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Met de stilleestoets wordt de stilleessnelheid van brugklasleerlingen bepaald. Er is gekozen voor een stilleestoets, omdat toetsen waarbij leerlingen hardop moeten lezen zeer tijdsintensief zijn. De leerlingen krijgen drie minuten de tijd om de tekst ‘Hoe gevaarlijk is een tekenbeet?’ te lezen en moeten daarbij na elke minuut een rondje om het laatst gelezen woord zetten. Na drie minuten wordt de tekst opgehaald en noteert de leerling wat hij nog weet over het verhaal. Uiteindelijk wordt de gegeven samenvatting niet gescoord. Mocht het zo zijn dat het verhaal van de leerling summier, onjuist of warrig is weergegeven, dan maakt de docent hier een aantekening van. Het gemiddeld aantal gelezen woorden in een minuut wordt bepaald en er wordt een vergelijking gemaakt met de normtabel van het schooltype dat door de leerling gevolgd word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n Bijlage 17 van het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is de eerdere versie van de stilleestoets te vinden (dit is dus niet de herziene versie). Om een beeld te krijgen van de toets, kan deze bijlage bekeken worden. Voor de daadwerkelijke afname is het daarentegen van belang dat men beschikt over de nieuwe handleiding en norm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64AD-816B-48D3-A2D6-C75931E655D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909720" y="744480"/>
            <a:ext cx="4964040" cy="3722760"/>
          </a:xfrm>
          <a:prstGeom prst="rect">
            <a:avLst/>
          </a:prstGeom>
          <a:ln w="0">
            <a:noFill/>
          </a:ln>
        </p:spPr>
      </p:sp>
      <p:sp>
        <p:nvSpPr>
          <p:cNvPr id="15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ehoort de leerling tot de 10 </a:t>
            </a:r>
            <a:r>
              <a:rPr b="0" lang="nl-NL" sz="1200" spc="-1" strike="noStrike">
                <a:solidFill>
                  <a:srgbClr val="000000"/>
                </a:solidFill>
                <a:latin typeface="Times New Roman"/>
                <a:ea typeface="Times New Roman"/>
              </a:rPr>
              <a:t>à</a:t>
            </a:r>
            <a:r>
              <a:rPr b="0" lang="nl-NL" sz="1200" spc="-1" strike="noStrike">
                <a:solidFill>
                  <a:srgbClr val="000000"/>
                </a:solidFill>
                <a:latin typeface="Times New Roman"/>
              </a:rPr>
              <a:t> 25 procent zwakst scorende leerlingen (vergelijkbaar met E en D scores van het CITO), dan is er reden om deze leerling individueel verder te onderzoeken. Dat wil echter zeker niet zeggen dat alle leerlingen die uitvallen op de signaleringstoets dyslectisch zijn. Het gaat om een signaleringstoets, niet om een dyslexie toets! Psychodiagnostisch onderzoek moet uitwijzen of er daadwerkelijk sprake is van dyslexie (zie </a:t>
            </a:r>
            <a:r>
              <a:rPr b="0" i="1" lang="nl-NL" sz="1200" spc="-1" strike="noStrike">
                <a:solidFill>
                  <a:srgbClr val="000000"/>
                </a:solidFill>
                <a:latin typeface="Times New Roman"/>
              </a:rPr>
              <a:t>Thema 1 – College 1 Dyslexie in het VO</a:t>
            </a:r>
            <a:r>
              <a:rPr b="0" lang="nl-N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Bij uitval op de signaleringstoetsen wordt er in het dossier nagegaan of er voldoende informatie is over de leergeschiedenis van de leerling. De informatie over de leergeschiedenis is niet alleen van belang voor het vaststellen van de didactische resistentie, maar ook om te zien wat er al eerder aan begeleiding is geboden. Als er al eerder begeleiding is geboden, dan kan de hulp hierop aanslui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3529-9E28-4C7D-BF81-A385976F8E7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909720" y="744480"/>
            <a:ext cx="4964040" cy="3722760"/>
          </a:xfrm>
          <a:prstGeom prst="rect">
            <a:avLst/>
          </a:prstGeom>
          <a:ln w="0">
            <a:noFill/>
          </a:ln>
        </p:spPr>
      </p:sp>
      <p:sp>
        <p:nvSpPr>
          <p:cNvPr id="15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bserveren is meer tijdsintensief dan signalering op basis van de basisschoolgegevens of signalering op basis van toetsresultaten. Het voordeel van observeren is echter wel dat je daadwerkelijk zicht krijgt op de belemmeringen waar leerlingen met lees- en/of spellingproblemen in de klas, binnen de verschillende vakgebieden, tegenaan lopen. Het is raadzaam om observeren te zien als aanvulling op de overdracht- en/ of toetsgegevens. Om te observeren in de klassensituatie kun je de ‘Signalenlijst lees- en spellingproblemen’ (Bijlage 3) uit het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inzet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F3D0A-31ED-48DD-B12D-55C37B2C932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09720" y="744480"/>
            <a:ext cx="4964040" cy="3722760"/>
          </a:xfrm>
          <a:prstGeom prst="rect">
            <a:avLst/>
          </a:prstGeom>
          <a:ln w="0">
            <a:noFill/>
          </a:ln>
        </p:spPr>
      </p:sp>
      <p:sp>
        <p:nvSpPr>
          <p:cNvPr id="15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eel Signalenlijst lees- en spellingproblemen (</a:t>
            </a:r>
            <a:r>
              <a:rPr b="0" i="1" lang="nl-NL" sz="1200" spc="-1" strike="noStrike">
                <a:solidFill>
                  <a:srgbClr val="000000"/>
                </a:solidFill>
                <a:latin typeface="Times New Roman"/>
              </a:rPr>
              <a:t>Protocol Dyslexie Voortgezet Onderwijs </a:t>
            </a:r>
            <a:r>
              <a:rPr b="0" lang="nl-NL" sz="1200" spc="-1" strike="noStrike">
                <a:solidFill>
                  <a:srgbClr val="000000"/>
                </a:solidFill>
                <a:latin typeface="Times New Roman"/>
              </a:rPr>
              <a:t>– Bijlag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6219-E7AE-4186-8116-0FF4DB44A60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09720" y="744480"/>
            <a:ext cx="4964040" cy="3722760"/>
          </a:xfrm>
          <a:prstGeom prst="rect">
            <a:avLst/>
          </a:prstGeom>
          <a:ln w="0">
            <a:noFill/>
          </a:ln>
        </p:spPr>
      </p:sp>
      <p:sp>
        <p:nvSpPr>
          <p:cNvPr id="16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zijn leerlingen die hun dyslexie hebben weten te compenseren en daarbij (net) niet zijn uitgevallen op de signaleringsinstrumenten. Signaleringstoetsen of een lijst met ‘dyslexiesymptomen’ zijn bij deze groep niet voorhanden. Wat we vaak wel zien, is dat deze leerlingen traag lezen en een uitval laten zien op spellinggebied (zowel moedertaal, als vreemde taal) in hogere leerjaren. </a:t>
            </a:r>
            <a:br>
              <a:rPr sz="1200"/>
            </a:br>
            <a:br>
              <a:rPr sz="1200"/>
            </a:br>
            <a:r>
              <a:rPr b="0" lang="nl-NL" sz="1200" spc="-1" strike="noStrike">
                <a:solidFill>
                  <a:srgbClr val="000000"/>
                </a:solidFill>
                <a:latin typeface="Times New Roman"/>
              </a:rPr>
              <a:t>Signalen voor dyslexie in de hogere leerja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kan het werktempo van de klas niet bijhouden, heeft het werk niet af of te laat ingeleverd en heeft minder zorg voor het we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cijfers voor de talen en/of zaakvakken dalen. Soms gaat dit gepaard met een verminderde of juist extra inzet van de leer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moet onevenredig veel tijd aan huiswerk best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vertoont teruggetrokken of juist opvallend storend gedrag in de k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 leerling is angstig over zijn studieresultaten, vertoont vermijdingsgedrag en is vaker dan normaal afwezig bij proefwerken of overho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Wanneer je het idee hebt dat er bij oudere leerlingen wellicht sprake zou kunnen zijn van dyslexie, neem dan contact op met de zorgspecialist op schoo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09720" y="744480"/>
            <a:ext cx="4964040" cy="3722760"/>
          </a:xfrm>
          <a:prstGeom prst="rect">
            <a:avLst/>
          </a:prstGeom>
          <a:ln w="0">
            <a:noFill/>
          </a:ln>
        </p:spPr>
      </p:sp>
      <p:sp>
        <p:nvSpPr>
          <p:cNvPr id="11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4 is Passend onderwijs ingevoerd waarmee scholen een zorgplicht hebben gekregen. Dit betekent dat scholen er verantwoordelijk voor zijn om leerlingen die extra ondersteuning nodig hebben, zoals dyslectische leerlingen, een goede onderwijsplek te bieden. Om dit te realiseren zijn regionale samenwerkingsverbanden opgericht. Deze samenwerkingsverbanden ontvangen de middelen voor de extra ondersteuning en verdelen deze middelen over de scholen. Dit betekent dat de scholen binnen het samenwerkingsverband afspraken moeten maken over welke begeleiding de scholen bieden aan welke leerlingen. Passend onderwijs beoogt meer maatwerk in het onderwijs, meer duidelijkheid over toewijzing van extra ondersteuning, minder bureaucratie, investering in leraren zodat zij in staat zijn goede, passende ondersteuning te bieden en betere afstemming tussen onderwijs en zorg. Met als uiteindelijk doel dat elke leerling een passende onderwijsplek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zien de zorgplicht van scholen is het van belang dat zij goed zicht hebben op hun leerlingen en specifiek op welke (extra) ondersteuning leerlingen nodig hebben. Dit betekent dat scholen een signaleringsfunctie hebben. In het geval van dyslexie gaat het om het signaleren van lees- en spellingproblemen bij leerlin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ron: www.passendonderwijs.n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Tijdelijke aanduiding voor dianummer 3"/>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8284-1849-4CA6-8288-A6E7E31447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F7F9-4AE4-4A53-B054-7415B41ED7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PlaceHolder 1"/>
          <p:cNvSpPr>
            <a:spLocks noGrp="1"/>
          </p:cNvSpPr>
          <p:nvPr>
            <p:ph type="sldImg"/>
          </p:nvPr>
        </p:nvSpPr>
        <p:spPr>
          <a:xfrm>
            <a:off x="909720" y="744480"/>
            <a:ext cx="4964040" cy="3722760"/>
          </a:xfrm>
          <a:prstGeom prst="rect">
            <a:avLst/>
          </a:prstGeom>
          <a:ln w="0">
            <a:noFill/>
          </a:ln>
        </p:spPr>
      </p:sp>
      <p:sp>
        <p:nvSpPr>
          <p:cNvPr id="118"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Signalering van dyslexie en benodigde ondersteuning kan in het voortgezet onderwijs op verschillende momenten en manieren plaatsvinden. De gegevens die worden uitgewisseld tijdens de overdracht po-vo kunnen reden tot zorg zijn (1). Daarnaast kan signalering van mogelijke dyslexie plaatsvinden op basis van signaleringsinstrumenten (2), maar ook door gebruik te maken van observatiegegevens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Van een docent wordt niet gevraagd dat hij de diagnose dyslexie stelt. Wel wordt van hem verwacht dat hij eventuele dyslexiekenmerken herkent en hiernaar handelt. Wanneer hij opvallendheden in de lees- en/of spellingontwikkeling bij een leerling opmerkt, dient hij de zorgspecialist op school te waarschuw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6B2A-6C2C-47B0-90E8-72060DA50C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909720" y="744480"/>
            <a:ext cx="4964040" cy="3722760"/>
          </a:xfrm>
          <a:prstGeom prst="rect">
            <a:avLst/>
          </a:prstGeom>
          <a:ln w="0">
            <a:noFill/>
          </a:ln>
        </p:spPr>
      </p:sp>
      <p:sp>
        <p:nvSpPr>
          <p:cNvPr id="121"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ls dyslectische leerlingen de overstap naar het voortgezet onderwijs maken, zijn zij en hun ouders vaak erg gericht op het vinden van het antwoord op de vraag: wat doet de school aan dyslexie? Mede op basis daarvan wordt de schoolkeuze gemaakt. </a:t>
            </a:r>
            <a:br>
              <a:rPr sz="1200"/>
            </a:br>
            <a:r>
              <a:rPr b="0" lang="nl-NL" sz="1200" spc="-1" strike="noStrike">
                <a:solidFill>
                  <a:srgbClr val="000000"/>
                </a:solidFill>
                <a:latin typeface="Times New Roman"/>
              </a:rPr>
              <a:t>Dat de docenten de benodigde kennis over dyslexie hebben, is hierbij natuurlijk van belang. Maar daarnaast is het voor het waarborgen van de doorgaande lijn in de ontwikkeling essentieel dat er een goede gegevensoverdracht plaatsvindt van basisonderwijs (primair onderwijs) naar voortgezet onderwijs. Door op dat vlak een goede samenwerking te realiseren, kan de leerling die de overstap maakt naar de middelbare school, vanaf het begin zo goed mogelijk worden geholpen en kan er een ononderbroken begeleiding worden gerealiseer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Aanvullende werkvorm 1</a:t>
            </a:r>
            <a:br>
              <a:rPr sz="1200"/>
            </a:br>
            <a:r>
              <a:rPr b="0" i="1" lang="nl-NL" sz="1200" spc="-1" strike="noStrike">
                <a:solidFill>
                  <a:srgbClr val="000000"/>
                </a:solidFill>
                <a:latin typeface="Times New Roman"/>
              </a:rPr>
              <a:t>U kunt een link maken met de dvd ‘Leerlingen over dyslexie’. Hierin worden 12 VO leerlingen, die verschillende onderwijsrichtingen volgen, aan het woord gelaten. Zij vertellen over hun dyslexie aan de hand van 10 thema’s. Het thema ‘Schoolkeuze’ [2.30 min.] kan getoon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0E56-E2A6-4EBA-9EDA-BC05E8C629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909720" y="744480"/>
            <a:ext cx="4964040" cy="3722760"/>
          </a:xfrm>
          <a:prstGeom prst="rect">
            <a:avLst/>
          </a:prstGeom>
          <a:ln w="0">
            <a:noFill/>
          </a:ln>
        </p:spPr>
      </p:sp>
      <p:sp>
        <p:nvSpPr>
          <p:cNvPr id="124"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lk jaar stromen er weer leerlingen met lees- en/of spellingproblemen vanuit het basisonderwijs het voortgezet onderwijs binnen. Het gaat hier om leerlingen die op de basisschool al als dyslectisch gediagnosticeerd zijn, leerlingen waar in het onderwijskundig rapport staat vermeld dat er vermoedelijk sprake is van dyslexie, maar ook leerlingen die op de basisschool geen grote problemen hebben gehad met lezen en spellen. Zij vertonen in de brugklas, dan wel in de hogere jaren, opeens uitval. </a:t>
            </a:r>
            <a:br>
              <a:rPr sz="1200"/>
            </a:br>
            <a:br>
              <a:rPr sz="1200"/>
            </a:br>
            <a:r>
              <a:rPr b="0" lang="nl-NL" sz="1200" spc="-1" strike="noStrike">
                <a:solidFill>
                  <a:srgbClr val="000000"/>
                </a:solidFill>
                <a:latin typeface="Times New Roman"/>
              </a:rPr>
              <a:t>Van elke leerling ontvangt de vo school een onderwijskundig rapport. Leerlingen hebben, wanneer ze op het voortgezet onderwijs komen, al een hele leergeschiedenis achter de rug. Het is noodzakelijk dat de school op de hoogte is van deze leergeschiedenis en in het geval van mogelijke dyslexie: specifiek op het gebied van lezen en spell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de voorinformatie van de basisschool nauwgezet in kaart te brengen, is de Vragenlijst leergeschiedenis lees- en spellingvaardigheid ontwikkeld. Een basisschool kan gevraagd worden deze lijst in te vullen als er in het onderwijskundig rapport of op het aanmeldingsformulier gesproken wordt over lees- en/of spellingproblemen. De Vragenlijst geeft informatie over het lees- en spellingniveau, maar ook over de manier waarop en het tempo waarin de vaardigheden zich ontwikkeld hebben. Daarnaast staat beschreven of de leerling extra hulp heeft ontvangen en waar deze extra hulp uit bestond. Het invullen van de vragenlijst vraagt van basisscholen een zekere tijdsinvestering. Het is daarom belangrijk dat zij zien dat er op het vo daadwerkelijk iets met de gegevens gedaan wordt en dat de effecten worden teruggekoppeld. </a:t>
            </a:r>
            <a:br>
              <a:rPr sz="1200"/>
            </a:br>
            <a:r>
              <a:rPr b="0" lang="nl-NL" sz="1200" spc="-1" strike="noStrike">
                <a:solidFill>
                  <a:srgbClr val="000000"/>
                </a:solidFill>
                <a:latin typeface="Times New Roman"/>
              </a:rPr>
              <a:t>Op een aantal plaatsen in het land is nauwe samenwerking tussen po en vo scholen reeds gerealiseerd via samenwerkingsverbanden. Deze nauwe samenwerking verbetert de afstemming en de overdracht.</a:t>
            </a:r>
            <a:r>
              <a:rPr b="0" lang="nl-NL" sz="1200" spc="-1" strike="noStrike">
                <a:solidFill>
                  <a:srgbClr val="ffff00"/>
                </a:solidFill>
                <a:latin typeface="Times New Roman"/>
              </a:rPr>
              <a:t> </a:t>
            </a:r>
            <a:r>
              <a:rPr b="1" i="1" lang="nl-NL" sz="1200" spc="-1" strike="noStrike" u="sng">
                <a:solidFill>
                  <a:srgbClr val="ffff00"/>
                </a:solidFill>
                <a:uFillTx/>
                <a:latin typeface="Times New Roman"/>
              </a:rPr>
              <a:t>[voorbeeld Hedwig invo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r is niet alleen een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Ook binnen het basisonderwijs wordt er gebruik gemaakt van dyslexie protocolle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70AC-DD32-4DB1-AD7A-BE29451CE66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909720" y="744480"/>
            <a:ext cx="4964040" cy="3722760"/>
          </a:xfrm>
          <a:prstGeom prst="rect">
            <a:avLst/>
          </a:prstGeom>
          <a:ln w="0">
            <a:noFill/>
          </a:ln>
        </p:spPr>
      </p:sp>
      <p:sp>
        <p:nvSpPr>
          <p:cNvPr id="127"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nderdeel Vragenlijst leergeschiedenis lees- en spellingvaardigheid (</a:t>
            </a:r>
            <a:r>
              <a:rPr b="0" i="1" lang="nl-NL" sz="1200" spc="-1" strike="noStrike">
                <a:solidFill>
                  <a:srgbClr val="000000"/>
                </a:solidFill>
                <a:latin typeface="Times New Roman"/>
              </a:rPr>
              <a:t>Protocol Dyslexie Voortgezet Onderwijs</a:t>
            </a:r>
            <a:r>
              <a:rPr b="0" lang="nl-NL" sz="1200" spc="-1" strike="noStrike">
                <a:solidFill>
                  <a:srgbClr val="000000"/>
                </a:solidFill>
                <a:latin typeface="Times New Roman"/>
              </a:rPr>
              <a:t> – Bijlage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5915-BCC2-47E3-BDEF-B92BD088C5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909720" y="744480"/>
            <a:ext cx="4964040" cy="3722760"/>
          </a:xfrm>
          <a:prstGeom prst="rect">
            <a:avLst/>
          </a:prstGeom>
          <a:ln w="0">
            <a:noFill/>
          </a:ln>
        </p:spPr>
      </p:sp>
      <p:sp>
        <p:nvSpPr>
          <p:cNvPr id="130"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87CC-5CB8-419D-ACD4-7EF076D06C7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909720" y="744480"/>
            <a:ext cx="4964040" cy="3722760"/>
          </a:xfrm>
          <a:prstGeom prst="rect">
            <a:avLst/>
          </a:prstGeom>
          <a:ln w="0">
            <a:noFill/>
          </a:ln>
        </p:spPr>
      </p:sp>
      <p:sp>
        <p:nvSpPr>
          <p:cNvPr id="133"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invullen van vragenlijsten is een vorm van koude overdracht. Met koude overdracht bedoelen we dat de gegevens middels formulieren en dossiers worden uitgewisseld. Een overdracht waarbij er daadwerkelijk gesprekken tussen de scholen plaatsvinden, noemen we een warme overdracht. Dit heeft de voorkeur, omdat er in dat geval daadwerkelijk persoonlijk gesprekken over (zorg)leerlingen gevoerd wor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T-vo = remedial teacher van het voortgezet 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IB-po = intern begeleider van het primair onderwijs/basisonderwij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Kleijnen, R., Klein, B., Förrer, M., &amp; Schoots, H. (2005). Procesbegeleiding overgang PO – VO. Conferentie ‘Dyslexie, daar zit meer achter’. Masterplan Dyslexie.</a:t>
            </a:r>
            <a:r>
              <a:rPr b="0" lang="nl-NL"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43360" y="9429840"/>
            <a:ext cx="293832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4BC6-C393-41BF-B84F-7E7BBAC964C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909720" y="744480"/>
            <a:ext cx="4964040" cy="3722760"/>
          </a:xfrm>
          <a:prstGeom prst="rect">
            <a:avLst/>
          </a:prstGeom>
          <a:ln w="0">
            <a:noFill/>
          </a:ln>
        </p:spPr>
      </p:sp>
      <p:sp>
        <p:nvSpPr>
          <p:cNvPr id="136" name="PlaceHolder 2"/>
          <p:cNvSpPr>
            <a:spLocks noGrp="1"/>
          </p:cNvSpPr>
          <p:nvPr>
            <p:ph type="body"/>
          </p:nvPr>
        </p:nvSpPr>
        <p:spPr>
          <a:xfrm>
            <a:off x="904680" y="4714560"/>
            <a:ext cx="49719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nvullende werkvorm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aat de studenten (in tweetallen) bespreken hoe de overdracht bij hun op school plaatsvindt van het po naar het vo. Welke knelpunten signaleren zij hierin? Inventariseer de geconstateerde knelpunt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78186D-AB16-4A19-91B2-288BB5AD0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EB443-86B1-4228-B330-894AFA9CE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7F1D8-ECE1-453A-9C76-4CEAE4D819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A7321-6C62-421A-BF8D-B5AEB604C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55220-B5D9-442A-84BE-56BBDD2D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280E1-2E4C-4453-8238-8EDE3B29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35D8C-433D-4BDE-BB89-C4F04AD6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C4D2-44F5-4E48-BA1A-F3EE6EFB7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49F7-6CEC-40FA-B127-DB9CAD212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CC68-DEF3-4A64-B9EF-1D7DF9DE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FA1F-3946-45A7-B736-A7A3B90A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283FA-87D5-45CA-BD84-5FAC34B5D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D821-0136-4152-ADFC-52FBA298F5B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3: Signaleren van leerlingen met dyslexie</a:t>
            </a:r>
            <a:br>
              <a:rPr sz="4400"/>
            </a:b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nelpunte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nelpunten aan bij de overdrach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Onvoldoende aandacht + kennis dyslexie op schol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Verschillende overdrachtsprocedures, onderwijsrapporten en leerlingdossi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Soms alleen maar koude overdracht</a:t>
            </a:r>
            <a:endParaRPr b="0" lang="en-US" sz="32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	</a:t>
            </a:r>
            <a:r>
              <a:rPr b="0" i="1" lang="nl-NL" sz="1800" spc="-1" strike="noStrike">
                <a:solidFill>
                  <a:srgbClr val="000000"/>
                </a:solidFill>
                <a:latin typeface="Times New Roman"/>
              </a:rPr>
              <a:t>(bron: Poelman en Van den Dries, 2005)</a:t>
            </a:r>
            <a:endParaRPr b="0" lang="en-US" sz="1800" spc="-1" strike="noStrike">
              <a:solidFill>
                <a:srgbClr val="000000"/>
              </a:solidFill>
              <a:latin typeface="Times New Roman"/>
            </a:endParaRPr>
          </a:p>
        </p:txBody>
      </p:sp>
      <p:pic>
        <p:nvPicPr>
          <p:cNvPr id="82" name="Picture 7" descr=""/>
          <p:cNvPicPr/>
          <p:nvPr/>
        </p:nvPicPr>
        <p:blipFill>
          <a:blip r:embed="rId1"/>
          <a:stretch/>
        </p:blipFill>
        <p:spPr>
          <a:xfrm>
            <a:off x="7318440" y="404640"/>
            <a:ext cx="1708200" cy="406440"/>
          </a:xfrm>
          <a:prstGeom prst="rect">
            <a:avLst/>
          </a:prstGeom>
          <a:ln w="0">
            <a:noFill/>
          </a:ln>
        </p:spPr>
      </p:pic>
      <p:sp>
        <p:nvSpPr>
          <p:cNvPr id="8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8DC6B-3CCE-4FE6-B4EF-544A193437F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ingsinstrumenten vo</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nnendicte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toe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6" name="Picture 7" descr=""/>
          <p:cNvPicPr/>
          <p:nvPr/>
        </p:nvPicPr>
        <p:blipFill>
          <a:blip r:embed="rId1"/>
          <a:stretch/>
        </p:blipFill>
        <p:spPr>
          <a:xfrm>
            <a:off x="7318440" y="404640"/>
            <a:ext cx="1708200" cy="406440"/>
          </a:xfrm>
          <a:prstGeom prst="rect">
            <a:avLst/>
          </a:prstGeom>
          <a:ln w="0">
            <a:noFill/>
          </a:ln>
        </p:spPr>
      </p:pic>
      <p:sp>
        <p:nvSpPr>
          <p:cNvPr id="8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5777A-09E8-45CD-9D6F-D3EBB7314C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Zinnendictee Het wonderlijke weer</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pellingvaardigheid bij brugklasleerli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0 zinnen (differentiatie naar school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aantal fout geschreven woorden</a:t>
            </a:r>
            <a:endParaRPr b="0" lang="en-US" sz="3200" spc="-1" strike="noStrike">
              <a:solidFill>
                <a:srgbClr val="000000"/>
              </a:solidFill>
              <a:latin typeface="Times New Roman"/>
            </a:endParaRPr>
          </a:p>
        </p:txBody>
      </p:sp>
      <p:pic>
        <p:nvPicPr>
          <p:cNvPr id="90" name="Picture 7" descr=""/>
          <p:cNvPicPr/>
          <p:nvPr/>
        </p:nvPicPr>
        <p:blipFill>
          <a:blip r:embed="rId1"/>
          <a:stretch/>
        </p:blipFill>
        <p:spPr>
          <a:xfrm>
            <a:off x="7318440" y="404640"/>
            <a:ext cx="1708200" cy="406440"/>
          </a:xfrm>
          <a:prstGeom prst="rect">
            <a:avLst/>
          </a:prstGeom>
          <a:ln w="0">
            <a:noFill/>
          </a:ln>
        </p:spPr>
      </p:pic>
      <p:sp>
        <p:nvSpPr>
          <p:cNvPr id="9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4951-B01B-45E7-AEA4-71C0B19F0D0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Stilleestoets "Hoe gevaarlijk is een tekenbeet?"</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tilleessnelheid bij brugklasleerling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minuut rondje om laatst geschreven woord (totale tijd: 3 minute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core: gemiddeld aantal gelezen woorden in 1 minuu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Picture 7" descr=""/>
          <p:cNvPicPr/>
          <p:nvPr/>
        </p:nvPicPr>
        <p:blipFill>
          <a:blip r:embed="rId1"/>
          <a:stretch/>
        </p:blipFill>
        <p:spPr>
          <a:xfrm>
            <a:off x="7318440" y="404640"/>
            <a:ext cx="1708200" cy="406440"/>
          </a:xfrm>
          <a:prstGeom prst="rect">
            <a:avLst/>
          </a:prstGeom>
          <a:ln w="0">
            <a:noFill/>
          </a:ln>
        </p:spPr>
      </p:pic>
      <p:sp>
        <p:nvSpPr>
          <p:cNvPr id="9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53555-C09F-4949-A214-4150EDA3A88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terpretatie scor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erling 10 à 25% zwakst scorenden (vgl. D + E van CITO)? Dan verder onderzoe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Let op: dit is </a:t>
            </a:r>
            <a:r>
              <a:rPr b="0" lang="nl-NL" sz="3200" spc="-1" strike="noStrike" u="sng">
                <a:solidFill>
                  <a:srgbClr val="000000"/>
                </a:solidFill>
                <a:uFillTx/>
                <a:latin typeface="Times New Roman"/>
              </a:rPr>
              <a:t>geen</a:t>
            </a:r>
            <a:r>
              <a:rPr b="0" lang="nl-NL" sz="3200" spc="-1" strike="noStrike">
                <a:solidFill>
                  <a:srgbClr val="000000"/>
                </a:solidFill>
                <a:latin typeface="Times New Roman"/>
              </a:rPr>
              <a:t> diagnose, het is een startpunt.</a:t>
            </a:r>
            <a:endParaRPr b="0" lang="en-US" sz="3200" spc="-1" strike="noStrike">
              <a:solidFill>
                <a:srgbClr val="000000"/>
              </a:solidFill>
              <a:latin typeface="Times New Roman"/>
            </a:endParaRPr>
          </a:p>
        </p:txBody>
      </p:sp>
      <p:pic>
        <p:nvPicPr>
          <p:cNvPr id="98" name="Picture 7" descr=""/>
          <p:cNvPicPr/>
          <p:nvPr/>
        </p:nvPicPr>
        <p:blipFill>
          <a:blip r:embed="rId1"/>
          <a:stretch/>
        </p:blipFill>
        <p:spPr>
          <a:xfrm>
            <a:off x="7318440" y="404640"/>
            <a:ext cx="1708200" cy="406440"/>
          </a:xfrm>
          <a:prstGeom prst="rect">
            <a:avLst/>
          </a:prstGeom>
          <a:ln w="0">
            <a:noFill/>
          </a:ln>
        </p:spPr>
      </p:pic>
      <p:sp>
        <p:nvSpPr>
          <p:cNvPr id="9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4B98-8DF2-42D0-A60F-1C31849B173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bservaties</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vulling op eerdere gegeve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eer tijdsintensie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 echt zicht op problemen klassensituati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2" name="Picture 7" descr=""/>
          <p:cNvPicPr/>
          <p:nvPr/>
        </p:nvPicPr>
        <p:blipFill>
          <a:blip r:embed="rId1"/>
          <a:stretch/>
        </p:blipFill>
        <p:spPr>
          <a:xfrm>
            <a:off x="7318440" y="404640"/>
            <a:ext cx="1708200" cy="406440"/>
          </a:xfrm>
          <a:prstGeom prst="rect">
            <a:avLst/>
          </a:prstGeom>
          <a:ln w="0">
            <a:noFill/>
          </a:ln>
        </p:spPr>
      </p:pic>
      <p:sp>
        <p:nvSpPr>
          <p:cNvPr id="10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1474-9989-4B06-AEAE-33B06435E63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2009880" y="22320"/>
            <a:ext cx="6286320" cy="6835680"/>
          </a:xfrm>
          <a:prstGeom prst="rect">
            <a:avLst/>
          </a:prstGeom>
          <a:ln w="0">
            <a:noFill/>
          </a:ln>
        </p:spPr>
      </p:pic>
      <p:sp>
        <p:nvSpPr>
          <p:cNvPr id="10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85F92-295A-4B14-9C98-5C6F7F1D13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Signalering van dyslexie in de hogere leerjaren</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tempo</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ijfers en inzet</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uiswerk</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drag</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alangst en vermijdingsgedrag</a:t>
            </a:r>
            <a:endParaRPr b="0" lang="en-US" sz="3200" spc="-1" strike="noStrike">
              <a:solidFill>
                <a:srgbClr val="000000"/>
              </a:solidFill>
              <a:latin typeface="Times New Roman"/>
            </a:endParaRPr>
          </a:p>
        </p:txBody>
      </p:sp>
      <p:pic>
        <p:nvPicPr>
          <p:cNvPr id="108" name="Picture 7" descr=""/>
          <p:cNvPicPr/>
          <p:nvPr/>
        </p:nvPicPr>
        <p:blipFill>
          <a:blip r:embed="rId1"/>
          <a:stretch/>
        </p:blipFill>
        <p:spPr>
          <a:xfrm>
            <a:off x="7318440" y="404640"/>
            <a:ext cx="1708200" cy="406440"/>
          </a:xfrm>
          <a:prstGeom prst="rect">
            <a:avLst/>
          </a:prstGeom>
          <a:ln w="0">
            <a:noFill/>
          </a:ln>
        </p:spPr>
      </p:pic>
      <p:sp>
        <p:nvSpPr>
          <p:cNvPr id="10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78B0-0C61-4EA0-8A3F-FEE78C193B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ssend onderwijs (2014)</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school zorgplicht</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ke leerling een passende onderwijsplek</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amenwerking in regionale samenwerkingsverband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en van belang</a:t>
            </a:r>
            <a:endParaRPr b="0" lang="en-US" sz="3200" spc="-1" strike="noStrike">
              <a:solidFill>
                <a:srgbClr val="000000"/>
              </a:solidFill>
              <a:latin typeface="Times New Roman"/>
            </a:endParaRPr>
          </a:p>
        </p:txBody>
      </p:sp>
      <p:pic>
        <p:nvPicPr>
          <p:cNvPr id="52" name="Picture 7" descr=""/>
          <p:cNvPicPr/>
          <p:nvPr/>
        </p:nvPicPr>
        <p:blipFill>
          <a:blip r:embed="rId1"/>
          <a:stretch/>
        </p:blipFill>
        <p:spPr>
          <a:xfrm>
            <a:off x="7318440" y="404640"/>
            <a:ext cx="1708200" cy="406440"/>
          </a:xfrm>
          <a:prstGeom prst="rect">
            <a:avLst/>
          </a:prstGeom>
          <a:ln w="0">
            <a:noFill/>
          </a:ln>
        </p:spPr>
      </p:pic>
      <p:sp>
        <p:nvSpPr>
          <p:cNvPr id="5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E2C7-EE44-4867-B67F-0DCA40BFE9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ignalere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dracht po-vo</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ignaleringsinstrumenten</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bservaties</a:t>
            </a:r>
            <a:endParaRPr b="0" lang="en-US" sz="3200" spc="-1" strike="noStrike">
              <a:solidFill>
                <a:srgbClr val="000000"/>
              </a:solidFill>
              <a:latin typeface="Times New Roman"/>
            </a:endParaRPr>
          </a:p>
        </p:txBody>
      </p:sp>
      <p:pic>
        <p:nvPicPr>
          <p:cNvPr id="56" name="Picture 7" descr=""/>
          <p:cNvPicPr/>
          <p:nvPr/>
        </p:nvPicPr>
        <p:blipFill>
          <a:blip r:embed="rId1"/>
          <a:stretch/>
        </p:blipFill>
        <p:spPr>
          <a:xfrm>
            <a:off x="7318440" y="404640"/>
            <a:ext cx="1708200" cy="406440"/>
          </a:xfrm>
          <a:prstGeom prst="rect">
            <a:avLst/>
          </a:prstGeom>
          <a:ln w="0">
            <a:noFill/>
          </a:ln>
        </p:spPr>
      </p:pic>
      <p:sp>
        <p:nvSpPr>
          <p:cNvPr id="5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61C9-DB83-4D1E-9EE9-FA4FD2D0E2A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verdracht po-v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doet de school aan dyslexie?</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bben de docenten voldoende kennis?</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r ook van essentieel belang: goede gegevensoverdracht po–vo</a:t>
            </a:r>
            <a:endParaRPr b="0" lang="en-US" sz="3200" spc="-1" strike="noStrike">
              <a:solidFill>
                <a:srgbClr val="000000"/>
              </a:solidFill>
              <a:latin typeface="Times New Roman"/>
            </a:endParaRPr>
          </a:p>
        </p:txBody>
      </p:sp>
      <p:pic>
        <p:nvPicPr>
          <p:cNvPr id="60" name="Picture 7" descr=""/>
          <p:cNvPicPr/>
          <p:nvPr/>
        </p:nvPicPr>
        <p:blipFill>
          <a:blip r:embed="rId1"/>
          <a:stretch/>
        </p:blipFill>
        <p:spPr>
          <a:xfrm>
            <a:off x="7318440" y="404640"/>
            <a:ext cx="1708200" cy="406440"/>
          </a:xfrm>
          <a:prstGeom prst="rect">
            <a:avLst/>
          </a:prstGeom>
          <a:ln w="0">
            <a:noFill/>
          </a:ln>
        </p:spPr>
      </p:pic>
      <p:sp>
        <p:nvSpPr>
          <p:cNvPr id="6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14FA-EC16-4A2D-9675-00699339DC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Doorstroom dyslectische leerlingen</a:t>
            </a:r>
            <a:endParaRPr b="0" lang="en-US" sz="40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geschiedenis lezen en spell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genlijst leergeschiedenis lees- en spellingvaardigheid</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len dyslexie</a:t>
            </a:r>
            <a:endParaRPr b="0" lang="en-US" sz="3200" spc="-1" strike="noStrike">
              <a:solidFill>
                <a:srgbClr val="000000"/>
              </a:solidFill>
              <a:latin typeface="Times New Roman"/>
            </a:endParaRPr>
          </a:p>
        </p:txBody>
      </p:sp>
      <p:pic>
        <p:nvPicPr>
          <p:cNvPr id="64" name="Picture 7" descr=""/>
          <p:cNvPicPr/>
          <p:nvPr/>
        </p:nvPicPr>
        <p:blipFill>
          <a:blip r:embed="rId1"/>
          <a:stretch/>
        </p:blipFill>
        <p:spPr>
          <a:xfrm>
            <a:off x="7318440" y="404640"/>
            <a:ext cx="1708200" cy="406440"/>
          </a:xfrm>
          <a:prstGeom prst="rect">
            <a:avLst/>
          </a:prstGeom>
          <a:ln w="0">
            <a:noFill/>
          </a:ln>
        </p:spPr>
      </p:pic>
      <p:sp>
        <p:nvSpPr>
          <p:cNvPr id="6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70963-8774-4967-8734-B332077A1EE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0" y="0"/>
            <a:ext cx="9144000" cy="6937200"/>
          </a:xfrm>
          <a:prstGeom prst="rect">
            <a:avLst/>
          </a:prstGeom>
          <a:ln w="0">
            <a:noFill/>
          </a:ln>
        </p:spPr>
      </p:pic>
      <p:sp>
        <p:nvSpPr>
          <p:cNvPr id="67"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9D96-17EE-45DA-B3C0-170D3691BAA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69" name="PlaceHolder 2"/>
          <p:cNvSpPr>
            <a:spLocks noGrp="1"/>
          </p:cNvSpPr>
          <p:nvPr>
            <p:ph/>
          </p:nvPr>
        </p:nvSpPr>
        <p:spPr>
          <a:xfrm>
            <a:off x="684360" y="162864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oude overdracht: gegevens via formulieren en dossiers uitgewisseld</a:t>
            </a:r>
            <a:br>
              <a:rPr sz="3200"/>
            </a:b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70" name="Picture 7" descr=""/>
          <p:cNvPicPr/>
          <p:nvPr/>
        </p:nvPicPr>
        <p:blipFill>
          <a:blip r:embed="rId1"/>
          <a:stretch/>
        </p:blipFill>
        <p:spPr>
          <a:xfrm>
            <a:off x="7318440" y="404640"/>
            <a:ext cx="1708200" cy="406440"/>
          </a:xfrm>
          <a:prstGeom prst="rect">
            <a:avLst/>
          </a:prstGeom>
          <a:ln w="0">
            <a:noFill/>
          </a:ln>
        </p:spPr>
      </p:pic>
      <p:sp>
        <p:nvSpPr>
          <p:cNvPr id="71"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495A6-1D6B-428A-B565-1110DEB5D8D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Koude versus warme overdracht</a:t>
            </a:r>
            <a:endParaRPr b="0" lang="en-US" sz="4400" spc="-1" strike="noStrike">
              <a:solidFill>
                <a:srgbClr val="000000"/>
              </a:solidFill>
              <a:latin typeface="Times New Roman"/>
            </a:endParaRPr>
          </a:p>
        </p:txBody>
      </p:sp>
      <p:sp>
        <p:nvSpPr>
          <p:cNvPr id="73" name="PlaceHolder 2"/>
          <p:cNvSpPr>
            <a:spLocks noGrp="1"/>
          </p:cNvSpPr>
          <p:nvPr>
            <p:ph/>
          </p:nvPr>
        </p:nvSpPr>
        <p:spPr>
          <a:xfrm>
            <a:off x="684360" y="162864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rme overdracht: uitwisseling via gesprekken:</a:t>
            </a:r>
            <a:endParaRPr b="0" lang="en-US" sz="3200" spc="-1" strike="noStrike">
              <a:solidFill>
                <a:srgbClr val="000000"/>
              </a:solidFill>
              <a:latin typeface="Times New Roman"/>
            </a:endParaRPr>
          </a:p>
          <a:p>
            <a:pPr lvl="1" marL="999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o bezoekt po-school (vooraf)</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 telefonisch contact (remedial teacher vo met interne begeleider po)</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anvullende vragenlijst (schriftelijk) vanuit het vo (als gegevens niet duidelijk zijn)</a:t>
            </a:r>
            <a:endParaRPr b="0" lang="en-US" sz="2400" spc="-1" strike="noStrike">
              <a:solidFill>
                <a:srgbClr val="000000"/>
              </a:solidFill>
              <a:latin typeface="Times New Roman"/>
            </a:endParaRPr>
          </a:p>
          <a:p>
            <a:pPr lvl="1" marL="999360" indent="-603720">
              <a:lnSpc>
                <a:spcPct val="8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tact met ouders en leerling over plan van aanpak (soms met leerkracht po) </a:t>
            </a:r>
            <a:endParaRPr b="0" lang="en-US" sz="2400" spc="-1" strike="noStrike">
              <a:solidFill>
                <a:srgbClr val="000000"/>
              </a:solidFill>
              <a:latin typeface="Times New Roman"/>
            </a:endParaRPr>
          </a:p>
          <a:p>
            <a:pPr lvl="1" marL="9993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                 </a:t>
            </a:r>
            <a:r>
              <a:rPr b="0" i="1" lang="nl-NL" sz="1600" spc="-1" strike="noStrike">
                <a:solidFill>
                  <a:srgbClr val="000000"/>
                </a:solidFill>
                <a:latin typeface="Times New Roman"/>
              </a:rPr>
              <a:t>(Bron: Kleijnen, Klein, Förrer &amp; Schoots, 2006)</a:t>
            </a:r>
            <a:endParaRPr b="0" lang="en-US" sz="1600" spc="-1" strike="noStrike">
              <a:solidFill>
                <a:srgbClr val="000000"/>
              </a:solidFill>
              <a:latin typeface="Times New Roman"/>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7" descr=""/>
          <p:cNvPicPr/>
          <p:nvPr/>
        </p:nvPicPr>
        <p:blipFill>
          <a:blip r:embed="rId1"/>
          <a:stretch/>
        </p:blipFill>
        <p:spPr>
          <a:xfrm>
            <a:off x="7318440" y="404640"/>
            <a:ext cx="1708200" cy="406440"/>
          </a:xfrm>
          <a:prstGeom prst="rect">
            <a:avLst/>
          </a:prstGeom>
          <a:ln w="0">
            <a:noFill/>
          </a:ln>
        </p:spPr>
      </p:pic>
      <p:sp>
        <p:nvSpPr>
          <p:cNvPr id="75"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A059-099C-4F71-A921-9C3648C16A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Maar ook …</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rkracht groep 8 wordt uitgenodigd op v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na enkele maanden onderwij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lefonische terugkoppeling naar po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ea typeface="Times New Roman"/>
              </a:rPr>
              <a:t>→ </a:t>
            </a:r>
            <a:r>
              <a:rPr b="0" lang="nl-NL" sz="3200" spc="-1" strike="noStrike">
                <a:solidFill>
                  <a:srgbClr val="000000"/>
                </a:solidFill>
                <a:latin typeface="Times New Roman"/>
              </a:rPr>
              <a:t>eind eerste schooljaar</a:t>
            </a:r>
            <a:endParaRPr b="0" lang="en-US" sz="3200" spc="-1" strike="noStrike">
              <a:solidFill>
                <a:srgbClr val="000000"/>
              </a:solidFill>
              <a:latin typeface="Times New Roman"/>
            </a:endParaRPr>
          </a:p>
        </p:txBody>
      </p:sp>
      <p:pic>
        <p:nvPicPr>
          <p:cNvPr id="78" name="Picture 7" descr=""/>
          <p:cNvPicPr/>
          <p:nvPr/>
        </p:nvPicPr>
        <p:blipFill>
          <a:blip r:embed="rId1"/>
          <a:stretch/>
        </p:blipFill>
        <p:spPr>
          <a:xfrm>
            <a:off x="7318440" y="404640"/>
            <a:ext cx="1708200" cy="406440"/>
          </a:xfrm>
          <a:prstGeom prst="rect">
            <a:avLst/>
          </a:prstGeom>
          <a:ln w="0">
            <a:noFill/>
          </a:ln>
        </p:spPr>
      </p:pic>
      <p:sp>
        <p:nvSpPr>
          <p:cNvPr id="79"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2139-9953-43BD-BDCD-1F599336225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J. Bruining</cp:lastModifiedBy>
  <dcterms:modified xsi:type="dcterms:W3CDTF">2018-05-14T11:18:37Z</dcterms:modified>
  <cp:revision>94</cp:revision>
  <dc:subject/>
  <dc:title>Goed leesonderwijs</dc:title>
</cp:coreProperties>
</file>