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3E7-D368-42CE-AB0B-2A17E1A0EE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359-E51E-4048-85EA-512E634209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0BF1-188F-4C21-AAFE-07668C34A2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299-D517-4638-B8B0-35B319AC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565-A640-4006-A232-8735DB0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0C909-79A3-4367-90E3-02319833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F671C-2FAF-4489-8911-A67CFC93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ADEF-C575-4444-A255-374FA47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7B5AA-936D-4ECA-B151-67F0FF5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CB79D-61B3-4C9B-9E0D-6A731F7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23EB2-1CF2-4AC8-8DE2-AA796AA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AA3EB-CC08-43D5-B970-776B9038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111C-D588-4EBD-9086-ED0FA546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4A01B-6C43-4163-A582-4894053D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E8228-92E9-4890-B60B-E7053EEE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67D-1FBC-4427-94D6-BDFD7677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9A3FB-8A9B-4047-B23D-60E7B51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560C4-5463-40B8-885C-C21F744A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1FB9B-CDD2-48F2-A210-8609A6AE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D5E56-EED8-4226-939F-E0584A56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4002-87CC-4C62-AB3F-A12CFA55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E9883-D187-4428-B7B6-4738986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0C2A6-C28C-4067-B675-9B4AF5D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311C0-8D64-4D65-BB94-1EAA6DF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C6FE5-4D03-46E0-8D77-2409B42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BC15-4887-4144-94CA-6704F333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DD7-CFC6-4CB3-ADA8-114B851B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2628-A5DC-41B4-97E5-B1FF831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5E0BC-D940-4792-B1EE-FFE83C61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B55FB-50A7-467D-AB83-8A24203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90C1-9617-429B-B780-3136D061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07AA8-4F9D-4DC7-A680-6234D4B0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93608-C91A-43C9-B1F8-B6E2256E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0E19-2D02-4FA1-9808-5756538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48B9B-3889-44A6-86B8-F55A055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E1D10-AA5B-4F57-A773-8E97C2C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3765B-D96C-406E-A02E-561E579D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ECC-9FAC-44E7-97F1-65B373C5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99DE8-8B6E-4F95-95E9-B608ADAB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E902-BED1-4AB7-9190-079459CB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D9A30-24D3-4EED-A04E-B2423A9B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BB8F4-9C8E-46E5-88E5-1797D8F3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8140E-B8A8-4C10-97C2-2973ACCA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4DF18-1E49-45C9-BBB1-4232B62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68C7D-C802-4318-BC5A-6E39CDD5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D6D79-ADD5-4548-BD2F-702A72F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0DAA0-E03B-4D73-B411-B8D6E16F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65082-8E48-4B57-B0BA-9D1AD6D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646E-27D5-4933-BE43-92E23E12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1417B-259B-43A7-9E23-ED2CFC8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4BCFF-1178-4E94-AE78-A1D3231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ADC3D-7F89-4385-9E6A-8C6CD626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BC908-66BB-4F9D-A20F-A1B9EF0F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FCF5C-9D68-4D42-9CC0-49D4E622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52984-4ED7-414D-89AC-2FFEC865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013EE-4411-4040-AB96-6153B979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615C7-B943-455D-8ADB-48E8CC4E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E3931-659D-47BA-854F-9F7C5B09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EBB0A-A06C-485F-AB25-C521AC0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0DA1-2603-4610-8679-B5592592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E01C3-1FF1-4323-8673-1B3F97EA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40D9B-4EF7-461E-B518-CF071EC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1ADD2-BFA9-42DB-AF42-2842B55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6149B-B487-4CEE-BD91-0A3DC8FB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32D5C-A707-4326-A794-33A7F5CA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D758C-9864-4ACA-8C1E-2D05DD4B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F1B5C-1693-4319-B102-49415829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47BF-77C7-4C43-94F9-ACAAC12B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FDF2-8E48-4B8F-8231-415B3533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7870-1A8E-4AB8-BDF1-965D0354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5314-959C-4307-9813-F0AEF4C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188-01C7-455C-9925-6AFF9CF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35EF-A2D0-4A91-A1FC-86DE9DC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5BB-F7DF-4131-8E11-E4647D3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0A3D-A993-4F22-86EA-9DC78BD0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9DE-490A-4AAC-AA47-B355787B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D1D1-7C59-4414-AA45-8E3BD510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9B3E-D0BB-4EFC-B091-618D6F7B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4D16-2E5C-4785-9DE1-725EDE9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75B5-2272-43A1-B92B-1A2B3190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4120-B831-4CC4-9CB0-02372794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1D7A-CF3C-4D6D-A4F0-23FBF1E8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228-206C-43E9-888F-2E2C5484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EC82-FC6A-454D-9500-7914E87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5627-FEA1-44B0-A815-D022713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B404-A8B6-4B30-A3A1-F1EBBAD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225F-07B0-4EEE-8E06-EA919B0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565C-03FD-4213-8014-4CC9929D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0679-D489-4A3D-B77B-0F156771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5A24-BA9A-49B3-B452-73A17374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8CEE-4050-4CC2-B283-C5450074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CD8F-0632-4F7E-9D0A-63BA03C6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45EA-14B3-4263-BC17-349040B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078-F427-409E-A84B-1BD09A0A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CBA8-680E-4232-A619-A2BC5E2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EAE6F-DD61-4F74-9CD4-301BDC30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E8BBE-0933-4976-A352-D4369D0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011E-7777-4B9D-8111-998147B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9EF9-7C7A-445A-91F0-27CA83A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7D61-9F5D-42E8-9F8F-EC350D0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D486-EC12-47FF-A564-F404345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846B-06A2-4F3B-B541-BB0FDD56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BB79-9988-47F1-A80C-04D8C562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9754-ED38-4CB7-860E-32F0ED50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6FB-204F-4EC7-8FD2-42502916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BA32-E0E0-4E43-9063-8E76682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B7F7-1383-4441-A7E1-77E3D0B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AB35-C640-40C6-8688-A1B072B1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F30B-B431-43F8-9C93-3D31D00F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0484-A6C1-46EB-9AB7-CC337DE3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BB23-0FE8-499B-BE12-E721DDF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5265-9496-4251-A896-07EC2D2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10E70-0F39-4516-8E29-6B5BDF8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B5FD4-CF22-4732-ABD3-4BD94B89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9569-D576-462A-B331-FE12205F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152-7A8B-4A3B-9D0A-48F9C18B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EC9E-CF66-48F3-BC94-8D73A688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8EF5-DDE1-45EB-AF72-D558786E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669E-55B5-423D-99E4-6232675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68BD-155E-4287-B171-F842B6FB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1833-3470-4EA2-9557-80FCA978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A893C-0742-43CC-BFDB-C0A89E3D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F7013-8FA1-4B0E-BAF7-B5A56A92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953B-B551-4447-B76F-5F64A2AF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1257-2D0B-4277-89D5-D0F11B3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AA84-A293-4CBE-B663-DCA9B6B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914-F38F-48F5-BC3B-25C077F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A063-EBF4-4F8B-8529-5FE49B94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2F20C-4E51-45D7-AD6B-F70B04C1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E9F2-DE48-49EE-9359-C53971D0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EE6D9-4FDE-41A5-8C80-54BEDE28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B9809-FCBE-47E8-AD00-29FD203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9268-EFE0-4F87-8130-CECF2E23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16F94-D93F-4CC5-B18D-97E53BD5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7CA4B-6DD0-47EE-BCCA-A832FE44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042D9-A91A-4B38-B80D-95463D68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77A6-3282-42B8-A0D9-6ED0DF1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429-B9B8-4715-B721-15DF375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BB4CE-DD3F-46CB-B987-B1E8E685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9858D-74FC-4722-9EFC-509A586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D7AC3-ACE8-4BF3-A80E-1595FDC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D84F-1395-4DB7-A383-FDEEF320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32285-BE61-4B55-9B1B-EE55CF31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9D35B-102C-4DC8-B1CC-00B72802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AD8C1-6426-43C8-B6FA-28E1DC32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EE8E2-4CAC-4CB6-90E1-1B3DD3ED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AB24-78B3-4F49-BBC2-30CA3C8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18ED-9E51-453A-AD4B-0AA9702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EF8-ACF0-46A6-8C16-759DF81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6BE9-C0D0-4971-B1E3-2736DDD0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1AE15-B61C-43B3-B192-A7F37BE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1B06-0B70-4400-A494-D9B2E30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CD7B-231C-450E-8FAF-E9B7DE6B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887CB-F2E0-4D96-9348-6E87E5B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AF93-DBA8-45D6-9A78-69640AC5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0E47-C11D-46CD-BB20-93611E04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54515-CA8F-4825-A6B3-ADD2AEB3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4F7C5-70A9-44AA-B1FD-DFA0613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FE649-9AC9-475A-A7EB-2583FB68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5F7E-816E-455B-B79A-971505201B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CD4-9A66-49DE-BCA5-142D8C8D7B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0042-EFA8-431D-BCBC-37C094C0B0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1109-6C0D-44A2-A781-F54FE3545A5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E29C-DADB-4CE2-A933-BC2AC30925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9ED-69FD-4C51-933B-CD450F63CA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36A-DA84-4885-82D0-FCA27F9E00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DDC9-2D05-4DFB-8424-5E3A06C99A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9F1E-99B0-43EB-9695-F3A2A0F26F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97EA-B8F1-4724-92DC-6F772D15C1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145-F258-473C-BB88-E7547DC374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9D2E-7367-4049-8651-D30DA2B7AB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B92-347D-4DCC-AB82-474E3EEFC2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zetten haakse hoek</a:t>
            </a:r>
            <a:br>
              <a:rPr sz="4400"/>
            </a:b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 behulp van de 3 4 5 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 beide punten met een k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al de pin uit de bodem en teken met de (passer) cirkel bij 4 me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DSC01119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7"/>
          <p:cNvSpPr/>
          <p:nvPr/>
        </p:nvSpPr>
        <p:spPr>
          <a:xfrm>
            <a:off x="990720" y="4343400"/>
            <a:ext cx="23619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160020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rot="19885800">
            <a:off x="1447920" y="4724280"/>
            <a:ext cx="457200" cy="621000"/>
          </a:xfrm>
          <a:custGeom>
            <a:avLst/>
            <a:gdLst/>
            <a:ahLst/>
            <a:rect l="l" t="t" r="r" b="b"/>
            <a:pathLst>
              <a:path fill="none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</a:path>
              <a:path stroke="0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  <a:lnTo>
                  <a:pt x="0" y="21556"/>
                </a:lnTo>
                <a:lnTo>
                  <a:pt x="137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830600" y="60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211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het punt 3 5 richting punt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ken dit zoals bij stap 5 zodat er een kruis ont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DSC01126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1143000" y="44197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16002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0"/>
          <p:cNvSpPr/>
          <p:nvPr/>
        </p:nvSpPr>
        <p:spPr>
          <a:xfrm rot="19573200">
            <a:off x="1294920" y="464796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 flipV="1">
            <a:off x="1599840" y="47242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"/>
          <p:cNvSpPr/>
          <p:nvPr/>
        </p:nvSpPr>
        <p:spPr>
          <a:xfrm rot="17586600">
            <a:off x="1333080" y="460980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295280" y="5334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2057400" y="518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75248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de haakse hoek af door de punten te verb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" descr="DSC01129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1066680" y="3809880"/>
            <a:ext cx="21337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167652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16765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>
            <a:off x="1905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9051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tpunt zwevend m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 creëren voor graafwerkzaamh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punt blijft bew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en zwevend meetp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1" descr="DSC0113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langs de bestaande lijn en nieuwe lijn en laat deze voorbij het meetpunt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SC0113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en pen buiten het werk langs di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DSC0113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 het koord de pen die staat op de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lij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DSC0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ruim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DSC011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 de pen in de lus van het 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DSC011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el van dez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uitzetten van een 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is een hoek van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ra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eze hoek uit te zetten in een groene omgeven (grote ruim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inder fout als bij gebruik met winkel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an het koord met de pen en plaats de pen in de zelfde lijn met de haaks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DSC0114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 pen stevig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0114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der de pen en het k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DSC0114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kan er gewerkt worden zonder het meetpunt onbewust te verplaa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DSC0115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DSC0115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ak je het meetpunt niet zwevend dan staat je in de w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DSC0115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wordt het te lastig om te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DSC0115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staat de kans dat je meetpunt valt weg en zal je het uitzetwerk opniet moeten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DSC0116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       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7672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3276720" y="57913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 flipH="1" flipV="1">
            <a:off x="3276360" y="837720"/>
            <a:ext cx="327636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32767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bruik dus altijd getallen die deze verhouding heb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52480" y="2057400"/>
          <a:ext cx="5181840" cy="417204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7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nodigde materi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p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ban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m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DSC01103"/>
          <p:cNvPicPr/>
          <p:nvPr/>
        </p:nvPicPr>
        <p:blipFill>
          <a:blip r:embed="rId1"/>
          <a:stretch/>
        </p:blipFill>
        <p:spPr>
          <a:xfrm>
            <a:off x="4125960" y="1523880"/>
            <a:ext cx="482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de hoofdlijn waarlang de haaks hoek uitgezet moet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em deze lijn de vaste 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16765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DSC01108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het punt waar de haaks lijn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daar een pen 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DSC011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6002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533520" y="5562720"/>
            <a:ext cx="99036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ie pen, langs de vaste lijn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DSC01107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16002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2819160" y="5715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e pen waar de haakse lijn op de hoofd lijn uitkomt 4 ongeveer haaks op de hoofd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DSC01109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1143000" y="4572000"/>
            <a:ext cx="2209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609480" y="43434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79440" y="5478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19051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04:05Z</dcterms:created>
  <dc:creator>lendfersc</dc:creator>
  <dc:description/>
  <dc:language>en-US</dc:language>
  <cp:lastModifiedBy>Marcel van Rijsbergen</cp:lastModifiedBy>
  <dcterms:modified xsi:type="dcterms:W3CDTF">2016-02-18T10:58:11Z</dcterms:modified>
  <cp:revision>3</cp:revision>
  <dc:subject/>
  <dc:title>Uitzetten haakse hoek  met behulp van de 3 4 5 steek</dc:title>
</cp:coreProperties>
</file>