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8984-2ED6-4FB7-83A8-1B204CF3E3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C859-6B60-4DDC-994F-BB1D05A466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5EF-C87C-47AB-9E79-530D3524B2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7D8-25B8-44F8-929F-6267B39C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8F1-9219-4DDA-96EC-0D6104FB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B093-90DC-42F0-8E19-D341EBAE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72D48-5241-42B9-88F1-B23D33EF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6EB07-F1DC-4EAB-ABFB-FCDCDD7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83353-C453-4EA2-80F7-9379395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F6177-79D8-43A6-A2C0-70457B7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40E8F-5690-4B8C-B9DF-EBD3F48C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210B-CB40-4A4D-9BB0-DE4F68AD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F9FE7-F89F-439E-954A-2146FDD6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4976F-2373-4EBD-AAB7-7ACADBEF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E81EE-5E39-483E-B72C-07E0108D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790-8C18-4FDB-ABBB-ECA59015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952D4-5B3F-457F-ABD8-C2C192D3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7170F-C0BC-4418-B158-3760FE57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51335-AD84-4CE8-9DDE-102E320B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C9D65-52AA-4E3D-A5DE-66C0B158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0C5BC-CF75-4F0B-8DEF-C446FCF0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DF92D-8A0A-42B6-8D58-5AC7DE4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31626-A34B-4EAF-8EB7-1483AE2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01D59-254D-4A4C-AB18-182E7C8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15C89-24B9-47CB-A4AF-A3E1ED35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B140C-D032-4C94-973D-2E6745F8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420-F495-4539-8A50-8E90D119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E5A8B-F2E8-47B2-9B21-7796EF51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5DA0B-2D6E-4DB7-ADF8-AC8F2271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040A4-F261-4A13-AC75-1553ADD7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690AB-3064-4516-A76E-5ACD210A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618BC-7111-4B35-ABF6-F6531EE5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6A112-8107-456B-9356-29718CA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3C9BF-12E2-41A2-9D74-A28DC32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6A502-9CB5-48AC-AC3D-828F228C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1DE73-D072-46BE-B8F9-85A894F8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C85EC-4288-4D2B-BCB6-C18E5B7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C651-6857-460A-93E0-B29E65F3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4F907-F614-46DD-898B-5AED86E4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C9064-2010-4097-B6FC-19ECAF3C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72FD3-93B3-4C87-8E3E-85FA4DD4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62255-F8FD-4937-843D-A89DAB91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D7457-9DC3-4CCE-A4A6-0DB2DDCE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436AE-BC44-48B6-AF72-6763E3CD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EFA73-2C04-4E44-BC77-567A050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96506-D8F1-420A-BC38-AE912B97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1BA7D-E151-4268-B6FC-F43A4410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4B82F-DD8D-4431-B6BF-E1391304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1C0A-C903-408E-A481-52EBC488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946D3-AE03-4C99-9932-A99CED08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D1BF5-496C-4C37-A158-536F4DD1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28038-0A50-4565-981A-E480480B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065FE-BCDA-48B8-BB1D-99F3167C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0FAF5-7913-4E97-ABA5-4254D2DD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67B4C-4F81-4FCF-8D41-5CB391A6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5C2D6-5719-40AB-A248-E4AC0BFD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0EE56-1523-4C08-8425-724DEF57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8E28D-4A54-4FB0-97D4-CB749E0E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56A9D-A31B-4C39-BC9E-E62D893A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C6C8-2107-4036-8570-AD105315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3C866-A6AE-4EE0-BB86-E15A0F0D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D714C-BE49-4466-8FAE-F5D9BA2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51B2D-1CB6-4BC7-AAF6-BB7BE38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7F7C3-A795-4ADE-A707-9772240F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B55FA-985F-4A82-AF72-3FEC5049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E15D6-2B6D-4DE8-9A8A-1721A722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D3FBF-82E9-4817-9BCC-F4FB593F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561D-7AAB-4631-AF7B-B6B1CB87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87A1-10E4-4CE2-B320-E01BB6B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C048-E4B1-44EF-AC00-A7994329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F090-3C81-4992-9A05-A570DB01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11F-7B94-4649-ADC4-A1BD562A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5B04-9074-4824-9E56-CD465E5C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996B-46D1-47D8-B64F-9F45EA3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3B08-CA21-41AB-8836-9E31C8B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5EE6-BF46-4E9F-928C-CBA245DF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FBFC-AC31-4E15-A836-D3FD2F77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ED4B-2C9D-4D9D-B3DD-643F9ED8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46D3-E1AB-422E-BECC-A38F57EB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CCFB-D31F-4D98-B5D3-86EEF775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F1BA-4139-4B95-93C0-E3DF75C6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DF58-B4D0-420D-BAFA-0F9B640B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A04-C9D9-49AA-9552-7880EE0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6188-BBB8-47B5-B7DB-D6D53F81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D2B4-47DD-461D-B3BE-2F7A8CF8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6172-B967-4CFF-AB4F-6CCE26B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342E-B19C-4158-81D4-8C74E92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F6F6-4E71-4BAC-85F9-136B986A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7385-04A9-423B-9B2A-5244EB23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3752-9E66-4360-A844-99AF0B4D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E3A3F-D829-4746-B390-D0284CC8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71634-38A2-4BCA-B017-6D8A9489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979FB-67F6-4348-8944-E884B7C5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416-117E-4298-A936-D2375BAD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4638C-3FA7-418C-B241-193A7CA7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162E-7E3A-4266-A97E-36B0B761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5423-4842-4B80-BC48-2AE1D327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1181-870C-4153-A9CC-04881BA4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B93C-EB4B-4E14-97E1-736DE3F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F12C-DB13-4367-AB7D-96A39059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2A94-1772-4648-983F-E102D3F9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6197-904D-46A1-B3D5-4FD8A75C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F0AB-F162-4C7B-871D-A6A7033B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6772E-54E6-4C31-8253-7164023D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E18-4679-47B1-B0FA-9D118D2D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C6E93-0FF7-4BA8-B7B2-49679F6C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33CD-858B-45C4-960F-05B07324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0D66D-8AD9-4A9E-84A9-786506A9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22C8B-E40C-4EDC-B33F-A886BBBF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93894-CAD6-42B8-9E0B-41C347C1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28844-15ED-4110-A884-074A0FC1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1D1E0-CE6B-48B1-ABAF-495F577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9EA03-52EC-45D0-9DBA-029057B9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386E4-0DF1-452E-A640-E8C9A496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8BF3C-3A06-470A-8475-4237D56B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C67-C72F-4472-9682-B0EC6826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E9707-1D84-4063-9F41-1B218AB2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0CDFB-B5B5-4948-86B1-6CA3E071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ADD0F-694A-4D50-AD0D-DC136204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4FF23-B515-469E-9615-DD4CB405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0D768-7964-4DAB-A2A6-EBD74A0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265D-94D6-4541-BCCF-50DC12F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6C9CF-3A46-48A4-AB41-089334E9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DA098-B364-4971-9825-2A431C4C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48E3E-0C2A-47B1-B0B6-BE8964A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1197A-E44D-4C0C-B063-2CA439EC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37C-6DCA-4FBA-B1E4-FBD9957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AD657-7895-40A3-AD9A-FE1C04B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2A031-5E94-43FB-835F-27BEFE5D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A5A9-B1A3-4313-A405-7C5B8198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8366-0EA5-4F3B-8B9D-559D81FE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C2059-3CC6-45F5-A8A2-3A88C018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74FA-9B5B-426F-8D25-0F346991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A0792-5DB4-4130-8BCF-12764ADC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468C8-D6D4-4F46-ACCA-7447E40B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ECD1F-BC12-4643-82D0-571F3CC3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E562C-C3C6-421B-828E-00D9C23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F6F-CA46-454F-8B06-ED3C565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0B390-F055-4F5F-83B3-4CA045FD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31388-B62F-43CE-927B-F80228B8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FF3D0-D096-4027-A411-8E8DD00B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82945-9874-4F44-ACEF-18345085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9664-DE20-42ED-97C0-E91E3342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39065-1298-4133-A712-3ABF70B3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2EC6D-C938-4A86-9FDB-75A021D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CBB8D-F115-46DB-BD33-A266C548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E562-3B9B-4CC1-B2ED-E683C234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8D87-5C7E-46B1-B92E-A6E4C73C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97A-8D8A-42DD-80EB-419613F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D3945-614C-4A10-B06D-BCADA9F3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C095-D83A-4600-9A61-93C41AC9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3622-AD1D-4224-952A-CD098B9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D247B-A7AA-4D49-8702-BFA1D77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C3874-DA9D-4358-AD58-5EA47B0F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3253F-3481-41AA-80A4-7D3072DE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750C-8FAC-4D91-8396-6E728033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40F75-122C-462D-B715-2CD43753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0E93-3717-4625-9284-E5D37B67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8C40D-9FFD-4A49-A928-87625C94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FA65-D09F-4BD1-831F-BEE06C78B3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B522-9BDE-4D48-9FE7-4DD68FEB8C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774F-BF73-4F85-9332-973A12A280A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FF87-B162-425E-8379-CB6EBBDF65D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C75C-6247-416C-95D2-024A57DE81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A4F4-B320-447D-8D2E-AC919E14BF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4E97-9D60-444C-B0A4-B35CD66F2AF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28AF-5746-463B-8D7D-CFF1797853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A200-E62A-4A63-8653-34705C67C2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CB6-5DBC-4396-87BA-B4934258E4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D889-8A89-47E5-9E36-B232407506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2CE1-CC6A-4D20-83F2-BDB4923330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7D94-73E9-490F-8BD5-2BB38B153B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zetten haakse hoek</a:t>
            </a:r>
            <a:br>
              <a:rPr sz="4400"/>
            </a:b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Met behulp van de 3 4 5 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 beide punten met een k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al de pin uit de bodem en teken met de (passer) cirkel bij 4 me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DSC01119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7"/>
          <p:cNvSpPr/>
          <p:nvPr/>
        </p:nvSpPr>
        <p:spPr>
          <a:xfrm>
            <a:off x="990720" y="4343400"/>
            <a:ext cx="23619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 flipV="1">
            <a:off x="160020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4"/>
          <p:cNvSpPr/>
          <p:nvPr/>
        </p:nvSpPr>
        <p:spPr>
          <a:xfrm rot="19885800">
            <a:off x="1447920" y="4724280"/>
            <a:ext cx="457200" cy="621000"/>
          </a:xfrm>
          <a:custGeom>
            <a:avLst/>
            <a:gdLst/>
            <a:ahLst/>
            <a:rect l="l" t="t" r="r" b="b"/>
            <a:pathLst>
              <a:path fill="none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</a:path>
              <a:path stroke="0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  <a:lnTo>
                  <a:pt x="0" y="21556"/>
                </a:lnTo>
                <a:lnTo>
                  <a:pt x="137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1830600" y="60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2112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het punt 3 5 richting punt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ken dit zoals bij stap 5 zodat er een kruis ont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" descr="DSC01126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7"/>
          <p:cNvSpPr/>
          <p:nvPr/>
        </p:nvSpPr>
        <p:spPr>
          <a:xfrm>
            <a:off x="1143000" y="441972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16002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0"/>
          <p:cNvSpPr/>
          <p:nvPr/>
        </p:nvSpPr>
        <p:spPr>
          <a:xfrm rot="19573200">
            <a:off x="1294920" y="464796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1"/>
          <p:cNvSpPr/>
          <p:nvPr/>
        </p:nvSpPr>
        <p:spPr>
          <a:xfrm flipH="1" flipV="1">
            <a:off x="1599840" y="47242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"/>
          <p:cNvSpPr/>
          <p:nvPr/>
        </p:nvSpPr>
        <p:spPr>
          <a:xfrm rot="17586600">
            <a:off x="1333080" y="460980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295280" y="5334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2057400" y="5181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1752480" y="6095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de haakse hoek af door de punten te verb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6" descr="DSC01129"/>
          <p:cNvPicPr/>
          <p:nvPr/>
        </p:nvPicPr>
        <p:blipFill>
          <a:blip r:embed="rId1"/>
          <a:stretch/>
        </p:blipFill>
        <p:spPr>
          <a:xfrm>
            <a:off x="4495680" y="1752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1066680" y="3809880"/>
            <a:ext cx="21337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1676520" y="4038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16765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"/>
          <p:cNvSpPr/>
          <p:nvPr/>
        </p:nvSpPr>
        <p:spPr>
          <a:xfrm>
            <a:off x="19051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19051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tpunt zwevend m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 creëren voor graafwerkzaamh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punt blijft bewa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en zwevend meetp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1" descr="DSC0113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langs de bestaande lijn en nieuwe lijn en laat deze voorbij het meetpunt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DSC0113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een pen buiten het werk langs di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" descr="DSC0113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 het koord de pen die staat op de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lij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DSC0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ruim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DSC011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 de pen in de lus van het 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DSC011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el van dez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uitzetten van een 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is een hoek van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ra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eze hoek uit te zetten in een groene omgeven (grote ruim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inder fout als bij gebruik met winkel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an het koord met de pen en plaats de pen in de zelfde lijn met de haaks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DSC0114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 pen stevig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6" descr="DSC0114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ijder de pen en het ko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DSC01147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kan er gewerkt worden zonder het meetpunt onbewust te verplaa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DSC0115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DSC0115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ak je het meetpunt niet zwevend dan staat je in de w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DSC0115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wordt het te lastig om te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DSC0115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estaat de kans dat je meetpunt valt weg en zal je het uitzetwerk opniet moeten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DSC0116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                   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276720" y="838080"/>
            <a:ext cx="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"/>
          <p:cNvSpPr/>
          <p:nvPr/>
        </p:nvSpPr>
        <p:spPr>
          <a:xfrm>
            <a:off x="3276720" y="57913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 flipH="1" flipV="1">
            <a:off x="3276360" y="837720"/>
            <a:ext cx="327636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32767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9"/>
          <p:cNvSpPr/>
          <p:nvPr/>
        </p:nvSpPr>
        <p:spPr>
          <a:xfrm>
            <a:off x="35812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bruik dus altijd getallen die deze verhouding heb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52480" y="2057400"/>
          <a:ext cx="5181840" cy="417204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72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nodigde materi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p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ban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m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DSC01103"/>
          <p:cNvPicPr/>
          <p:nvPr/>
        </p:nvPicPr>
        <p:blipFill>
          <a:blip r:embed="rId1"/>
          <a:stretch/>
        </p:blipFill>
        <p:spPr>
          <a:xfrm>
            <a:off x="4125960" y="1523880"/>
            <a:ext cx="482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de hoofdlijn waarlang de haaks hoek uitgezet moet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em deze lijn de vaste 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16765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DSC01108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het punt waar de haaks lijn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daar een pen n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DSC0110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6002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533520" y="5562720"/>
            <a:ext cx="99036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ie pen, langs de vaste lijn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DSC01107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16002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 flipH="1">
            <a:off x="2819160" y="5715000"/>
            <a:ext cx="9903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e pen waar de haakse lijn op de hoofd lijn uitkomt 4 ongeveer haaks op de hoofd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DSC01109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7"/>
          <p:cNvSpPr/>
          <p:nvPr/>
        </p:nvSpPr>
        <p:spPr>
          <a:xfrm>
            <a:off x="1143000" y="4572000"/>
            <a:ext cx="2209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609480" y="4343400"/>
            <a:ext cx="9907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79440" y="5478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190512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04:05Z</dcterms:created>
  <dc:creator>lendfersc</dc:creator>
  <dc:description/>
  <dc:language>en-US</dc:language>
  <cp:lastModifiedBy>Marcel van Rijsbergen</cp:lastModifiedBy>
  <dcterms:modified xsi:type="dcterms:W3CDTF">2016-02-18T10:58:11Z</dcterms:modified>
  <cp:revision>3</cp:revision>
  <dc:subject/>
  <dc:title>Uitzetten haakse hoek  met behulp van de 3 4 5 steek</dc:title>
</cp:coreProperties>
</file>