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2C7-F933-4CC4-A9C2-40E50F590B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98A0-C961-4553-9C77-DF4780F2B3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4C57-3F43-4512-B28F-91CD87C063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A67-A8A8-4AC2-A4E8-A2C7F43D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CBB-14CA-4C16-9D6A-EBE83ED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CD477-CF7C-405D-A0B1-5928D04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C7807-EE95-41EA-BCBA-C59C3989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E86AD-FA58-44A1-9F2D-23DB0529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84D36-0480-4A9E-AA53-A384347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570DE-DD3B-4647-A10B-C67535DC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9F8B7-FB05-47C9-B55A-38FAD41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88267-795C-4FB9-8C6A-245226C2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A5F0A-3175-4CDA-AF56-64603D9D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7AD17-31E1-4055-A6C0-BADA375C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4E788-2748-4466-88F2-12F088BE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0DF-5FEF-4E23-8224-27143286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C5610-C183-4458-8605-5CEC328C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28765-D102-4BA8-AB81-5808E27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C80C8-8B7C-4B5E-B314-605706E6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74917-5520-4004-B585-7EB80EFE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B05A0-9498-4344-893F-A6C55E8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A4C5F-B26B-4DBA-B6D3-E775363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1C4F2-1EC0-4F01-9EAB-896ED82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E9E2A-AA89-40E3-BDE5-7E1B87A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7CC2C-CB20-4E16-8DEB-12E15CCE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524DA-2C6E-44B7-A0A1-87B8D333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542-F270-420E-94FD-7B817A61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0033D-11E0-4752-9523-DD059730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8ECD6-4FF0-4A05-AB87-8B3D6689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3A11-CD81-47C2-89CB-DBB8B23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10FCE-8166-4685-8622-77D37982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6D242-3236-4196-821A-599F4B7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0EC94-00AE-49FD-B456-6E8ACC5A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A467B-7DF7-4C87-85D9-FDBE2482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A7807-C196-4945-80E4-428C0C74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5E0F1-01C1-4165-9E58-331FC89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4F57F-D73B-4B4E-B4C0-BF470A9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AC4-7AF6-4067-A1DC-F20DD45C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80223-8017-44EC-98FB-5C978E2E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CE6A-F637-4069-8397-DCDDAAED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B0F4-BC7B-4DD9-BE81-67370190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F0232-755D-4B33-AACB-005008FB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5C2DA-33FF-4FA0-B3A1-0ACD151D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C3AC6-BA0F-4CF4-82F2-207657D6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FDB5D-DA98-4F1C-8700-7F4511D6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6A4AC-CAC0-48A6-9082-4EB04A9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FDDFC-DFC9-4A86-A326-D67B17F9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21415-6F27-4F9E-9D25-B460581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BBA0-B7E2-4D0C-9B03-0402D711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8AD06-AD82-432A-8791-F4F36BC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BD39A-1C35-4A50-87F3-87B5DD85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D6440-7473-4E32-A1D0-B6D76B9A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54FDA-DAB6-4E06-9270-B052426D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5B1A8-0AEE-44AF-B8C8-557D9DD1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0F357-3337-4FDB-9BB7-076B008B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66A83-15D7-458E-9F36-CCFC1A19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2DFD4-5660-4EB7-9817-1BA018E0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69F03-2907-4ADB-8559-3AA61F3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7D071-0411-4C1D-9ECC-822D80C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40EE-F00B-487A-B88F-EB5D8417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E88B6-BEAD-4C7D-A9AB-6C25ACE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BEC97-6FE5-4B55-AA7F-9EB3A0A8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292DA-8B48-4D9D-944E-044753E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E647A-BFFC-400F-AC36-00A3C84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0575E-EC0F-43A9-8430-4998A9C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44D46-1C01-472D-B13F-E0B173FA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26427-7728-496B-A392-0553E172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370B-B4F7-4D4D-B61D-93943DAF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9E48-8471-486F-9074-F21E11B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741-B3C4-4A65-81D1-09A9BDF2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5E60-FC88-4E92-9F1E-A5D98120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AA5-B601-4AD8-82EC-A6DBD35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C2FC-840F-4B35-8F3C-17C96583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2F32-62A0-431B-B92D-BB0C0E8A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059D-61F4-4AAE-ABD1-E0F1AAA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2CCC-14AF-4218-A81C-60786959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454F-06F7-4797-A913-1C1DB479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B6B0-4CEC-445E-8E48-AFDA272D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7C02-C07A-442A-BD59-C0570243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C1D4-51B7-4C6D-BFA2-0FF48D8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BF526-CFA7-41AA-ABA8-35FCB511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E835C-808C-43D7-9390-2F1B173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5DE-D339-4CF7-A015-0C1F92E3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B542-04AD-44C9-BB9F-12075F1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7DF8-1D0B-4015-9FF8-52F0943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35DA-F188-44AB-8469-58D9EBD6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DF79A-BAA9-484D-88AC-88AEB8F3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25F3-376A-478F-A47E-17F210A3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585C-74D1-4D66-B993-6CF13279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E38E-237D-4733-B444-816A618F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1088-31F9-40D8-BF04-99550634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76E7-CE8B-4A09-AB57-ECBA43A8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A322-C530-43EB-A124-0FD46A4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A1A-BB67-4DCC-8FEC-1D287149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2EB9-47BB-4DA3-B38F-719DDA43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F247-BB83-4FB0-A2A3-E90B1E11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E54B-376F-4CB5-8330-41465183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4552-24BE-465A-9D10-61EF00A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7CFDB-3290-487A-8C5E-76BD47B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BCF6-673C-40DF-A4F9-5B4E12D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C7AD-6249-4B9D-81A4-1DE009C8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9B3C-6E2D-411C-A3EC-F6A4B3DB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C999-7F7E-45FE-8E6E-083F2ECD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3A4E-7BAB-4CF1-9BA6-2A61E4F6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36F-3339-416D-B47E-86DBC240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64469-59EF-4F7A-9082-8BB60850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0F33-75B2-4781-A47E-219DFB8F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C13BD-CD5B-4BB6-AB99-6B2961CF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056A-6152-43E0-910F-C41D6EAE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C60A-5298-4B59-AF90-EED082F9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A8AD0-375C-49E9-8BB6-74548B43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0CAE-59A9-4C4D-BC5D-9C11D81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A1AC-6A5A-4046-9655-03CCFD5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2E106-64F5-48FB-8BE8-E13E6ADF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BB02A-92B9-42BC-B2F7-D0E4BFD1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787-4BE0-4599-8AE8-1B82F9F1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CA62-6462-41B8-BD71-3D175E8F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39FF-4F20-4D46-949A-6B69BD7F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E4171-1F02-49C1-BE20-9C429BFD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FA6C-5241-4E74-AF48-9C4BF0FC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2D55F-F3BC-44A2-9B99-97E44731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569C-22F7-4C11-B9B1-7B635A9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35D6-A490-40A4-B785-41500FC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BC8ED-A940-44B2-844C-F5BBBD3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512AC-7B44-4E75-82BC-47813B5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1429-CD14-4F24-9BBE-FC2837E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8C3-E67C-4EA8-B5B5-C9D45B6B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6F9AF-CA9A-4309-BC22-6EC1E486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BE1A6-4892-4FEB-85B4-D46572FB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0DFAD-A35E-4C27-A631-3AC4FB39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D5550-0B52-4CD1-8D8A-844BC5A6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02329-AF0A-4089-A8BF-CF8E218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E2084-CD9E-428D-8060-903EE974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C5FFF-4397-4331-B05E-1C663036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201A-2E78-43FC-BF46-9031A22F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5F4EE-8926-4AFD-A18D-25D2165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C7FD5-581E-45B9-AC33-F5ED17E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C06-BAA2-47E6-8FE7-B3A42CF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EAE4B-336E-4526-B7B0-1773ED03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8E9D4-45B3-4CDE-98C5-3D002B01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6A0A-E75D-46EE-84A4-0C16C559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2C789-F797-47B5-B8C7-5C16CD47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E0382-3344-4FBF-BC3E-2CECBC48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37075-6BE6-4542-9EA1-88070F0B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F6114-42EA-4B47-A866-E97F8B83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EED51-12FC-4F9E-B43A-20A8E79D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993C-2923-4FC6-86DA-5260D4E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8666E-DA54-4618-9192-920A68B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115-0ED0-4FD5-914E-54C028B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3734-00A3-4936-AE4A-26ED6603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858BA-8009-4F06-962A-2944162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ED957-13A0-413C-9AAA-F96B5AD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841C-2C0F-430C-AE31-567CA77E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D87EE-F162-45EB-9434-1D4D0C04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AE8FF-3B5B-4C5E-8505-9ACD39A9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B93B-B2AD-4689-8741-56A2C36B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2BCAF-CD2C-4D08-B90B-765756C2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DE460-AE00-4847-A4C7-4A4F6616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901C4-CBF2-46EF-A22E-7D8E6B77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0998-6908-4125-A454-0D3984317D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B05A-1507-44F6-8F2C-7BAF8AAAD1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3FB0-5C51-4892-AF36-A27EC95BE1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FD99-2C0C-4577-96BF-E1F55D7FD00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3A1E-B2F2-4BC1-8F75-4BEF6E61AB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D2E5-C9D3-45F7-ACA8-B52BF47DB89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7953-E600-496F-873C-31FE30D6B7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F1F1-BB70-44B6-A8B1-86EE26D9AD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25EE-B585-4174-8A63-BF46FA71039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9525-C943-46DB-9222-B33BC45EDE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5D30-CBCF-4BFF-AA0C-28377F6E43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0C5C-B9E6-4D27-AAFF-537679E3B9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2370-4AC7-4C77-B566-6D4C36D4B9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zetten haakse hoek</a:t>
            </a:r>
            <a:br>
              <a:rPr sz="4400"/>
            </a:b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Met behulp van de 3 4 5 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 beide punten met een k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al de pin uit de bodem en teken met de (passer) cirkel bij 4 me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DSC01119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7"/>
          <p:cNvSpPr/>
          <p:nvPr/>
        </p:nvSpPr>
        <p:spPr>
          <a:xfrm>
            <a:off x="990720" y="4343400"/>
            <a:ext cx="23619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 flipV="1">
            <a:off x="160020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rot="19885800">
            <a:off x="1447920" y="4724280"/>
            <a:ext cx="457200" cy="621000"/>
          </a:xfrm>
          <a:custGeom>
            <a:avLst/>
            <a:gdLst/>
            <a:ahLst/>
            <a:rect l="l" t="t" r="r" b="b"/>
            <a:pathLst>
              <a:path fill="none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</a:path>
              <a:path stroke="0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  <a:lnTo>
                  <a:pt x="0" y="21556"/>
                </a:lnTo>
                <a:lnTo>
                  <a:pt x="137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1830600" y="60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2112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het punt 3 5 richting punt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ken dit zoals bij stap 5 zodat er een kruis ont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DSC01126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7"/>
          <p:cNvSpPr/>
          <p:nvPr/>
        </p:nvSpPr>
        <p:spPr>
          <a:xfrm>
            <a:off x="1143000" y="44197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16002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0"/>
          <p:cNvSpPr/>
          <p:nvPr/>
        </p:nvSpPr>
        <p:spPr>
          <a:xfrm rot="19573200">
            <a:off x="1294920" y="464796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1"/>
          <p:cNvSpPr/>
          <p:nvPr/>
        </p:nvSpPr>
        <p:spPr>
          <a:xfrm flipH="1" flipV="1">
            <a:off x="1599840" y="47242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"/>
          <p:cNvSpPr/>
          <p:nvPr/>
        </p:nvSpPr>
        <p:spPr>
          <a:xfrm rot="17586600">
            <a:off x="1333080" y="460980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295280" y="5334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2057400" y="518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1752480" y="6095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de haakse hoek af door de punten te verb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6" descr="DSC01129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1066680" y="3809880"/>
            <a:ext cx="21337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167652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16765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"/>
          <p:cNvSpPr/>
          <p:nvPr/>
        </p:nvSpPr>
        <p:spPr>
          <a:xfrm>
            <a:off x="19051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19051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tpunt zwevend m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 creëren voor graafwerkzaamh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punt blijft bew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en zwevend meetp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1" descr="DSC0113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langs de bestaande lijn en nieuwe lijn en laat deze voorbij het meetpunt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DSC0113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en pen buiten het werk langs di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DSC0113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 het koord de pen die staat op de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lij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DSC0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ruim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DSC011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 de pen in de lus van het 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DSC011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el van dez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uitzetten van een 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is een hoek van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ra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eze hoek uit te zetten in een groene omgeven (grote ruim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inder fout als bij gebruik met winkel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an het koord met de pen en plaats de pen in de zelfde lijn met de haaks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DSC0114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 pen stevig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0114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der de pen en het k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DSC0114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kan er gewerkt worden zonder het meetpunt onbewust te verplaa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DSC0115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DSC0115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ak je het meetpunt niet zwevend dan staat je in de w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DSC0115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wordt het te lastig om te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DSC0115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estaat de kans dat je meetpunt valt weg en zal je het uitzetwerk opniet moeten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DSC0116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              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7672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3276720" y="57913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 flipH="1" flipV="1">
            <a:off x="3276360" y="837720"/>
            <a:ext cx="327636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32767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bruik dus altijd getallen die deze verhouding heb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52480" y="2057400"/>
          <a:ext cx="5181840" cy="417204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72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nodigde materi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p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ban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m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DSC01103"/>
          <p:cNvPicPr/>
          <p:nvPr/>
        </p:nvPicPr>
        <p:blipFill>
          <a:blip r:embed="rId1"/>
          <a:stretch/>
        </p:blipFill>
        <p:spPr>
          <a:xfrm>
            <a:off x="4125960" y="1523880"/>
            <a:ext cx="482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de hoofdlijn waarlang de haaks hoek uitgezet moet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em deze lijn de vaste 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16765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DSC01108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het punt waar de haaks lijn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daar een pen 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DSC0110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6002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533520" y="5562720"/>
            <a:ext cx="99036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ie pen, langs de vaste lijn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DSC01107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16002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>
            <a:off x="2819160" y="5715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e pen waar de haakse lijn op de hoofd lijn uitkomt 4 ongeveer haaks op de hoofd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DSC01109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7"/>
          <p:cNvSpPr/>
          <p:nvPr/>
        </p:nvSpPr>
        <p:spPr>
          <a:xfrm>
            <a:off x="1143000" y="4572000"/>
            <a:ext cx="2209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609480" y="43434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79440" y="5478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19051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04:05Z</dcterms:created>
  <dc:creator>lendfersc</dc:creator>
  <dc:description/>
  <dc:language>en-US</dc:language>
  <cp:lastModifiedBy>Marcel van Rijsbergen</cp:lastModifiedBy>
  <dcterms:modified xsi:type="dcterms:W3CDTF">2016-02-18T10:58:11Z</dcterms:modified>
  <cp:revision>3</cp:revision>
  <dc:subject/>
  <dc:title>Uitzetten haakse hoek  met behulp van de 3 4 5 steek</dc:title>
</cp:coreProperties>
</file>