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5740-9EDA-4AC6-A0EC-DFFFFB7D68A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4F28-AB53-461B-962F-5C7BD5EFAD5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F644-F448-4173-91A8-B0486C290B9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DE5F-24A8-4BF9-BD2D-987A48BC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06C-9D1C-4911-98E1-F1D5DA21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62A20-9738-46DF-B76D-5E30DFE6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A9A34-17EC-46EE-9DC5-3EBAF1EA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861C3-0463-4C1E-B996-6B99221D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FFC88-9A35-4ABF-AA2E-DC4CB547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5E369-7DCD-415A-98B7-7929F201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2D667-E0FC-426D-946F-710E3DA6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4DDBB-BAA9-403F-9290-67D40D3A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01446-7307-4F63-B985-5B8E79F3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4EED4-AB08-48C0-807B-E7FFDFE7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BC9FD-5BB7-4FAE-9F0B-764EBFE5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882E-49D2-436C-9CD9-D831289B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28AFD-00BB-43CA-AC3C-197C463D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54BEC-1CE1-4DE2-88B7-27DAAE6E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5D14A-A4EB-447E-ABB6-2B7E6241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1DAAA-3BC4-4F01-83D3-54EAC22C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68BD8-E3B6-4301-93D1-F924C685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FE151-5897-4C98-91D3-895CE010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B0BF2-3F66-4B56-BEA5-B2A6CE29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85A16-7392-4307-BE49-C47EA0C5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E0BE8-6BAE-405E-AF4B-E901B1E8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BD17B-E45F-4C41-AB8F-FD18B2AE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827D-1693-452C-8A33-19728FAF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D4DB6-4629-4632-8796-63535562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41407-2302-41C1-99B6-0F2C51F8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38127-71F4-48C9-ADFF-72F2B502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B8CE0-B6A3-48A7-97B7-DD9E6D62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7DE0B-35C5-4D78-B863-3C5A8154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0889F-5789-402F-BCCA-4F1FAC01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E1889-0AAB-4C71-B3FE-4DB53782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C5893-E57D-4AAD-951D-4695B2BD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722A2-C502-4F5B-93E4-1662331A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C993A-4F3F-43D9-A050-583737B0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DF98-B597-4AFE-81B2-404A5911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665E0-F92A-4FDA-914C-CA2EC018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0C021-F64B-4B48-8143-DE1025EF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242AF-454E-43C0-901A-2EA6BAC7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102C8-3F7A-44A5-8F00-768045E8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888B8-3174-435E-8DE6-15392F2B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0D647-BF44-499B-9A1A-54E71753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8ED1B-D108-4CF1-BF77-ABD7990A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11481-FA4D-43C8-8580-76BC4301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3B20B-9FB1-42B5-BD4A-69686568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53655-AF3F-401A-AE29-F6B7E2EA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52ED-E730-4145-88B9-628D178E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0E51F-C17B-4349-9843-C99914C1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A6469-E482-43AF-9AF3-4D4B73EF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E4CDA-F128-4A14-AA86-655C99AA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F14C9-11E8-4559-9092-E43948D9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30725-8793-4FAB-A28C-32167916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71EE0-20AF-4269-9E4B-A7F07B4A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1A34A-38AA-4D54-A488-20B23150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DA14D0-2FEE-4155-8D3A-CE3B8155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B0010C-177F-43F6-A26D-F9B097FF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6EBE21-5F56-4FE6-A48B-188D15C6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F76B-19C0-4ABA-9D61-5F988F0D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D039B1-BF94-453F-8814-1C76EEDA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F14CF-BEA6-4AB8-AFFE-C8C8DD17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6492C-D780-4A49-8F38-8415CD30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80F6DC-E1C9-4FB9-9390-B1033F0F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E69B2-E684-4789-A188-652E6D6E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43CE2-CF98-4582-9D75-34C46C3D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EC4704-4127-43F0-B348-7CBF79BE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A3F7-A594-4FC1-9ABC-640F4B49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3A09-A3F1-4517-807C-67949B72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74F6-7A8C-4F70-B0C5-523D5D98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AA57-C7C4-4D87-8BD9-EA7D153D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4148-2E9A-4ACE-8EE6-1D8D98E9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5C39-01F0-4527-BC21-9651855D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4EBD-919B-449C-AAAE-CD474FB4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46EF-DDE1-4C57-BC4B-1B603778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966D-93FA-4F3C-87B7-5A725FC4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6A59-6574-478F-BF2E-ED06FE52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7EFD2-693C-4E43-9569-FBDB8B47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775E1-D4E3-4839-9292-F0783AA0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A8ED3-6362-4CCC-83D6-83E08FB5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065BE-5CA9-42D5-AA10-42D8EC86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CA5C0-522C-4873-AA86-E91234BF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3DF-657B-47C7-80B6-46A56A14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9574C-C35E-425E-90FD-6957FA95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CCD6E-EA3A-4FA1-A983-ABA23E3E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F7B6C-FAF9-4436-9A0F-654E33B1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742BE-54FA-47F4-A1BD-C293CD2E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6AADE-62CA-4D0D-9B8F-71C94B4D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99A4F-C64A-4173-8036-5D958934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927B7-B433-48EA-BFE8-CC137DE5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651FA-364A-4483-B986-CA156E3D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447A1-6741-4516-B897-F7DC10F0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BAC7C-40CF-4A16-981F-2625D746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E3D1-B87C-45AE-AF63-8BCBA9E2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56FDB-FD5D-435B-A7C4-8430EB26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EA133-183E-44DA-B816-F467F601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D9A91-7161-4787-BE58-ACA17C2F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24EF4-2B92-4D88-A1A7-FC45AD3E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579DE-7F03-4671-AE4F-4E22631F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2A145-50B6-4E7D-B988-C472C20E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4C628-002E-4F8B-8A11-9A2DB7E1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F57F6-C6DC-4ED4-9CFE-64639349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58CB5-374B-4459-B1F5-76E033DD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1DB2D-AAA0-49FF-BC6C-758A7A56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CA4-CD0E-4A99-9FB0-C3B9B415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29488-901F-4BEE-A9E6-0AD3341C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CE05C-1318-41B9-BA20-C1D3A70C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C375B-6B51-43E7-B40F-F20D6D56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22CBA-F52C-452D-AB3B-4BB493E1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23296-151E-41DA-8835-A6E2E327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FF734-CA63-4FB2-BEA2-4D0CFE55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CDD60-6C9B-4A58-86C6-DC01195F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5FE0A-1D23-43E6-9C13-FDBD9296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6C5FD-A1AC-443C-B1FC-6FCDAC4B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01FA2-5AD6-4FE9-AADF-30139612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3D2-4E4F-49D9-BF1B-CAC131CB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9DB93-0AC6-4C9F-BDAF-ECA17284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4549A-30C9-402D-B9FE-EB67A8E7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C44FF-6DA0-406F-AF97-DC75DFDB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A4D85-14DF-4AD4-9677-BFC2A454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BBDEA-007C-4359-BDC1-3A7A8DF2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06B55-A451-4B41-80B8-317475F9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198B7-0515-4C0F-85B6-4359DF0C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BFEE0-E4C3-4905-8570-59CB9E61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5F5C4-33FD-4C83-9A61-E43E57AC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F992D-D82F-4588-A736-D3215AAF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A34-D4DE-4196-938B-6B45637A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053F1-8BC3-4165-96A2-1D5538BA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35503-0FF5-44E5-AB6F-BD2BF0E0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D2D6C-3472-4CE7-A036-1A88E722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664B8-39A4-43FC-B4D1-23F53582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47EAD-BE5B-4D73-8E26-A6D62D91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09685-3D41-4A2A-8C79-A984BCC6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69D42-2C05-418B-A7EA-037D37B3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78EF5-54CD-45B3-B269-D0B879F6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BBF63-5351-410A-B7C0-57AA2CB2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A9389-383C-4594-A0D9-03500284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5CA5-1F8E-42C8-A332-7E1E48E4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24B2C-400F-402C-818E-8F66B093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54F34-75F9-430E-AB9A-C68DAEB0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D72A6-1F37-44A7-AA5E-F5B7DEA6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4AD69-D6AA-41FC-AA3A-86A0068F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35FFB-51A9-41DE-9084-A841992C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5117E-0CC2-4F03-BFD8-6D4E89D6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709C9-769B-4211-AC9B-84147E1C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201C3-E815-47C0-8577-759A9788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3775E-A248-4525-8E62-99AFBC3E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911DD-5B0F-44DA-BC94-9CC3CD6E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20A-7760-4E6D-BF34-61D58F16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50244-00A7-4CA6-AE74-139DAC4B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73C81-225E-4E30-93D7-92843A51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29DE1-F581-4801-8CF2-1B40D1D0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C3ECA-0D83-4295-BA7C-22D5D198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884A5-077F-446C-8AE0-4338F2CE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078D4-C69D-4E6A-8B3D-4FFB5497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719BA-D97A-4783-9859-F3361611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A7415-ADBB-4452-B8C0-82C17F41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315B1-9960-4CED-AB0C-C7D71F5B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EA355-E4AF-4867-932D-53FE2282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FC98-2956-4D3E-839A-342E31D1CFF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D67E-286C-4CDC-ACB4-1E32EC99C48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9E8A-391B-4401-8D32-5FFCFFC80E4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B551-7542-4608-9EB9-B1FC30D1FAE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870D-F85F-4499-A49C-DE46DD02CCB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7970-87FF-4AE1-8A8E-8D1B31E9692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C3AB-4202-4CA6-B8EB-E6BA6347643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6223-92CB-4608-A404-94A78A84AB1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5521-5CC3-4AED-A888-657F3349429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4EFE-6900-48CB-87EF-56CDB9AE76C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A994-42FB-48D7-8F06-A5FCDC86AD2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591F-7299-4CFF-945A-7A18F1A3681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0039-5C26-474A-9DAE-CFB937E926A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zetten haakse hoek</a:t>
            </a:r>
            <a:br>
              <a:rPr sz="4400"/>
            </a:br>
            <a:br>
              <a:rPr sz="4400"/>
            </a:b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Met behulp van de 3 4 5 st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ind beide punten met een ko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al de pin uit de bodem en teken met de (passer) cirkel bij 4 met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6" descr="DSC01119"/>
          <p:cNvPicPr/>
          <p:nvPr/>
        </p:nvPicPr>
        <p:blipFill>
          <a:blip r:embed="rId1"/>
          <a:stretch/>
        </p:blipFill>
        <p:spPr>
          <a:xfrm>
            <a:off x="4572000" y="16002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7"/>
          <p:cNvSpPr/>
          <p:nvPr/>
        </p:nvSpPr>
        <p:spPr>
          <a:xfrm>
            <a:off x="990720" y="4343400"/>
            <a:ext cx="236196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8"/>
          <p:cNvSpPr/>
          <p:nvPr/>
        </p:nvSpPr>
        <p:spPr>
          <a:xfrm>
            <a:off x="160020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9"/>
          <p:cNvSpPr/>
          <p:nvPr/>
        </p:nvSpPr>
        <p:spPr>
          <a:xfrm flipV="1">
            <a:off x="160020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rc 14"/>
          <p:cNvSpPr/>
          <p:nvPr/>
        </p:nvSpPr>
        <p:spPr>
          <a:xfrm rot="19885800">
            <a:off x="1447920" y="4724280"/>
            <a:ext cx="457200" cy="621000"/>
          </a:xfrm>
          <a:custGeom>
            <a:avLst/>
            <a:gdLst/>
            <a:ahLst/>
            <a:rect l="l" t="t" r="r" b="b"/>
            <a:pathLst>
              <a:path fill="none" w="16813" h="21556">
                <a:moveTo>
                  <a:pt x="1375" y="-1"/>
                </a:moveTo>
                <a:cubicBezTo>
                  <a:pt x="7413" y="385"/>
                  <a:pt x="13014" y="3285"/>
                  <a:pt x="16813" y="7995"/>
                </a:cubicBezTo>
              </a:path>
              <a:path stroke="0" w="16813" h="21556">
                <a:moveTo>
                  <a:pt x="1375" y="-1"/>
                </a:moveTo>
                <a:cubicBezTo>
                  <a:pt x="7413" y="385"/>
                  <a:pt x="13014" y="3285"/>
                  <a:pt x="16813" y="7995"/>
                </a:cubicBezTo>
                <a:lnTo>
                  <a:pt x="0" y="21556"/>
                </a:lnTo>
                <a:lnTo>
                  <a:pt x="1375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1830600" y="609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122112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t vanaf het punt 3 5 richting punt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ken dit zoals bij stap 5 zodat er een kruis ont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6" descr="DSC01126"/>
          <p:cNvPicPr/>
          <p:nvPr/>
        </p:nvPicPr>
        <p:blipFill>
          <a:blip r:embed="rId1"/>
          <a:stretch/>
        </p:blipFill>
        <p:spPr>
          <a:xfrm>
            <a:off x="4572000" y="16765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7"/>
          <p:cNvSpPr/>
          <p:nvPr/>
        </p:nvSpPr>
        <p:spPr>
          <a:xfrm>
            <a:off x="1143000" y="4419720"/>
            <a:ext cx="22860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8"/>
          <p:cNvSpPr/>
          <p:nvPr/>
        </p:nvSpPr>
        <p:spPr>
          <a:xfrm>
            <a:off x="160020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9"/>
          <p:cNvSpPr/>
          <p:nvPr/>
        </p:nvSpPr>
        <p:spPr>
          <a:xfrm flipV="1">
            <a:off x="160020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rc 10"/>
          <p:cNvSpPr/>
          <p:nvPr/>
        </p:nvSpPr>
        <p:spPr>
          <a:xfrm rot="19573200">
            <a:off x="1294920" y="4647960"/>
            <a:ext cx="685800" cy="6094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1"/>
          <p:cNvSpPr/>
          <p:nvPr/>
        </p:nvSpPr>
        <p:spPr>
          <a:xfrm flipH="1" flipV="1">
            <a:off x="1599840" y="4724280"/>
            <a:ext cx="7621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rc 12"/>
          <p:cNvSpPr/>
          <p:nvPr/>
        </p:nvSpPr>
        <p:spPr>
          <a:xfrm rot="17586600">
            <a:off x="1333080" y="4609800"/>
            <a:ext cx="685800" cy="6094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3"/>
          <p:cNvSpPr/>
          <p:nvPr/>
        </p:nvSpPr>
        <p:spPr>
          <a:xfrm>
            <a:off x="1295280" y="5334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4"/>
          <p:cNvSpPr/>
          <p:nvPr/>
        </p:nvSpPr>
        <p:spPr>
          <a:xfrm>
            <a:off x="2057400" y="5181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5"/>
          <p:cNvSpPr/>
          <p:nvPr/>
        </p:nvSpPr>
        <p:spPr>
          <a:xfrm>
            <a:off x="1752480" y="6095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de haakse hoek af door de punten te verbi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6" descr="DSC01129"/>
          <p:cNvPicPr/>
          <p:nvPr/>
        </p:nvPicPr>
        <p:blipFill>
          <a:blip r:embed="rId1"/>
          <a:stretch/>
        </p:blipFill>
        <p:spPr>
          <a:xfrm>
            <a:off x="4495680" y="17524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7"/>
          <p:cNvSpPr/>
          <p:nvPr/>
        </p:nvSpPr>
        <p:spPr>
          <a:xfrm>
            <a:off x="1066680" y="3809880"/>
            <a:ext cx="21337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9"/>
          <p:cNvSpPr/>
          <p:nvPr/>
        </p:nvSpPr>
        <p:spPr>
          <a:xfrm>
            <a:off x="1676520" y="40384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0"/>
          <p:cNvSpPr/>
          <p:nvPr/>
        </p:nvSpPr>
        <p:spPr>
          <a:xfrm>
            <a:off x="1676520" y="56386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2"/>
          <p:cNvSpPr/>
          <p:nvPr/>
        </p:nvSpPr>
        <p:spPr>
          <a:xfrm>
            <a:off x="167652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"/>
          <p:cNvSpPr/>
          <p:nvPr/>
        </p:nvSpPr>
        <p:spPr>
          <a:xfrm>
            <a:off x="19051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5"/>
          <p:cNvSpPr/>
          <p:nvPr/>
        </p:nvSpPr>
        <p:spPr>
          <a:xfrm>
            <a:off x="19051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tpunt zwevend m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imt creëren voor graafwerkzaamhe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tpunt blijft bewa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en zwevend meetp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1" descr="DSC0113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t langs de bestaande lijn en nieuwe lijn en laat deze voorbij het meetpunt 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6" descr="DSC01132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ats een pen buiten het werk langs die l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6" descr="DSC01134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bind het koord de pen die staat op de 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 lij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6" descr="DSC0113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ruime l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6" descr="DSC0114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k de pen in de lus van het k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6" descr="DSC01143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oel van dez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uitzetten van een 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t is een hoek van 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 (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ra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eze hoek uit te zetten in een groene omgeven (grote ruim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inder fout als bij gebruik met winkelh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an het koord met de pen en plaats de pen in de zelfde lijn met de haakse l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6" descr="DSC01144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t de pen stevig v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6" descr="DSC01146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wijder de pen en het ko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6" descr="DSC01147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 kan er gewerkt worden zonder het meetpunt onbewust te verplaa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6" descr="DSC01152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6" descr="DSC01153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Maak je het meetpunt niet zwevend dan staat je in de w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6" descr="DSC0115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door wordt het te lastig om te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6" descr="DSC0115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bestaat de kans dat je meetpunt valt weg en zal je het uitzetwerk opniet moeten uitvo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6" descr="DSC01160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                           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4"/>
          <p:cNvSpPr/>
          <p:nvPr/>
        </p:nvSpPr>
        <p:spPr>
          <a:xfrm>
            <a:off x="3276720" y="838080"/>
            <a:ext cx="0" cy="495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5"/>
          <p:cNvSpPr/>
          <p:nvPr/>
        </p:nvSpPr>
        <p:spPr>
          <a:xfrm>
            <a:off x="3276720" y="5791320"/>
            <a:ext cx="32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6"/>
          <p:cNvSpPr/>
          <p:nvPr/>
        </p:nvSpPr>
        <p:spPr>
          <a:xfrm flipH="1" flipV="1">
            <a:off x="3276360" y="837720"/>
            <a:ext cx="3276360" cy="495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7"/>
          <p:cNvSpPr/>
          <p:nvPr/>
        </p:nvSpPr>
        <p:spPr>
          <a:xfrm>
            <a:off x="3276720" y="5486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9"/>
          <p:cNvSpPr/>
          <p:nvPr/>
        </p:nvSpPr>
        <p:spPr>
          <a:xfrm>
            <a:off x="358128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bruik dus altijd getallen die deze verhouding heb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752480" y="2057400"/>
          <a:ext cx="5181840" cy="417204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728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nodigde materia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pe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tband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m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DSC01103"/>
          <p:cNvPicPr/>
          <p:nvPr/>
        </p:nvPicPr>
        <p:blipFill>
          <a:blip r:embed="rId1"/>
          <a:stretch/>
        </p:blipFill>
        <p:spPr>
          <a:xfrm>
            <a:off x="4125960" y="1523880"/>
            <a:ext cx="4829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paal de hoofdlijn waarlang de haaks hoek uitgezet moet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em deze lijn de vaste l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1066680" y="434340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7"/>
          <p:cNvSpPr/>
          <p:nvPr/>
        </p:nvSpPr>
        <p:spPr>
          <a:xfrm>
            <a:off x="167652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8" descr="DSC01108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paal het punt waar de haaks lijn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daar een pen n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6" descr="DSC0110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7"/>
          <p:cNvSpPr/>
          <p:nvPr/>
        </p:nvSpPr>
        <p:spPr>
          <a:xfrm>
            <a:off x="1066680" y="434340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8"/>
          <p:cNvSpPr/>
          <p:nvPr/>
        </p:nvSpPr>
        <p:spPr>
          <a:xfrm>
            <a:off x="160020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"/>
          <p:cNvSpPr/>
          <p:nvPr/>
        </p:nvSpPr>
        <p:spPr>
          <a:xfrm>
            <a:off x="533520" y="5562720"/>
            <a:ext cx="99036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t vanaf die pen, langs de vaste lijn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6" descr="DSC01107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7"/>
          <p:cNvSpPr/>
          <p:nvPr/>
        </p:nvSpPr>
        <p:spPr>
          <a:xfrm>
            <a:off x="1066680" y="434340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8"/>
          <p:cNvSpPr/>
          <p:nvPr/>
        </p:nvSpPr>
        <p:spPr>
          <a:xfrm>
            <a:off x="1600200" y="6095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9"/>
          <p:cNvSpPr/>
          <p:nvPr/>
        </p:nvSpPr>
        <p:spPr>
          <a:xfrm flipH="1">
            <a:off x="2819160" y="5715000"/>
            <a:ext cx="9903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t vanaf de pen waar de haakse lijn op de hoofd lijn uitkomt 4 ongeveer haaks op de hoofdl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DSC01109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7"/>
          <p:cNvSpPr/>
          <p:nvPr/>
        </p:nvSpPr>
        <p:spPr>
          <a:xfrm>
            <a:off x="1143000" y="4572000"/>
            <a:ext cx="22096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9"/>
          <p:cNvSpPr/>
          <p:nvPr/>
        </p:nvSpPr>
        <p:spPr>
          <a:xfrm>
            <a:off x="160020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0"/>
          <p:cNvSpPr/>
          <p:nvPr/>
        </p:nvSpPr>
        <p:spPr>
          <a:xfrm flipV="1">
            <a:off x="160020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609480" y="4343400"/>
            <a:ext cx="9907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1279440" y="5478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190512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04:05Z</dcterms:created>
  <dc:creator>lendfersc</dc:creator>
  <dc:description/>
  <dc:language>en-US</dc:language>
  <cp:lastModifiedBy>Marcel van Rijsbergen</cp:lastModifiedBy>
  <dcterms:modified xsi:type="dcterms:W3CDTF">2016-02-18T10:58:11Z</dcterms:modified>
  <cp:revision>3</cp:revision>
  <dc:subject/>
  <dc:title>Uitzetten haakse hoek  met behulp van de 3 4 5 steek</dc:title>
</cp:coreProperties>
</file>