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963D-C653-40FA-92EC-698D495578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0D02-6BA7-403F-AF6C-2AD3743BF9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782A-B4DA-4546-A990-A3E36D005C8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C9E7-B9EE-4F51-93AC-59C80FD2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185-E568-49EA-84A7-A0B9B4AB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BA001-4DF2-49A1-A8FB-7289792A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A002F-4E1A-4C19-82D5-F50C16B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B7CF4-4CA4-4033-A66E-2AD78D7D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65F27-E479-4271-936C-5334409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43ECA-2AF2-4EC1-AA24-FB8FFCCB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2B493-AFCE-4DDE-BE40-BC17EEAF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30A2D-5361-4BAC-8A00-A868270F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A9613-8EF2-473E-8E5B-AE868B09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04030-CA82-4CAF-9558-8BD8EA97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C9EB6-2B96-47FE-9404-B27FC37C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8F5-8E1B-419A-ACBC-12E7CA44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9574F-007F-4F3F-B5A1-BADA79A8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D63A2-79BB-4F66-BDC0-2DAF4F48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18589-3CAF-4B1B-AD0B-757678F8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32FCB-68DD-47C9-A1DD-7046F3A6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AD1B8-FA22-4FCC-9256-C697649F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D6B55-558C-49EC-8CB8-BAD545A9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F94DD-53A0-4168-99A7-6212993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69083-875F-43A6-9903-945D2154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4EBD1-C36C-4F02-A7B7-F9A72DBD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7767F-2A90-462E-B8CA-A4878601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25B-0D66-47F9-9C2C-E5199C16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D7D0F-6051-4F66-8AD9-726E890C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2A817-781E-49D1-8C52-FE61762E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A2694-0F36-4E8D-8BBD-8668C7D9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06DE3-6E20-4DEE-9324-225DB93C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AC98E-9D68-46AE-A833-656BCE4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5B8B6-89E7-4D73-8B1F-7A705423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AB174B-1B6E-4718-8029-D9A0D6FA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FF620-0F66-44E0-958D-90064380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472EA-2948-4568-966E-4ED1AC11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22A66-3412-46C6-8889-03303B5F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D567-9B9A-4E2A-88FC-3E14B7A9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9FFE5-73A3-4524-8AF1-218E7ED8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F1351-0BD5-4345-8EEF-84D8103E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C0EF1-F11E-4F0F-A781-82A2E754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75B35-6F61-4B52-B8C2-A1D6CAAE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F2DD8-F333-4601-8AB5-4507BD37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24C73-6B2D-477D-8964-07748201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2DA15-83B6-4D5C-BD16-EEEAA8C7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F77F6-7C97-4441-B099-1015830B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9C880-5BF8-464B-90BF-7C0AA2D4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2472E-DA9A-4FC2-AA0F-E68A696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EF6D-1C56-4D4F-B1DA-4DA1CF8E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82CC0-6BB7-44E8-AC2A-D4383F3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6CD25-7705-4EB2-ACA7-D0D46E1D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2D546-C7D6-47A0-A709-62E41390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7DCDF-9DE1-4F39-8B79-5443F313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65E79-CD06-4698-8DE3-7C722DE0D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FBD9E6-6E7B-4ECE-BDA9-6F41BC3F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91380-11E8-4D53-B27D-09AC82CC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DF8EC-216D-4391-B01B-C2547341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688DF-4B30-4A70-AF93-10B5935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3F3F9C-57FB-4DD6-823C-899DC099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1C2D-622A-455F-AC89-809B00BA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25EE6A-B001-45E3-844E-B6A4A3E2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02EA8-BC95-45B4-82D0-079FFF10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8DB99-BE4E-4367-BA42-D690FFB6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D62CD-60A1-49B4-B8AE-AF01415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BE899-6657-42FE-9DB8-D6871542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D36160-AE3A-4D13-96C5-FB384D3A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22345-641B-4F5B-B752-B1C75D58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9B82-C640-4919-8500-C67E2DED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80FA-F2E7-493D-BE85-EBA55E29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74F-9FAE-4AD9-A66D-805408F2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AF80-7975-4D68-8FAD-CA4679FA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FF4-54E3-4904-AF1D-885481A58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4003-7094-48AB-A9CD-548F0142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B49E-F91E-452B-883F-251B5A7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71C4-FBEE-4DE4-99C7-E08E2DDC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2ED5-39D6-4F0B-A30C-16EA4414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C364-13D0-44F3-AF78-7883B2E7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4C50-3790-408D-8E7D-A4B569A0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063E8-3594-4589-8AAE-D5ADC6B4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6A338-3F56-4B25-BE7A-D5435923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ECCD-11CE-4D8B-85F4-B1CF708F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38AF-B1EA-4FCC-905C-5BA734DD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5AE-809A-4FE7-90BF-3D2E5E21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C2FC5-6AA2-498F-BF19-411A0B4C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06578-4CB0-476F-B9A5-B5991E17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D4116-6E93-40DA-A5E5-9528434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9982-A304-4368-8678-336EAE32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BC57-8489-4EFF-8256-04A5EAEF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41546-E434-44A0-B4E8-7F6F03F6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0DB0-2C92-4AA1-9386-A0960D05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1114-C2C8-442A-A97A-E1D46FEC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AD6E-454F-48E0-8095-936ACF6E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6FC88-F63A-418A-A7D6-8F6044DB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25F-5709-4D56-88D9-53E99AC9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08555-F06A-4DFF-B74C-E4552655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07C3D-0DF6-4BB8-824C-C2FB2B12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12F3-7A2D-48C2-B1FB-A7839D12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F3D9B-5DB9-4DC9-B20A-853FB254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6D9A7-3872-48D7-945D-C81A836F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6AF3-9266-47EF-8740-E804EA4B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41C8-8B0D-4904-A2D8-C21BC686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CABAF-67D2-466B-A90D-6B439E30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3EE3-9AFE-42D2-B491-FA8526625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A3345-2811-4B78-B016-9056E86A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00B-EF9A-4201-B909-F6419EAE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F4259-6CCB-4C14-B264-886A22A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97EEC-52F5-467D-9A13-CE9B99D3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75FE2-A87E-4363-8AB5-D486F66C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C64DB-0620-407B-9E18-650016FF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34C7-D6D8-4461-B3E9-227F4637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2F984-AD86-4301-973C-D26E60F2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4FA6E-7EFC-47B0-B8CB-557B89A6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488A9-8092-43F7-9B82-94781D21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42FAC-10EC-489A-BF93-E4DAECA1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2E635-96E8-4243-8984-B842E568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A2D-4F4C-4363-BFB4-29DCC08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9CD5E-7806-4ECE-A26E-7D1074AB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62EF6-6380-4D36-8321-AF1B316C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43563-8FC2-484D-A5FA-EC339492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7FD36-222A-4DE9-95F8-669ACBA1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6DE3E-845D-46DD-8587-2F3C12E8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1A083-E475-4EB6-9493-6607ABB2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6B0DF-A00F-481C-871E-A59026B3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2A430-7150-434E-84F0-1F50AEA4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ED0E-A79D-4C87-BA0F-5A86B05F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09D31-4E70-492F-A614-25DDE907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A46-27C9-4E05-8CD2-CFC1D0D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951E9-2C41-4FCB-A14E-A68FD120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71D70-DA2E-4525-A206-EEB5327F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BE572-DE00-4FA3-A630-CAB481F1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8FC2-091D-4624-8482-18D4E180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83BC9-1D82-47E8-855F-006B341D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C39C8-7234-4333-B815-BD3443DE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C3C1-FE41-429C-880C-0ED2D4CB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EFEB0-785A-4A4B-B197-B8411267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19EC-2E7F-46FB-A628-5E813C92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4ABD6-1F64-4139-BDF1-979C490A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8A3-3B03-40EF-941A-099391F7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8B0EC-B43F-4207-AC19-E8F5B8E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757C0-8A61-4708-A098-ECE25BE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14FBB-048F-4870-9ED5-1458F6FE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BED33-8A16-4D41-AA52-6DD81E7C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49E6C-23B9-4772-BFFC-C8025039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BE04D-79BE-49D7-8F7E-ECD91090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8AF76-C857-41C9-BE51-9910DCA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9227F-24DF-4247-86AC-BCF03C45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3A35D-B838-4BC2-98ED-C86AB14E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5D9B6-14FB-4E23-848F-52D01CDD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012-2DC2-449B-8709-1C7FC1A7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0561F-E861-4F06-AD66-573D5C0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5655-5369-4AEB-82C1-6CBDC006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B0984-4943-4E03-BCAE-63E4EB0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F3D4B-67DB-407B-883D-E279C5E3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3307-11AD-44B2-83CC-0402CCC7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5043F-D1CA-48C2-A556-4DB9F6F2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7F38-05B8-4E11-8FE7-581DE36E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D4B15-E64A-45DA-ABF8-A7062073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A65DF-BE1C-46CC-BBBE-2B36EDB4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6A7D6-4732-4A85-83F6-7B4C2E88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639D-8EF4-4AE3-9D5A-CE3C0E3EBEC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6C69-935C-4E83-8835-BB2BB980936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BE68-3707-4672-AB59-5124040A4F4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C3DC-406F-4A6D-A788-C22C09E9AB9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4EA4-A76B-41AD-BB8C-27E7F92081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C4BE-4FD9-453D-B7BB-887A572ACA2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FD0E-B19C-413C-B1AD-8A24F0F0B8C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5CFA-C046-478E-A4C8-EF40DEE495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185E-A451-4D07-B42D-5A69DE9AAD8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FAE-C9DF-4BEE-9AB3-3A75F08CA25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3EFB-59CC-45B2-BB64-3050E1124E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0BDB-27F2-4F63-B150-E3B61FEFB25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89C9-7A57-4C07-8C41-76B099A461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Uitzetten haakse hoek</a:t>
            </a:r>
            <a:br>
              <a:rPr sz="4400"/>
            </a:br>
            <a:br>
              <a:rPr sz="4400"/>
            </a:b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Met behulp van de 3 4 5 st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ind beide punten met een ko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al de pin uit de bodem en teken met de (passer) cirkel bij 4 met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DSC01119"/>
          <p:cNvPicPr/>
          <p:nvPr/>
        </p:nvPicPr>
        <p:blipFill>
          <a:blip r:embed="rId1"/>
          <a:stretch/>
        </p:blipFill>
        <p:spPr>
          <a:xfrm>
            <a:off x="4572000" y="1600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7"/>
          <p:cNvSpPr/>
          <p:nvPr/>
        </p:nvSpPr>
        <p:spPr>
          <a:xfrm>
            <a:off x="990720" y="4343400"/>
            <a:ext cx="23619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9"/>
          <p:cNvSpPr/>
          <p:nvPr/>
        </p:nvSpPr>
        <p:spPr>
          <a:xfrm flipV="1">
            <a:off x="160020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rc 14"/>
          <p:cNvSpPr/>
          <p:nvPr/>
        </p:nvSpPr>
        <p:spPr>
          <a:xfrm rot="19885800">
            <a:off x="1447920" y="4724280"/>
            <a:ext cx="457200" cy="621000"/>
          </a:xfrm>
          <a:custGeom>
            <a:avLst/>
            <a:gdLst/>
            <a:ahLst/>
            <a:rect l="l" t="t" r="r" b="b"/>
            <a:pathLst>
              <a:path fill="none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</a:path>
              <a:path stroke="0" w="16813" h="21556">
                <a:moveTo>
                  <a:pt x="1375" y="-1"/>
                </a:moveTo>
                <a:cubicBezTo>
                  <a:pt x="7413" y="385"/>
                  <a:pt x="13014" y="3285"/>
                  <a:pt x="16813" y="7995"/>
                </a:cubicBezTo>
                <a:lnTo>
                  <a:pt x="0" y="21556"/>
                </a:lnTo>
                <a:lnTo>
                  <a:pt x="137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1830600" y="60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122112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het punt 3 5 richting punt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ken dit zoals bij stap 5 zodat er een kruis ont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6" descr="DSC01126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7"/>
          <p:cNvSpPr/>
          <p:nvPr/>
        </p:nvSpPr>
        <p:spPr>
          <a:xfrm>
            <a:off x="1143000" y="4419720"/>
            <a:ext cx="228600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8"/>
          <p:cNvSpPr/>
          <p:nvPr/>
        </p:nvSpPr>
        <p:spPr>
          <a:xfrm>
            <a:off x="1600200" y="6095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9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rc 10"/>
          <p:cNvSpPr/>
          <p:nvPr/>
        </p:nvSpPr>
        <p:spPr>
          <a:xfrm rot="19573200">
            <a:off x="1294920" y="464796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1"/>
          <p:cNvSpPr/>
          <p:nvPr/>
        </p:nvSpPr>
        <p:spPr>
          <a:xfrm flipH="1" flipV="1">
            <a:off x="1599840" y="472428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rc 12"/>
          <p:cNvSpPr/>
          <p:nvPr/>
        </p:nvSpPr>
        <p:spPr>
          <a:xfrm rot="17586600">
            <a:off x="1333080" y="4609800"/>
            <a:ext cx="68580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1295280" y="5334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4"/>
          <p:cNvSpPr/>
          <p:nvPr/>
        </p:nvSpPr>
        <p:spPr>
          <a:xfrm>
            <a:off x="2057400" y="5181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1752480" y="6095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de haakse hoek af door de punten te verbi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6" descr="DSC01129"/>
          <p:cNvPicPr/>
          <p:nvPr/>
        </p:nvPicPr>
        <p:blipFill>
          <a:blip r:embed="rId1"/>
          <a:stretch/>
        </p:blipFill>
        <p:spPr>
          <a:xfrm>
            <a:off x="4495680" y="1752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7"/>
          <p:cNvSpPr/>
          <p:nvPr/>
        </p:nvSpPr>
        <p:spPr>
          <a:xfrm>
            <a:off x="1066680" y="3809880"/>
            <a:ext cx="21337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1676520" y="40384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1676520" y="56386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>
            <a:off x="16765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"/>
          <p:cNvSpPr/>
          <p:nvPr/>
        </p:nvSpPr>
        <p:spPr>
          <a:xfrm>
            <a:off x="19051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5"/>
          <p:cNvSpPr/>
          <p:nvPr/>
        </p:nvSpPr>
        <p:spPr>
          <a:xfrm>
            <a:off x="1905120" y="5105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tpunt zwevend m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 creëren voor graafwerkzaamhe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punt blijft bewa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en zwevend meetp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1" descr="DSC0113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langs de bestaande lijn en nieuwe lijn en laat deze voorbij het meetpunt 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6" descr="DSC0113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 een pen buiten het werk langs di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6" descr="DSC0113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bind het koord de pen die staat op de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 lij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DSC0113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ruim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DSC01141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ak de pen in de lus van het 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6" descr="DSC0114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oel van dez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uitzetten van een haakse 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t is een hoek van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ra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Deze hoek uit te zetten in een groene omgeven (grote ruim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Minder fout als bij gebruik met winkelh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an het koord met de pen en plaats de pen in de zelfde lijn met de haakse l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6" descr="DSC01144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t de pen stevig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6" descr="DSC01146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ijder de pen en het ko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6" descr="DSC01147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kan er gewerkt worden zonder het meetpunt onbewust te verplaa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DSC01152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DSC01153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ak je het meetpunt niet zwevend dan staat je in de w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DSC0115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door wordt het te lastig om te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" descr="DSC0115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estaat de kans dat je meetpunt valt weg en zal je het uitzetwerk opniet moeten uitv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6" descr="DSC01160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                          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4"/>
          <p:cNvSpPr/>
          <p:nvPr/>
        </p:nvSpPr>
        <p:spPr>
          <a:xfrm>
            <a:off x="3276720" y="838080"/>
            <a:ext cx="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"/>
          <p:cNvSpPr/>
          <p:nvPr/>
        </p:nvSpPr>
        <p:spPr>
          <a:xfrm>
            <a:off x="3276720" y="579132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6"/>
          <p:cNvSpPr/>
          <p:nvPr/>
        </p:nvSpPr>
        <p:spPr>
          <a:xfrm flipH="1" flipV="1">
            <a:off x="3276360" y="837720"/>
            <a:ext cx="3276360" cy="495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3276720" y="5486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9"/>
          <p:cNvSpPr/>
          <p:nvPr/>
        </p:nvSpPr>
        <p:spPr>
          <a:xfrm>
            <a:off x="35812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bruik dus altijd getallen die deze verhouding heb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52480" y="2057400"/>
          <a:ext cx="5181840" cy="417204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728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nodigde material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p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tband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ms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DSC01103"/>
          <p:cNvPicPr/>
          <p:nvPr/>
        </p:nvPicPr>
        <p:blipFill>
          <a:blip r:embed="rId1"/>
          <a:stretch/>
        </p:blipFill>
        <p:spPr>
          <a:xfrm>
            <a:off x="4125960" y="1523880"/>
            <a:ext cx="482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de hoofdlijn waarlang de haaks hoek uitgezet moet w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oem deze lijn de vaste 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>
            <a:off x="167652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8" descr="DSC01108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paal het punt waar de haaks lijn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daar een pen n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6" descr="DSC01105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600200" y="60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533520" y="5562720"/>
            <a:ext cx="99036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ie pen, langs de vaste lijn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DSC01107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7"/>
          <p:cNvSpPr/>
          <p:nvPr/>
        </p:nvSpPr>
        <p:spPr>
          <a:xfrm>
            <a:off x="1066680" y="4343400"/>
            <a:ext cx="23623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8"/>
          <p:cNvSpPr/>
          <p:nvPr/>
        </p:nvSpPr>
        <p:spPr>
          <a:xfrm>
            <a:off x="1600200" y="6095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 flipH="1">
            <a:off x="2819160" y="5715000"/>
            <a:ext cx="9903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t vanaf de pen waar de haakse lijn op de hoofd lijn uitkomt 4 ongeveer haaks op de hoofdl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DSC01109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7"/>
          <p:cNvSpPr/>
          <p:nvPr/>
        </p:nvSpPr>
        <p:spPr>
          <a:xfrm>
            <a:off x="1143000" y="4572000"/>
            <a:ext cx="22096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1600200" y="6095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0"/>
          <p:cNvSpPr/>
          <p:nvPr/>
        </p:nvSpPr>
        <p:spPr>
          <a:xfrm flipV="1">
            <a:off x="160020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609480" y="4343400"/>
            <a:ext cx="9907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79440" y="5478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190512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0:04:05Z</dcterms:created>
  <dc:creator>lendfersc</dc:creator>
  <dc:description/>
  <dc:language>en-US</dc:language>
  <cp:lastModifiedBy>Marcel van Rijsbergen</cp:lastModifiedBy>
  <dcterms:modified xsi:type="dcterms:W3CDTF">2016-02-18T10:58:11Z</dcterms:modified>
  <cp:revision>3</cp:revision>
  <dc:subject/>
  <dc:title>Uitzetten haakse hoek  met behulp van de 3 4 5 steek</dc:title>
</cp:coreProperties>
</file>