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B08-6B04-45BF-AD35-91005DA1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44A-00FD-44BC-B676-55867D3A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89E-6B46-4FE3-9047-87B762CF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4A7-BB47-4C71-BE7B-DD5CA469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43B-9DB6-48D1-8DE6-D2E46BE6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38D-0C96-4862-91E3-E3B7A742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AE9-38A4-4CE2-B696-DF5B7B70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562-1AA4-4257-9F26-ABB07B6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2E8-B5D5-40FC-A7BA-03264D0E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D17-B8DD-42B2-B6F8-2066662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2E4-25CE-4901-B7D4-FFC09120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A49-3D1B-4E6C-8649-1C08CDD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AB2A-5235-4121-A444-CA89FC422B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orzaken va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21300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508464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2064" t="8099" r="6304" b="10894"/>
          <a:stretch/>
        </p:blipFill>
        <p:spPr>
          <a:xfrm>
            <a:off x="468360" y="4221000"/>
            <a:ext cx="38876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orzaken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777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 komt het dat sommige mensen crimineel worden en anderen ni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en (19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d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euw)  :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riminaliteit is aangeboren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                         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edrag van het individu los zien van and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aatschappelijk verschijns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8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 worden crimine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esl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ongens meer dan meisjes (zie hoofdstuk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64500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eel tussen 16 en 23 ja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Zware criminalite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volwass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437000"/>
            <a:ext cx="835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aatschappelijke positi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la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inbraak en agressieve delic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ho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witteboordencriminalit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etnische afkomst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oorzaak criminaliteit vaak een combinatie van leeftijd en lage maatschap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pelijke positie (verschil in opvoeding jongens en meisjes komt v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1374" r="0" b="11374"/>
          <a:stretch/>
        </p:blipFill>
        <p:spPr>
          <a:xfrm>
            <a:off x="5796000" y="3141720"/>
            <a:ext cx="2830320" cy="30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roepsdru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eel gedrag kan status geven in de groep.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89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angeboren en aangeleerde eigenschapp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Criminaliteit is meestal aangeleerd (opvoeding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Soms kunnen ook karaktereigenschappen crimineel gedrag bevorderen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85264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Opvo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waarlozing, mishandeling kunnen leid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psychische problemen en/of gedrag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oornissen wat kans op crimineel gedrag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t toenemen.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2100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cohol en drugs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genomen gebruik leidt tot meer geweld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v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bij veel gebruik nemen remmingen a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76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41300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rmverva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r binding (familie), werkeloosheid, niet naar school gaan leiden t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niet (meer) accepteren van de normen van de samenleving wat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aliteit bevordert. 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565360"/>
            <a:ext cx="8353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inder sociale control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individualisering (ik-cultuur) van de samenleving staat minder sociale con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le (= letten op elkaar) t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veel mensen bij elkaar (b.v. flats in grote steden) leidt tot anonimiteit (= el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ar niet kennen) zodat mensen minder op elkaar letten en zich mind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ntwoordelijk voelen voor elk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der sociale control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agere pakkan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er gelegenheid tot crimi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liteit</a:t>
            </a: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= gelegenheidsmot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lechte leefomstandighed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ede en werkelooshe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tzichtloosheid en afnemend vertrouw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 maatschappij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enemende neiging tot criminaliteit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8:17Z</dcterms:modified>
  <cp:revision>43</cp:revision>
  <dc:subject/>
  <dc:title>Dia 1</dc:title>
</cp:coreProperties>
</file>