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E33-4310-4BAD-AD5E-F0F81F6D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C02-E7B2-41CA-A472-BE2DCF76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DDC-A080-46E9-B729-7C5AC8C7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2FE-658F-4650-B814-8F93CE20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64A-1FB9-44C5-B87B-DD0EEB0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17B-177B-4982-9F1E-D5489F4C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2A8-830A-4F29-BDE4-CD9FB53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849-33DD-470F-8916-581BAF8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4BC-1375-48F3-A166-6F5A0BF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350-C3D3-4B5E-85DC-9943541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AAA-350E-4D36-813F-8753058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E58-C1D8-4104-9DB2-5DCB17B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1121-56D0-4CB5-A9C1-57D1BEC050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95280" y="263700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 (Rech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209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23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al-democratie (Link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v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hristen-democratie (Midd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8" descr="Afbeeldingsresultaat voor rechts extremisme"/>
          <p:cNvPicPr/>
          <p:nvPr/>
        </p:nvPicPr>
        <p:blipFill>
          <a:blip r:embed="rId2"/>
          <a:stretch/>
        </p:blipFill>
        <p:spPr>
          <a:xfrm>
            <a:off x="5313240" y="4437000"/>
            <a:ext cx="160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hthoek 5"/>
          <p:cNvSpPr/>
          <p:nvPr/>
        </p:nvSpPr>
        <p:spPr>
          <a:xfrm>
            <a:off x="395280" y="404640"/>
            <a:ext cx="7777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Ecologische 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tuu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mag zo min mogelijk worden aangetast door mensen. Burgers moeten zich milieubewust gedragen. Groen Links en de Partij voor de Dieren zijn voorbeelden van milieupartij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opul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een stijl van politiek bedrijven. Inspelen op de onderbuik gevoelens van het volk. Zij zijn van mening dat zij als enige de ‘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l van het vol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’ kennen en bereid zijn daarnaar te luisteren. Deze partijen hebben vaak zeer nationalistische standpunten. Dus tegen Europa en tegen immigratie. Pvv en Sp zijn voorbeelden hierva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7" descr=""/>
          <p:cNvPicPr/>
          <p:nvPr/>
        </p:nvPicPr>
        <p:blipFill>
          <a:blip r:embed="rId1"/>
          <a:stretch/>
        </p:blipFill>
        <p:spPr>
          <a:xfrm>
            <a:off x="1187280" y="3730680"/>
            <a:ext cx="364356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Afbeelding 8" descr=""/>
          <p:cNvPicPr/>
          <p:nvPr/>
        </p:nvPicPr>
        <p:blipFill>
          <a:blip r:embed="rId2"/>
          <a:stretch/>
        </p:blipFill>
        <p:spPr>
          <a:xfrm>
            <a:off x="5003640" y="420048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9" descr=""/>
          <p:cNvPicPr/>
          <p:nvPr/>
        </p:nvPicPr>
        <p:blipFill>
          <a:blip r:embed="rId3"/>
          <a:stretch/>
        </p:blipFill>
        <p:spPr>
          <a:xfrm>
            <a:off x="7053120" y="6116760"/>
            <a:ext cx="1484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8:46Z</dcterms:modified>
  <cp:revision>66</cp:revision>
  <dc:subject/>
  <dc:title>Dia 1</dc:title>
</cp:coreProperties>
</file>