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412-67F1-4174-9BA8-274F2BE1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300-0B56-4FAE-8C9D-7FAAFF19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009-F504-4D64-B8B8-459D27EA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9B8-9F9A-4581-8826-9458233B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2E8-29B8-4EA7-A2E7-D0F5F07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B50-455C-4A00-B35A-8115F4B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E93-F5A8-4C54-8405-C35B185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152-7ABB-4741-A8AA-D8816AD7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069-DE8E-493D-A915-63ABBA5D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90C-33BD-4F8A-8395-7A64229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5D4-879A-479F-9FD5-9A80E41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344-3C9D-41DC-8B8F-2C2D8B3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62C-7CCA-4335-8603-F5D58EDE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e besluitvo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72000" cy="209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verloopt de politiek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als deelv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 “Hoe leidt een maatschappelijke probleem in de samenleving tot politieke besluiten?”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  “Welke invloed hebben ambtenaren en politieke partijen op d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068640"/>
            <a:ext cx="82072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luitvorming in 4 fa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er: uiten van wensen waardoor het als een politiek probleem wordt erke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: Het willen verhogen van de maximumsnelheid naar 130 km/u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zoveel mogelijk snelwe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stande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utomobilis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fsl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genstande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bewe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die in de buur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de snelweg w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292640"/>
            <a:ext cx="57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4437000"/>
            <a:ext cx="3313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groepen proberen hun idee-ën en eisen onder de aandacht van politici te brengen o.a. via de massame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door kan een vraagstuk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265" t="0" r="6265" b="0"/>
          <a:stretch/>
        </p:blipFill>
        <p:spPr>
          <a:xfrm>
            <a:off x="5796000" y="549360"/>
            <a:ext cx="2016000" cy="14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333360"/>
            <a:ext cx="8207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zetting: het afwegen van de politieke problemen en het bedenken van een oplo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voorbeeld: Wat krijgt de prioriteit? De economie (130 km/uur) of het milieu (geen 130 km/uur). Op alle snelwegen of op een gedeelte 130 km/uur of helemaal ni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wordt een oplossing bedacht / keuze gemaak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heet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eleidsvoorberei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492280"/>
            <a:ext cx="8207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3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mzetting: de besluitvormings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een besluit genomen door het kabinet en daarna beslist de volksvertegenwoor-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Op gemeentelijk niveau het College van Burgemeester en Wethouders en de gemeenteraad en op provinciaal niveau Gedeputeerde Staten en de Provinciale Stat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568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4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itvoer: besluiten uitv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esluit wordt uitgevoerd. 130 km/uur op diverse snelwe-gen is een feit. Mensen uiten hun ervaringen met het besluit en delen die weer met de publieke opinie en politici. Dit heet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terugkoppel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kan weer leiden tot fase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11280" y="4437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4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bten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907920"/>
            <a:ext cx="7775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 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antwoordel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ar ze kunnen niet zonde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undigheid en ervaring van ambtena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vaa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enkele jaren in functie.  Ambtenaren blijv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jaren op hun post. Ze zijn ee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aste wa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 bovenstaande volgt dat hoge ambtenaren vee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e invlo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b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4480" t="17050" r="12240" b="9018"/>
          <a:stretch/>
        </p:blipFill>
        <p:spPr>
          <a:xfrm>
            <a:off x="6156360" y="907920"/>
            <a:ext cx="251928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2000" y="32846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eke part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89360"/>
            <a:ext cx="7991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partijen spelen een grote rol tijdens de besluitvormin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rengen hun standpunten naar vo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eïnvloeden mensen in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leveren mensen voor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vertegenwoordigen regelmatig belangen van maatschappelijke organisa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van een regeringspartij is groter dan van een oppositie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één partij heeft in Nederland de meerderheid. Daarom moeten partij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handelen over samenwerking en du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ompromis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9:15:45Z</dcterms:modified>
  <cp:revision>54</cp:revision>
  <dc:subject/>
  <dc:title>Dia 1</dc:title>
</cp:coreProperties>
</file>