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060B-A381-41CD-A147-4F8760ECC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E634-7354-4AA1-8124-BE60550F9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0E9E-6AF8-400D-A448-B83C797CE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3CAA-8833-44EA-9864-0E0695795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31B6-7C6C-4CF8-8BE9-5C686C390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1651-83FE-4EAC-87EF-59D027E22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ECC6-E3F6-4FF3-AFBB-40161081F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50A4-4154-44D8-91B1-979979B6E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9039-7CB6-46FF-8008-759F5B175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11DF-656D-414A-9861-096A844F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CF67-12E9-45E6-B0DC-8664BC16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F1AF-B6E1-49D3-BD3D-01177B00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E1BC2-2474-43EB-83C9-3EF33C988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26920" y="1268280"/>
            <a:ext cx="7058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het onderwerp: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Voor de rechter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1916280"/>
            <a:ext cx="705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het centraal schriftelijk met succes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2997360"/>
            <a:ext cx="705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a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geet niet ook he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716280"/>
            <a:ext cx="70581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der deze basiskennis is het maken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van inzichtvragen – die veel op het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examen voorkomen – onbegonn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76720" y="57340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64360" y="62373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00000" y="4076640"/>
            <a:ext cx="331164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539640" y="549360"/>
            <a:ext cx="59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oor de rech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1197000"/>
            <a:ext cx="8532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dit hoofdstuk staat de volgende vraag centra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at gebeurt er als de officier van justitie besluit dat je naar de 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chter moe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234936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2492280"/>
            <a:ext cx="4608360" cy="33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vol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 de officier van justitie besluit tot vervolging dan krijg je een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gvaardin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erin staat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arom je voor de rechter moe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schijne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ar je voor de rechter moet verschijne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nneer je moet verschij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 rechter beslist over een  verdachte dus spreken we over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afrechtspraak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9747" t="9823" r="12224" b="39855"/>
          <a:stretch/>
        </p:blipFill>
        <p:spPr>
          <a:xfrm>
            <a:off x="5219640" y="2781360"/>
            <a:ext cx="3457800" cy="2955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620640"/>
            <a:ext cx="85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htsinsta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04000" y="2565360"/>
            <a:ext cx="1511280" cy="3373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htb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04000" y="1125360"/>
            <a:ext cx="1511280" cy="3373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ge ra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04000" y="1844640"/>
            <a:ext cx="1511280" cy="3373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rechtsh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1052640"/>
            <a:ext cx="554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Nederland kennen we drie soorten rechtsinstan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7524720" y="22046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7524720" y="148392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1413000"/>
            <a:ext cx="6048360" cy="20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htbanken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 zijn negentien gebieden met elk een rechtban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ke rechtbank heeft verschillende soorten afdelingen en rechters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ntonrechter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voor overtreding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litierechter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or lichte misdrijv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ervoudige kamer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or zwaardere misdrijv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1280" y="3429000"/>
            <a:ext cx="792144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rechtshoven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 zijn vijf gerechtshov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owel de verdachte als de officier van justitie kunnen bij het gerechtshof in hoger beroep gaan wanneer ze het met de straf van de rechtbank niet eens zij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4797360"/>
            <a:ext cx="792144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ge raa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 is één hoge ra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j de hoge raad kun je in cassatie gaan zoals dat heet. De hoge raad kijkt of de rechtsregels goed zijn toegepast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l goed toegepast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uitspraak gerechtshof is geldig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et goed toegepast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erechtshof moet haar werk opnieuw do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1280" y="476280"/>
            <a:ext cx="85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erloop rechtszaa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(zie ook laatste filmpje bij hoofdstuk 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836640"/>
            <a:ext cx="554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en rechtszaak bestaat uit 8 stapp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1280" y="1197000"/>
            <a:ext cx="8137440" cy="53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1.  Opening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ontroleren persoonsgegevens van de verdachte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erdachte instrueren hoe hij zich moet gedragen tijdens de rechtszaa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2.  Aanklacht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fficier van justitie leest de aanklacht voo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3.  Getuigenverhoor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oren van getuigen die zijn opgeroepen door de officier van justitie en de advocaat van de verdachte. Ook deskundigen (b.v. psychiater) kan als getuige worden opgeroep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4.  Verhoor van de verdachte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erhoor door de officier van justitie en de advocaat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erdachte staat onder ed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5.  Requisitoir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fficier van justitie eist straf en beargumenteert di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6.  Pleidooi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erdedigend woord van de advocaa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7.  Laatste woord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erdachte mag als laatste zeggen wat hij zelf van de zaak en strafeis vind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8.  De uitspraak door de rech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0" t="10224" r="0" b="11353"/>
          <a:stretch/>
        </p:blipFill>
        <p:spPr>
          <a:xfrm>
            <a:off x="6156360" y="3789360"/>
            <a:ext cx="2187720" cy="1655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1280" y="476280"/>
            <a:ext cx="8532720" cy="39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Juryrechtspra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derland kent geen juryrechtspraak. (zie toelichting boek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et vonn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nnen het vonnis spelen 4 vragen een belangrijke ro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 Is er voldoende bewijs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en voldoende bewijs volgens de rechter dan volgt vrijspraa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  Gaat het om iets strafbaars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et alle geweld is strafbaar. Je mag jezelf bv. tot op zekere hoogte verdedig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 Is de dader strafbaar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 is iets strafbaars gedaan. De vraag is of het de dader valt aan te rekenen. (zie boe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Welke straf of maatregel wordt opgeleg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843280" y="4581360"/>
            <a:ext cx="296712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1280" y="476280"/>
            <a:ext cx="8064360" cy="52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Ongelijke behande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lgens de wet is er geen ongelijke behandeling toegestaan. In de grondwet staat: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edereen is voor de wet gelijk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edereen heeft recht op een eerlijk proc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och is er nog sprake van ongelijke behandeling. Een niet-westerse allochtoon heeft in de praktijk in bepaalde situaties meer kans om te worden aangehouden en veroordeeld dan een autochto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ze ongelijke behandeling heet </a:t>
            </a:r>
            <a:r>
              <a:rPr b="1" i="1" lang="nl-NL" sz="1600" spc="-1" strike="noStrike">
                <a:solidFill>
                  <a:srgbClr val="ff0000"/>
                </a:solidFill>
                <a:latin typeface="Arial"/>
              </a:rPr>
              <a:t>klassenjustitie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Oorzaken van ongelijke behandeling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erschillen in inkomen, opleiding en scholing leiden tot ongelijke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erdedigingskansen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Rechterlijke macht heeft ook vooroordelen t.o.v. bepaalde sociale klassen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aders van winkeldiefstal (vaker gepleegd door lagere sociale klassen dan hoge-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re) zijn makkelijker op te sporen dan daders van fraude (vaker gepleegd door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ogere sociale klassen dan lagere)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llochtonen worden vanwege cultuurverschillen niet altijd begrepen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Uit de praktijk blijkt dat mensen sneller aangifte doen tegen een allochtoon da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en autochtoon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0" dur="250" autoRev="1" fill="hold"/>
                                        <p:tgtEl>
                                          <p:spTgt spid="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4" dur="250" autoRev="1" fill="hold"/>
                                        <p:tgtEl>
                                          <p:spTgt spid="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250" autoRev="1" fill="hold"/>
                                        <p:tgtEl>
                                          <p:spTgt spid="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5:21:23Z</dcterms:created>
  <dc:creator>jan van gils</dc:creator>
  <dc:description/>
  <dc:language>en-US</dc:language>
  <cp:lastModifiedBy>Naam</cp:lastModifiedBy>
  <dcterms:modified xsi:type="dcterms:W3CDTF">2012-02-28T10:49:05Z</dcterms:modified>
  <cp:revision>47</cp:revision>
  <dc:subject/>
  <dc:title>Dia 1</dc:title>
</cp:coreProperties>
</file>