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CC6E-7005-4D4F-A916-DF55677BB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3AE3-1054-46F7-8A73-AEC2E3C0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92DF-4F10-40DA-8BAD-29485267D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F572-561B-4316-9302-1230CB3F8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E4BD-0C2E-4EEE-8651-604139A9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F7C4-34EA-4D9C-9C26-0E2A3A81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40CB-AC7A-4084-B39A-52E8A8D0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01AC-2BA9-4A9E-BD2B-6DC753A2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27F5-7B0B-4F1C-B66E-7333F6B4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AEF6-0BB7-4591-938C-30926775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3281-E751-4B6F-AB02-5DFC23BF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1411-D198-4A5C-BA35-652D7E4F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8C43-B7DA-467D-ADA0-2223E70B39E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4nieuws.nl/show.php?key=172937&amp;titel=Moordenaar%20bejaarde%20echtgenoot%20niet%20strafbaar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7058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Het strafrecht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700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852640"/>
            <a:ext cx="7058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328464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4005360"/>
            <a:ext cx="3095640" cy="2085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9640" y="549360"/>
            <a:ext cx="59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et strafre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119700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e vraa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 is strafrecht?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1844640"/>
            <a:ext cx="8353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itgangspunten van het strafrecht</a:t>
            </a:r>
            <a:br>
              <a:rPr sz="1800"/>
            </a:b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e w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Je kunt alleen worden gestraft voor wat in de wet strafbaar i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Wet bepaalt maximum stra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3141720"/>
            <a:ext cx="8353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e schuldvraag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Onschuldig tot het tegendeel is bewezen (rechter bepaal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Vóór de uitspraak van de rechter ben je verdach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Na de uitspraak ben je dader of is er vrijspraak (bij gebrek aan bewij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4365720"/>
            <a:ext cx="8353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het proce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Proces met onafhankelijke en onpartijdige rechter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Bij zware misdrijven drie rechters (= “meervoudige kamer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537372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vrijspraak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Je kan niet voor hetzelfde feit meer keren worden berecht na vrijspra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0" r="0" b="2500"/>
          <a:stretch/>
        </p:blipFill>
        <p:spPr>
          <a:xfrm>
            <a:off x="5867280" y="549360"/>
            <a:ext cx="2590920" cy="1727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68360" y="620640"/>
            <a:ext cx="8353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verjaring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Misdrijven en overtredingen kunnen na een aantal jaren niet meer word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vervolg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1484280"/>
            <a:ext cx="849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noodweer en overmach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In de strafmaat en/of veroordeling weegt altijd mee of je handelde uit nood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weer (= zelfverdediging) en/of overmacht (iets strafbaars doen buiten j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schu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263700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leeftijd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Voor jongeren geldt het jeugdstrafre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3357720"/>
            <a:ext cx="84963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(on)toerekeningsvatbaarheid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Wist iemand wat hij deed op het moment van het strafbare feit of was hij/zij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hopeloos in de w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7200" y="4941720"/>
            <a:ext cx="636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rouw hoeft niet de cel in voor moord op haar ma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klein verschil tussen “sterk ontoerekeningsvatbaar” e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ontoerekeningsvatbaar” heeft grote gevolgen voor verdach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ik op de filmprojec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6" descr="dyn007_original_230_230_gif_2616433_045200ad0f6ddc4359e05e37fcbfbe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472428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95280" y="404640"/>
            <a:ext cx="835344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wet</a:t>
            </a:r>
            <a:br>
              <a:rPr sz="1800"/>
            </a:b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het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wetboek van strafvorde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 o.a.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n en bevoegdheden rechte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ten en plichten slachtoffer(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ten en plichten hulpverleningsinstanti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ten en plichten advocat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ten en plichten polit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ten en plichten officier van justit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ten en plichten van de verdach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14172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hten van de verdach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342900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bent pas verdachte bij een redelijk vermoeden van sch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378936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hebt recht om te weten waarvan je wordt verdach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149720"/>
            <a:ext cx="8497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nl-NL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Je hebt recht op een advocaat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-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Je moet dan wel langer dan 6 uren hebben vastgezet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ie een advocaat niet kan betalen krijgt een zgn. pro Deo (= gratis) advo-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a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5300640"/>
            <a:ext cx="8353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hebt recht te zwijge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moet wel meewerken aan het vaststellen van je identitei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moet ook meewerken aan het afnemen van vingerafdrukken of DNA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6227640" y="765000"/>
            <a:ext cx="2368800" cy="2592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95280" y="54936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hten van de verdachte (vervol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83664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tie mag je maar een beperkte tijd vasthouden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e is afhankelijk van waar je van verdacht word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184464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wijs moet op een manier zijn verkregen die volgens de wet mag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 niet dan is het bewijs ongeldig. (= onrechtmatig verkregen bewijs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55736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wij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256536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ugdstrafre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285264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Kinderen tot 12 jaar kunnen niet door de rechter worden bestraf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Raad van de Kinderbescherming handelt dit af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3429000"/>
            <a:ext cx="83534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ngeren tussen de 12 en 18 jaar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an terecht voor de kinderrechter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tszitting niet openbaar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en gevangenisstraf maar jeugddetentie (= tuchtschool)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dertoezichtstelling (= OTS) waarbij een gezinsvoogd het gez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elei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atsing in opvoedingsinterna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373720"/>
            <a:ext cx="8353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Bij zware misdaden kan voor 16 t/m 18 jarigen het volwassen strafrech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lde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j uitzondering komen 18 t/m 21 jarigen voor de kinderrecht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jan van gils</cp:lastModifiedBy>
  <dcterms:modified xsi:type="dcterms:W3CDTF">2012-02-05T15:59:52Z</dcterms:modified>
  <cp:revision>41</cp:revision>
  <dc:subject/>
  <dc:title>Dia 1</dc:title>
</cp:coreProperties>
</file>