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F879-61F2-4174-87F9-EC486B28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F604-5120-4822-975C-24E3414A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43C-DADE-4720-870B-C659E935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C37-60F0-4D9A-90B9-72A69D46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664-89FD-4240-BE2F-0AA499A2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EE20-984C-4B09-8D9F-30C1967B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E89-5137-4CEC-9C53-A8860705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DFF0-4AF6-4CB6-A360-04EFCDBE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1C70-772B-4FF6-85FF-9EA40C54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EBD-9F75-4531-9274-38B7370B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BF88-E382-4FE9-A4A7-7C3B1DDF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F01C-344B-4021-8FF6-FFD46AED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9D66-C3D3-407B-BAAF-9329F2AE44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rsBc1UqO5A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eclassering.nl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lachtofferhulp.nl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het onderwerp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Waarom straffen w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16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2997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619280" y="371628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076720" y="5734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8" descr="straffen"/>
          <p:cNvPicPr/>
          <p:nvPr/>
        </p:nvPicPr>
        <p:blipFill>
          <a:blip r:embed="rId2"/>
          <a:stretch/>
        </p:blipFill>
        <p:spPr>
          <a:xfrm>
            <a:off x="1042920" y="4076640"/>
            <a:ext cx="2951280" cy="2212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9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Waarom straffen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11280" y="1052640"/>
            <a:ext cx="8532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dit hoofdstuk staan de volgende vragen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Waarom straffen we?</a:t>
            </a:r>
            <a:br>
              <a:rPr sz="1600"/>
            </a:br>
            <a:r>
              <a:rPr b="1" lang="nl-NL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  Welke straffen kennen we in Nederla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11280" y="2133720"/>
            <a:ext cx="777708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Doelen van stra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raak en vergelding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noegdoening voor het slachtoffer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schrikking van de dader om te voorkomen dat die het nog eens doe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schrikking van ander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veiliging van de samenlevin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komen dat mensen voor eigenrechter gaan spelen.</a:t>
            </a:r>
            <a:br>
              <a:rPr sz="18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socialisatie (= heropvoed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de-straf-van-het-kind-thumb18222326"/>
          <p:cNvPicPr/>
          <p:nvPr/>
        </p:nvPicPr>
        <p:blipFill>
          <a:blip r:embed="rId1"/>
          <a:stretch/>
        </p:blipFill>
        <p:spPr>
          <a:xfrm>
            <a:off x="6948360" y="549360"/>
            <a:ext cx="1513080" cy="227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5" name="Text Box 19"/>
          <p:cNvSpPr/>
          <p:nvPr/>
        </p:nvSpPr>
        <p:spPr>
          <a:xfrm>
            <a:off x="611280" y="4365720"/>
            <a:ext cx="792144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roeger en 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604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iddeleeuwen: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adruk ligt op wraak, afschrikking en vergelding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870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schaffing van de doodstraf in Nederlan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886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tooiing van het Wetboek van Strafrecht leidt tot afschaffing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lijfstraff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u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aast straf (opsluiting, geldboete, taakstraf) speelt resocialisa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ie een belangrijke rol.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11280" y="404640"/>
            <a:ext cx="51847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Hoe zwaar straft een recht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afmaat = hoe zwaar er gestraft word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afmaat hangt af van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soort delic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f de dader al eerder is bestraft door de rechter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n zo ja waarvoor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vraag of er verzachtende omstandigheden zij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6" descr="dyn007_original_230_230_gif_2616433_045200ad0f6ddc4359e05e37fcbfbe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90792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3203640" y="2708280"/>
            <a:ext cx="5832360" cy="35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oorten stra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oofdstraff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ofdstraffen binnen het Wetboek van Strafrec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Geldboet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e niet betaalt moet naar de gevange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Hechteni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ijheidsstraf bij overtredingen. Maximaal 1 ja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Gevangenisstraf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ijheidsstraf bij een misdrijf. Maximaal levensla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Taakstraf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betaald werk waar de samenleving wat aan hee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c3e2adab2ce4280daf00a518fe9db866Z2V2YW5nZW5pc18xLmpwZw=="/>
          <p:cNvPicPr/>
          <p:nvPr/>
        </p:nvPicPr>
        <p:blipFill>
          <a:blip r:embed="rId3"/>
          <a:stretch/>
        </p:blipFill>
        <p:spPr>
          <a:xfrm>
            <a:off x="755640" y="3068640"/>
            <a:ext cx="2098800" cy="28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11280" y="549360"/>
            <a:ext cx="78483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ijkomende stra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ijkomende straffen hebben altijd iets te maken met het delic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ronken chauffeur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invordering van het rijbewij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alker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erbod om in een bepaalde wijk of stad te ko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11280" y="2349360"/>
            <a:ext cx="79930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el: Samenleving beschermen tegen de da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Ter beschikkingstelling  (tbs)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sychiatrische behandeling van gevaarlijke lied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Onder toezichtstelling (ots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zinsvoogd voor minderjarige verdach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11280" y="4581360"/>
            <a:ext cx="79930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oorwaardelijke str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el: Waarschu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waardelijke straf wordt pas uitgevoerd wanneer een dader hetzelfde delict binnen een door de rechter bepaalde tijd nogmaals pleeg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1692385828"/>
          <p:cNvPicPr/>
          <p:nvPr/>
        </p:nvPicPr>
        <p:blipFill>
          <a:blip r:embed="rId1"/>
          <a:srcRect l="0" t="0" r="26198" b="0"/>
          <a:stretch/>
        </p:blipFill>
        <p:spPr>
          <a:xfrm>
            <a:off x="5651640" y="2349360"/>
            <a:ext cx="2952720" cy="266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611280" y="404640"/>
            <a:ext cx="78483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Helpt gevangenisstraf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idive voor meer dan 50% van de dad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ns sommige leidt gevangenisstraf niet tot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socialisatie maar tot  asocialisatie. (= zich niet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er kunnen aanpassen aan de maatschappi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11280" y="2060640"/>
            <a:ext cx="806436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lass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oel reclassering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ders helpen met resocialisatie en voorkomen va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idive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at doet de reclasser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óór de rechtszaak een verslag maken over d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ituatie van de verdach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oezicht houden op uitvoering taakstraf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dersteuning tijdens detentie (= gevangenschap)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nk aan begeleiding bij familieproblemen of het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arten van een opleiding binnen de gevange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ieden van terugkeerhulp. (Zoeken van huisvesting en werk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6" descr="dyn007_original_230_230_gif_2616433_045200ad0f6ddc4359e05e37fcbfbe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112536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6227640" y="3284640"/>
            <a:ext cx="2590920" cy="169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Op de site van de reclassering</a:t>
            </a: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vind je een film van een half uur te over wat de reclasse-ring do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De film heeft als titel: </a:t>
            </a:r>
            <a:r>
              <a:rPr b="1" i="1" lang="nl-NL" sz="1400" spc="-1" strike="noStrike">
                <a:solidFill>
                  <a:srgbClr val="000000"/>
                </a:solidFill>
                <a:latin typeface="Arial"/>
              </a:rPr>
              <a:t>“Reclassering Nederland Werkt!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V="1">
            <a:off x="7451640" y="2852640"/>
            <a:ext cx="0" cy="4320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971640" y="620640"/>
            <a:ext cx="64087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lachtofferhu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ij een ernstig misdrijf hebben slachtoffers spreekrecht tijdens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rechtszitt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 ondersteuning kan een slachtoffer terecht bij de Landelijke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rganisatie  Slachtofferhul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lachtoffer kan vragen om schadevergoeding. Soms moet dat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een apparte rechtsza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slachtofferhulp-nederland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429000"/>
            <a:ext cx="3600360" cy="167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Text Box 9"/>
          <p:cNvSpPr/>
          <p:nvPr/>
        </p:nvSpPr>
        <p:spPr>
          <a:xfrm>
            <a:off x="5867280" y="3645000"/>
            <a:ext cx="1800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Klik op het logo en bezoek eens de site van slachtofferhulp Nederlan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H="1">
            <a:off x="4932000" y="4149720"/>
            <a:ext cx="93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Ole de Vos</cp:lastModifiedBy>
  <dcterms:modified xsi:type="dcterms:W3CDTF">2016-04-22T10:10:33Z</dcterms:modified>
  <cp:revision>53</cp:revision>
  <dc:subject/>
  <dc:title>Dia 1</dc:title>
</cp:coreProperties>
</file>