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48EB-E0CF-4F30-BC71-8FE3BBB7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FC4D-7C43-4017-8F26-7168951E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C495-696F-4D3B-B1BF-E16414CA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696-5022-42BB-91EE-0F9231C0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462-8199-479E-A24F-01B5CB46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D0C-143E-485C-B434-9B67DBFB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3D96-4AC9-4B22-A429-D7B61A1E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EB8D-FACA-4B6F-BE7D-0618D77A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5FDA-F9F9-4681-951A-0D97B2B6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0DF-441C-4ED6-92D3-F4184BAE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237-D396-46DA-A8BA-875D4BAD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9D5-C374-4162-9BFC-05567ACA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9DB6-77DA-4374-9824-10E48164EC6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witmunin.com/v/628478/kinderkoor-zingt-aangepast-&apos;kerstliederen&apos;-in-winkelcentrum-voor-opvoedingslij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Criminaliteit, 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een probleem?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3068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403280" y="342900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708360" y="4869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bully"/>
          <p:cNvPicPr/>
          <p:nvPr/>
        </p:nvPicPr>
        <p:blipFill>
          <a:blip r:embed="rId2"/>
          <a:srcRect l="3685" t="0" r="0" b="0"/>
          <a:stretch/>
        </p:blipFill>
        <p:spPr>
          <a:xfrm>
            <a:off x="900000" y="4221000"/>
            <a:ext cx="309564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riminaliteit, een proble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11280" y="1197000"/>
            <a:ext cx="8064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treding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ximaal 1 jaar hechtenis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estal geen strafblad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hoge boete of hechtenis blijft de overtred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ximaal 10 jaar geregistr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sdrijf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ximaal levensla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strafblad gedurende 20 jaar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ook strafbaar zijn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oging om een misdrijf te pleg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medeplichtig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4221000"/>
            <a:ext cx="8064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oorten criminal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ware criminalitei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roof)moord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erkracht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eorganiseerde misdaad (maffiapraktijk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el voorkomend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inkeldiefst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riminalitei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andalism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539640" y="549360"/>
            <a:ext cx="806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riminaliteit is ‘n maatschappelijk probleem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el mensen hebben ermee te maken (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sociaal probleem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Er bestaan verschillende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menin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over en er spelen diverse 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belan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n rol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overheid bemoeit er zich mee (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politiek probleem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79640" y="2133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Sociaal probleem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Aantasting van waarden en norm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Wanneer overheid niet ingrijpt gaan mensen eigen rechter spel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Er is materiële en emotionele sch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079640" y="335772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Meningen en belan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Zwaardere straffen willen of juist niet 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coholgebruik pas bij 18 jaar of juist n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079640" y="429264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857760"/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Politiek probleem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inks (b.v. ‘Groen Links’ en ‘SP’)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lechte leefomstandigheden leid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t meer criminalitei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beleid vooral richten op voorkom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 criminaliteit (preventie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chts (b.v. ‘PVV en VVD’)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ader verantwoordelij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leid gericht op (streng) straff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= repress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riminaliteit"/>
          <p:cNvPicPr/>
          <p:nvPr/>
        </p:nvPicPr>
        <p:blipFill>
          <a:blip r:embed="rId1"/>
          <a:srcRect l="4283" t="3907" r="5703" b="5552"/>
          <a:stretch/>
        </p:blipFill>
        <p:spPr>
          <a:xfrm>
            <a:off x="3851280" y="907920"/>
            <a:ext cx="4896000" cy="3576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0" name="Rechthoek 2"/>
          <p:cNvSpPr/>
          <p:nvPr/>
        </p:nvSpPr>
        <p:spPr>
          <a:xfrm>
            <a:off x="395280" y="53006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lp nodig bij de opvo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lik op de filmprojector en kijk naar het  filmpj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68360" y="4762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Jongeren en ma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468360" y="907920"/>
            <a:ext cx="309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ongeren tussen 16 en 23 jaar plegen veel criminalit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riminaliteit gebeurt vooral door jongens en man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468360" y="2349360"/>
            <a:ext cx="30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orzaken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ongens mogen vaak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er dan meisjes va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n ouders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geboren verschillen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lichaamskr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agressieneig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chtsdenk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6" descr="dyn007_original_230_230_gif_2616433_045200ad0f6ddc4359e05e37fcbfbe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4720" y="4869000"/>
            <a:ext cx="1511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Ole de Vos</cp:lastModifiedBy>
  <dcterms:modified xsi:type="dcterms:W3CDTF">2014-09-08T09:06:12Z</dcterms:modified>
  <cp:revision>42</cp:revision>
  <dc:subject/>
  <dc:title>Dia 1</dc:title>
</cp:coreProperties>
</file>