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F24F-B582-442A-9156-7AE37E38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6B7F-3A53-47A8-80C8-969C9F50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467E-8C16-4160-91E5-8E473B53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717A-924E-4EA9-8988-611FB1DC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99F1-7C3F-4003-9B45-A4AD18CB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0AD-9068-43E0-A91D-03709AE0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8253-A41C-4E6C-9C2A-CFDFAC6B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F107-628E-4DB3-8F7C-BB39A0B7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66A6-7BDE-43B3-9C91-F9638FF8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8997-35F3-4E58-917D-4679F3A1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216E-C824-4573-BC3B-39CC0D2D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AA4D-445A-46A0-AC25-E55F8985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E7E1-0707-45CC-A151-1697B5229D3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f/f3/Pol-landschap-2010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litieke partij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3.1 Kiesre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3.2 Soorten part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ief en passief kies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e Nederlanders van achttien jaar en ouder hebben actief en passief kiesre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ctief kiesrech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is het recht om te mogen stemmen.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assief kiesrech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is het recht om je verkiesbaar te ste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m de vier jaar kiezen de burgers van Nederland de nieuwe leden v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De Tweede Kam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De Provinciale Stat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De Gemeentera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aarnaast zijn er elke vijf jaar verkiezingen voor he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Europees Parl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en politieke partij bestaat ui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een groep mensen met ongeveer dezelfde ideeën over hoe de samenleving eruit zou moeten zi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rol van politieke parti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litieke partijen proberen op allerlei manieren invloed uit te oefenen op het beleid van de overhei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 brengen hun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standpunt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voortdurend naar v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vertegenwoordig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vaak de belangen van maatschappelijke organisaties en bepaalde groepen in de maatschappij. (VVD komt op voor de werkgevers en de SP voor de werknemers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 leveren mensen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voor politieke functie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 (Ministers, burgemeesters, Kamerle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e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beïnvloed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n in politieke functies. Partijen hebben veel contact met hun eigen Kamerleden, gemeenteraadsleden, ministers, leden van het Europees parlement en Burgemees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Linkse en rechtse parti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3"/>
          <p:cNvSpPr/>
          <p:nvPr/>
        </p:nvSpPr>
        <p:spPr>
          <a:xfrm>
            <a:off x="379440" y="985680"/>
            <a:ext cx="820728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Progressief of conservat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ogressief (vooruitstrevend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reven naar verandering. Je wilt de samenleving beter ma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onservatief (behoudend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moet zo weinig mogelijk veranderen. Wat is moet blij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s, links of mid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echts (Vrijheid)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il zo weinig mogelijk overheidsbemoeienis en zoveel mogelijk vrijheid. Mens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oeten zelf hun verantwoordelijkheid ne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overheid moet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assie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n, zich zo min mogelijk bemoeien met het dagelijks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ven en de econo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Links (Gelijkheid)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il dat de staat zich met veel dingen actief bemoeit want de zwakkeren in d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amenleving moeten worden beschermd. Zoveel mogelijk gelijkwaardigheid is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langrij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overheid moet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ctief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zijn, zich inzet voor de mensen in de samenlev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826920" y="620640"/>
            <a:ext cx="792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idd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Samen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mensen moeten het samen met de overheid doen. Sommige partijen hebben dus zowel linkse als rechtse standpunten. De overheid heeft een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anvullend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r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Bestand:Pol-landschap-2010.gif">
            <a:hlinkClick r:id="rId1"/>
          </p:cNvPr>
          <p:cNvPicPr/>
          <p:nvPr/>
        </p:nvPicPr>
        <p:blipFill>
          <a:blip r:embed="rId2"/>
          <a:srcRect l="0" t="0" r="0" b="1638"/>
          <a:stretch/>
        </p:blipFill>
        <p:spPr>
          <a:xfrm>
            <a:off x="395280" y="1989000"/>
            <a:ext cx="4535640" cy="446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1" name="Rectangle 16"/>
          <p:cNvSpPr/>
          <p:nvPr/>
        </p:nvSpPr>
        <p:spPr>
          <a:xfrm>
            <a:off x="3059280" y="3141720"/>
            <a:ext cx="576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5364000" y="2205000"/>
            <a:ext cx="338328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iernaast zie je een schema hoe je de belangrijkste politieke partijen van Nederland kunt indelen in progressief, rechts, conservatief en links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iet iedereen houdt eenzelfde verdeling aan. Sommigen zien de PVV als meer rechts-conservatief als op de afbeelding hiernaast en de VVD minder conservatief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is dus maar net hoe je tegen de zaken aankijk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e afbeelding op de volgende d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Matrix-Politieke-Partijen"/>
          <p:cNvPicPr/>
          <p:nvPr/>
        </p:nvPicPr>
        <p:blipFill>
          <a:blip r:embed="rId1"/>
          <a:stretch/>
        </p:blipFill>
        <p:spPr>
          <a:xfrm>
            <a:off x="1258920" y="476280"/>
            <a:ext cx="62658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Vos, O (Ole) de</cp:lastModifiedBy>
  <dcterms:modified xsi:type="dcterms:W3CDTF">2017-02-06T10:19:53Z</dcterms:modified>
  <cp:revision>71</cp:revision>
  <dc:subject/>
  <dc:title>Dia 1</dc:title>
</cp:coreProperties>
</file>