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9BA08-BFC8-42DA-B85D-EB77C1631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8FB51-8D56-46F5-8385-152DD7493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854AC-0424-4766-808A-D60ACA754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71929-44A7-4BC5-8FC0-C23BBF0AC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DC66B-1B6F-424A-9DEF-28B52D538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901E2-11AE-4389-AFF1-18C2E362D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9A72C-2C70-4C6F-8A92-1D6D6281E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42568-8B35-4126-B5C1-E18BFE7E8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84ACF-E952-429D-A3EE-1593C4BE3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F540C-9DF0-4BBD-947C-317F09413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AA7AC-7D45-4114-9674-3D624B121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859FF-5D91-4CAB-8903-BE29A008E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04C57-02F0-470D-816C-EEA9348FA4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692280"/>
            <a:ext cx="70581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…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..LET OP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227640" y="620640"/>
            <a:ext cx="2625840" cy="2232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826920" y="1268280"/>
            <a:ext cx="52578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eze powerpoint gaat over de </a:t>
            </a:r>
            <a:r>
              <a:rPr b="1" i="1" lang="nl-NL" sz="1800" spc="-1" strike="noStrike" u="sng">
                <a:solidFill>
                  <a:srgbClr val="993300"/>
                </a:solidFill>
                <a:uFillTx/>
                <a:latin typeface="Arial"/>
              </a:rPr>
              <a:t>“Burgers, de media en pressiegroepen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26920" y="1916280"/>
            <a:ext cx="705816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De powerpoint bevat de basisstof die je moet </a:t>
            </a:r>
            <a:br>
              <a:rPr sz="1800"/>
            </a:br>
            <a:r>
              <a:rPr b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kennen om het centraal schriftelijk met succes </a:t>
            </a:r>
            <a:br>
              <a:rPr sz="1800"/>
            </a:br>
            <a:r>
              <a:rPr b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te kunnen make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26920" y="2852640"/>
            <a:ext cx="705816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org dus dat j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LL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goed kent en door hebt wat er in dez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taat.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geet niet ook het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BOE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e bestuderen/raadplegen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258920" y="3357720"/>
            <a:ext cx="741672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onder deze basiskennis is het maken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van inzichtvragen – die veel op het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examen voorkomen – onbegonne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werk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708360" y="4653000"/>
            <a:ext cx="4249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VEEL SUC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164360" y="6237360"/>
            <a:ext cx="158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ofdstuk 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1042920" y="3933720"/>
            <a:ext cx="2590920" cy="23050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4"/>
          <p:cNvSpPr/>
          <p:nvPr/>
        </p:nvSpPr>
        <p:spPr>
          <a:xfrm>
            <a:off x="684360" y="476280"/>
            <a:ext cx="626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395280" y="836640"/>
            <a:ext cx="820908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534960"/>
                <a:tab algn="l" pos="1973160"/>
                <a:tab algn="l" pos="2330280"/>
                <a:tab algn="l" pos="4394160"/>
                <a:tab algn="l" pos="4840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entrale vraag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dit hoofdstuk staat de vraag centraal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534960"/>
                <a:tab algn="l" pos="1973160"/>
                <a:tab algn="l" pos="2330280"/>
                <a:tab algn="l" pos="4394160"/>
                <a:tab algn="l" pos="4840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00"/>
                </a:solidFill>
                <a:latin typeface="Arial"/>
              </a:rPr>
              <a:t>“</a:t>
            </a:r>
            <a:r>
              <a:rPr b="1" i="1" lang="en-US" sz="1600" spc="-1" strike="noStrike">
                <a:solidFill>
                  <a:srgbClr val="ff3300"/>
                </a:solidFill>
                <a:latin typeface="Arial"/>
              </a:rPr>
              <a:t>Hoe kunnen de media, burgers en pressiegroepen invloed uitoefenen op de politiek?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2"/>
          <p:cNvSpPr/>
          <p:nvPr/>
        </p:nvSpPr>
        <p:spPr>
          <a:xfrm>
            <a:off x="395280" y="333360"/>
            <a:ext cx="74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16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Burgers, media en pressiegroep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308720" y="6237360"/>
            <a:ext cx="136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ofdstuk 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2205000"/>
            <a:ext cx="8207280" cy="41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357120"/>
                <a:tab algn="l" pos="161784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 u="sng">
                <a:solidFill>
                  <a:srgbClr val="000000"/>
                </a:solidFill>
                <a:uFillTx/>
                <a:latin typeface="Arial"/>
              </a:rPr>
              <a:t>Invloed van de med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57120"/>
                <a:tab algn="l" pos="161784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Informatieve functie</a:t>
            </a:r>
            <a:br>
              <a:rPr sz="1600"/>
            </a:b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Informatie geven over politieke besluitvorming via radio, tv, internet en kranten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Wingdings" charset="2"/>
              <a:buChar char=""/>
              <a:tabLst>
                <a:tab algn="l" pos="357120"/>
                <a:tab algn="l" pos="161784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Agendafunctie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Journalisten zoeken uit wat er onder de bevolking leeft. 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(b.v. kernenergie) Door er aandacht aan te besteden 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in de media kan het op de politieke agenda komen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Wingdings" charset="2"/>
              <a:buChar char=""/>
              <a:tabLst>
                <a:tab algn="l" pos="357120"/>
                <a:tab algn="l" pos="161784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Functie van commentaar en meningsvorming</a:t>
            </a:r>
            <a:br>
              <a:rPr sz="1600"/>
            </a:b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Via de media wordt er b.v. kritiek geleverd op politieke 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besluiten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Wingdings" charset="2"/>
              <a:buChar char=""/>
              <a:tabLst>
                <a:tab algn="l" pos="357120"/>
                <a:tab algn="l" pos="161784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Controlerende functie</a:t>
            </a:r>
            <a:br>
              <a:rPr sz="1600"/>
            </a:b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Handelen overheid, bedrijven enz. wel zoals het moe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Wingdings" charset="2"/>
              <a:buChar char=""/>
              <a:tabLst>
                <a:tab algn="l" pos="357120"/>
                <a:tab algn="l" pos="161784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Spreekbuisfunctie</a:t>
            </a:r>
            <a:br>
              <a:rPr sz="1600"/>
            </a:b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Via de media kunnen mensen hun mening geven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6300720" y="3789360"/>
            <a:ext cx="223200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2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4"/>
          <p:cNvSpPr/>
          <p:nvPr/>
        </p:nvSpPr>
        <p:spPr>
          <a:xfrm>
            <a:off x="684360" y="476280"/>
            <a:ext cx="626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308720" y="6237360"/>
            <a:ext cx="136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ofdstuk 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404640"/>
            <a:ext cx="8207280" cy="58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357120"/>
                <a:tab algn="l" pos="161784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 u="sng">
                <a:solidFill>
                  <a:srgbClr val="000000"/>
                </a:solidFill>
                <a:uFillTx/>
                <a:latin typeface="Arial"/>
              </a:rPr>
              <a:t>Invloed van de burg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57120"/>
                <a:tab algn="l" pos="161784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Stemmen bij verkiezingen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Wingdings" charset="2"/>
              <a:buChar char=""/>
              <a:tabLst>
                <a:tab algn="l" pos="357120"/>
                <a:tab algn="l" pos="161784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Spreekrecht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Gebruikmaken van spreekrecht bij hoorzittingen van b.v. gemeenteraad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Wingdings" charset="2"/>
              <a:buChar char=""/>
              <a:tabLst>
                <a:tab algn="l" pos="357120"/>
                <a:tab algn="l" pos="161784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Lid worden van een politieke partij   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600"/>
            </a:b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Deelnemen aan partijbijeenkomsten en zo invloed uitoefenen op partijstandpunten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Wingdings" charset="2"/>
              <a:buChar char=""/>
              <a:tabLst>
                <a:tab algn="l" pos="357120"/>
                <a:tab algn="l" pos="161784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Zelf een politieke partij oprich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Wingdings" charset="2"/>
              <a:buChar char=""/>
              <a:tabLst>
                <a:tab algn="l" pos="357120"/>
                <a:tab algn="l" pos="161784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Volksvertegenwoordigers aanspreken</a:t>
            </a:r>
            <a:br>
              <a:rPr sz="1600"/>
            </a:b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Contact zoeken met politici en hen vertellen 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hoe je over bepaalde onderwerpen denk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Wingdings" charset="2"/>
              <a:buChar char=""/>
              <a:tabLst>
                <a:tab algn="l" pos="357120"/>
                <a:tab algn="l" pos="161784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Spreekbuisfunctie</a:t>
            </a:r>
            <a:br>
              <a:rPr sz="1600"/>
            </a:b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Via de media kunnen mensen hun mening geven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Wingdings" charset="2"/>
              <a:buChar char=""/>
              <a:tabLst>
                <a:tab algn="l" pos="357120"/>
                <a:tab algn="l" pos="161784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Verzoek indienen</a:t>
            </a:r>
            <a:br>
              <a:rPr sz="1600"/>
            </a:b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Vragen stellen of b.v. subsidie aanvragen bij College van B. &amp; W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Wingdings" charset="2"/>
              <a:buChar char=""/>
              <a:tabLst>
                <a:tab algn="l" pos="357120"/>
                <a:tab algn="l" pos="161784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Klacht of bezwaarschrift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indienen / Nationale Ombudsman inschakel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Wingdings" charset="2"/>
              <a:buChar char=""/>
              <a:tabLst>
                <a:tab algn="l" pos="357120"/>
                <a:tab algn="l" pos="161784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Media inschakel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Wingdings" charset="2"/>
              <a:buChar char=""/>
              <a:tabLst>
                <a:tab algn="l" pos="357120"/>
                <a:tab algn="l" pos="161784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Pressiegroep oprichten of er lid van word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Wingdings" charset="2"/>
              <a:buChar char=""/>
              <a:tabLst>
                <a:tab algn="l" pos="357120"/>
                <a:tab algn="l" pos="161784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Demonstreren en handtekeningenac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6" descr="dyn007_original_230_230_gif_2616433_045200ad0f6ddc4359e05e37fcbfbe38"/>
          <p:cNvPicPr/>
          <p:nvPr/>
        </p:nvPicPr>
        <p:blipFill>
          <a:blip r:embed="rId1"/>
          <a:stretch/>
        </p:blipFill>
        <p:spPr>
          <a:xfrm>
            <a:off x="6659640" y="2421000"/>
            <a:ext cx="1871640" cy="18716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6" descr="dyn007_original_230_230_gif_2616433_045200ad0f6ddc4359e05e37fcbfbe38"/>
          <p:cNvPicPr/>
          <p:nvPr/>
        </p:nvPicPr>
        <p:blipFill>
          <a:blip r:embed="rId2"/>
          <a:stretch/>
        </p:blipFill>
        <p:spPr>
          <a:xfrm>
            <a:off x="6659640" y="2421000"/>
            <a:ext cx="187164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5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4"/>
          <p:cNvSpPr/>
          <p:nvPr/>
        </p:nvSpPr>
        <p:spPr>
          <a:xfrm>
            <a:off x="684360" y="476280"/>
            <a:ext cx="626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308720" y="6237360"/>
            <a:ext cx="136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ofdstuk 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68360" y="404640"/>
            <a:ext cx="8207280" cy="562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357120"/>
                <a:tab algn="l" pos="623880"/>
                <a:tab algn="l" pos="98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 u="sng">
                <a:solidFill>
                  <a:srgbClr val="000000"/>
                </a:solidFill>
                <a:uFillTx/>
                <a:latin typeface="Arial"/>
              </a:rPr>
              <a:t>Invloed van pressiegroep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Wingdings" charset="2"/>
              <a:buChar char=""/>
              <a:tabLst>
                <a:tab algn="l" pos="357120"/>
                <a:tab algn="l" pos="623880"/>
                <a:tab algn="l" pos="98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Pressiegroepen streven een bepaald belang na</a:t>
            </a:r>
            <a:br>
              <a:rPr sz="1600"/>
            </a:b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Pressie groepen (pressie = druk) proberen hun doel te bereiken door: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-   </a:t>
            </a:r>
            <a:r>
              <a:rPr b="1" i="1" lang="nl-NL" sz="1600" spc="-1" strike="noStrike">
                <a:solidFill>
                  <a:srgbClr val="ff3300"/>
                </a:solidFill>
                <a:latin typeface="Arial"/>
              </a:rPr>
              <a:t>lobbyen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(= steun proberen te krijgen van politici en invloedrijke personen) 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-   </a:t>
            </a:r>
            <a:r>
              <a:rPr b="1" i="1" lang="nl-NL" sz="1600" spc="-1" strike="noStrike">
                <a:solidFill>
                  <a:srgbClr val="ff3300"/>
                </a:solidFill>
                <a:latin typeface="Arial"/>
              </a:rPr>
              <a:t>openlijke acties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(b.v. handtekeningenacties, staking, blokkades enz.)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Wingdings" charset="2"/>
              <a:buChar char=""/>
              <a:tabLst>
                <a:tab algn="l" pos="357120"/>
                <a:tab algn="l" pos="623880"/>
                <a:tab algn="l" pos="98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Soorten pressiegroep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357120"/>
                <a:tab algn="l" pos="623880"/>
                <a:tab algn="l" pos="98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nl-NL" sz="1600" spc="-1" strike="noStrike">
                <a:solidFill>
                  <a:srgbClr val="ff3300"/>
                </a:solidFill>
                <a:latin typeface="Arial"/>
              </a:rPr>
              <a:t>belangengroepen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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zetten zich in voor een bepaalde groep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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bestaan meestal voor langere tijd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(Voorbeelden: ANWB, Winkeliersvereniging, LAK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357120"/>
                <a:tab algn="l" pos="623880"/>
                <a:tab algn="l" pos="98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nl-NL" sz="1600" spc="-1" strike="noStrike">
                <a:solidFill>
                  <a:srgbClr val="ff3300"/>
                </a:solidFill>
                <a:latin typeface="Arial"/>
              </a:rPr>
              <a:t>actiegroepen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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zetten zich in voor een duidelijk probleem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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bestaan meestal voor kortere tijd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(Voorbeeld: Actiegroep tegen invoering 130 km/uur op snelwe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357120"/>
                <a:tab algn="l" pos="623880"/>
                <a:tab algn="l" pos="98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nl-NL" sz="1600" spc="-1" strike="noStrike">
                <a:solidFill>
                  <a:srgbClr val="ff3300"/>
                </a:solidFill>
                <a:latin typeface="Arial"/>
              </a:rPr>
              <a:t>actieorganisaties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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zetten zich in voor een duidelijk probleem</a:t>
            </a:r>
            <a:br>
              <a:rPr sz="16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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gedurende langere tijd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(Voorbeeld: Amnesty International die zich inzet voor mensenrechten)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26" descr="dyn007_original_230_230_gif_2616433_045200ad0f6ddc4359e05e37fcbfbe38"/>
          <p:cNvPicPr/>
          <p:nvPr/>
        </p:nvPicPr>
        <p:blipFill>
          <a:blip r:embed="rId1"/>
          <a:stretch/>
        </p:blipFill>
        <p:spPr>
          <a:xfrm>
            <a:off x="6732720" y="2276640"/>
            <a:ext cx="187164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7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4"/>
          <p:cNvSpPr/>
          <p:nvPr/>
        </p:nvSpPr>
        <p:spPr>
          <a:xfrm>
            <a:off x="684360" y="476280"/>
            <a:ext cx="626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08720" y="6237360"/>
            <a:ext cx="136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ofdstuk 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68360" y="620640"/>
            <a:ext cx="8207280" cy="57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357120"/>
                <a:tab algn="l" pos="623880"/>
                <a:tab algn="l" pos="98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Hoe krijgt een pressiegroep mach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Wingdings" charset="2"/>
              <a:buChar char=""/>
              <a:tabLst>
                <a:tab algn="l" pos="357120"/>
                <a:tab algn="l" pos="623880"/>
                <a:tab algn="l" pos="98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Kennis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Zorgen dat je veel deskundigheid binnen de groep hebt over het ontwerp waar j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tie voor voer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Wingdings" charset="2"/>
              <a:buChar char=""/>
              <a:tabLst>
                <a:tab algn="l" pos="357120"/>
                <a:tab algn="l" pos="623880"/>
                <a:tab algn="l" pos="98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rote van de groe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e groter de groep hoe meer mac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Wingdings" charset="2"/>
              <a:buChar char=""/>
              <a:tabLst>
                <a:tab algn="l" pos="357120"/>
                <a:tab algn="l" pos="623880"/>
                <a:tab algn="l" pos="98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eld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t geld krijg je nu eenmaal makkelijker zaken geregeld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Wingdings" charset="2"/>
              <a:buChar char=""/>
              <a:tabLst>
                <a:tab algn="l" pos="357120"/>
                <a:tab algn="l" pos="623880"/>
                <a:tab algn="l" pos="98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dia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oede contacten met de media geeft meer mach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Wingdings" charset="2"/>
              <a:buChar char=""/>
              <a:tabLst>
                <a:tab algn="l" pos="357120"/>
                <a:tab algn="l" pos="623880"/>
                <a:tab algn="l" pos="98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litici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e politici benadert kan invloed uitoefenen.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loed = mach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Wingdings" charset="2"/>
              <a:buChar char=""/>
              <a:tabLst>
                <a:tab algn="l" pos="357120"/>
                <a:tab algn="l" pos="623880"/>
                <a:tab algn="l" pos="98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risma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en leider met uitstraling en gezag is belangrij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Wingdings" charset="2"/>
              <a:buChar char=""/>
              <a:tabLst>
                <a:tab algn="l" pos="357120"/>
                <a:tab algn="l" pos="623880"/>
                <a:tab algn="l" pos="98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stuur en adviesorgaa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Zitting zien te krijgen in besturen en adviesorganen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rgroot de mach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357120"/>
                <a:tab algn="l" pos="623880"/>
                <a:tab algn="l" pos="98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5867280" y="4005360"/>
            <a:ext cx="2880000" cy="19382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0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5" descr="einde-toets_2394275"/>
          <p:cNvPicPr/>
          <p:nvPr/>
        </p:nvPicPr>
        <p:blipFill>
          <a:blip r:embed="rId1"/>
          <a:srcRect l="30948" t="31377" r="29982" b="27682"/>
          <a:stretch/>
        </p:blipFill>
        <p:spPr>
          <a:xfrm>
            <a:off x="2771640" y="1628640"/>
            <a:ext cx="302436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1" dur="250" autoRev="1" fill="hold"/>
                                        <p:tgtEl>
                                          <p:spTgt spid="6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mph" presetID="26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5" dur="250" autoRev="1" fill="hold"/>
                                        <p:tgtEl>
                                          <p:spTgt spid="6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500"/>
                            </p:stCondLst>
                            <p:childTnLst>
                              <p:par>
                                <p:cTn id="197" nodeType="afterEffect" fill="hold" presetClass="emph" presetID="26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9" dur="250" autoRev="1" fill="hold"/>
                                        <p:tgtEl>
                                          <p:spTgt spid="6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29T18:07:09Z</dcterms:created>
  <dc:creator>jan van gils</dc:creator>
  <dc:description/>
  <dc:language>en-US</dc:language>
  <cp:lastModifiedBy>jan van gils</cp:lastModifiedBy>
  <dcterms:modified xsi:type="dcterms:W3CDTF">2012-02-22T18:56:54Z</dcterms:modified>
  <cp:revision>58</cp:revision>
  <dc:subject/>
  <dc:title>Dia 1</dc:title>
</cp:coreProperties>
</file>