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ED1-77F2-4A1E-A00D-0F413D5A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C1B-E7E9-4001-8915-61A57380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F9C-B388-4B46-8A54-394B604F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1DA-D07C-44DC-998B-B01DEAF0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36B-A735-4378-AA3E-8F88598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F36-AD18-4AF1-88B7-B4F8195E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A6E-05E2-4244-9090-F02E28C2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7FB-1F4B-4D5B-8173-44CAF0D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469-887F-4999-8B75-8AC12BF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84F-24D0-4F35-80FD-BE5DBB52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868-3D5B-41C9-9D34-05E5E34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E53-1C9C-4FE1-AF58-E6759F6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4412-0473-4677-93B3-F2C6F959CF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395280" y="2637000"/>
            <a:ext cx="8207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608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actieve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nfessionalisme: christen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13" descr="220px-Wappen_NSB_1936-1945"/>
          <p:cNvPicPr/>
          <p:nvPr/>
        </p:nvPicPr>
        <p:blipFill>
          <a:blip r:embed="rId2"/>
          <a:stretch/>
        </p:blipFill>
        <p:spPr>
          <a:xfrm>
            <a:off x="5003640" y="4437000"/>
            <a:ext cx="2095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4-06-27T14:07:39Z</dcterms:modified>
  <cp:revision>63</cp:revision>
  <dc:subject/>
  <dc:title>Dia 1</dc:title>
</cp:coreProperties>
</file>